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BA6-B5BF-48C8-92A1-59957393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8BA-2C21-4FA1-BB87-6F01ECEB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EC2-3639-4AA7-9AB7-B814195E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E33-47BD-4703-B4DB-2B67F626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EA2-41A2-4CEB-9CCD-AF75BD77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65-B224-4E72-AC27-77DE63E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786-32DB-41B5-BCD2-7B6ADD7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D32-73EE-49D2-80B2-EF95FA7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B66-BA42-4BB7-BF94-2901343A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AAB-EB21-4474-ADF2-7A811B9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2F1-9D04-40E6-BE20-9FE35EB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9CF-9676-4442-871E-7DA523E4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48A9-CE35-4D33-9ADA-B3BAD40FFF2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8C6-F93E-4028-BEC7-B77BD80BEB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58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63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72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79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81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0800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1760" y="62856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创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7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38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38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38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38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39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0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0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1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1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1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2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2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3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4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5A2-3646-43E6-9DA5-EE39687F8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59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66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69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72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4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76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4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485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488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489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490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3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498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499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00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08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09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10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3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18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圆角矩形 31"/>
          <p:cNvSpPr/>
          <p:nvPr/>
        </p:nvSpPr>
        <p:spPr>
          <a:xfrm>
            <a:off x="2824200" y="-128520"/>
            <a:ext cx="569880" cy="86040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60400"/>
              <a:gd name="textAreaBottom" fmla="*/ 832680 h 860400"/>
            </a:gdLst>
            <a:ahLst/>
            <a:rect l="textAreaLeft" t="textAreaTop" r="textAreaRight" b="textAreaBottom"/>
            <a:pathLst>
              <a:path w="21600" h="32605">
                <a:moveTo>
                  <a:pt x="3600" y="0"/>
                </a:moveTo>
                <a:arcTo wR="3600" hR="3600" stAng="16200000" swAng="-5400000"/>
                <a:lnTo>
                  <a:pt x="0" y="29005"/>
                </a:lnTo>
                <a:arcTo wR="3600" hR="3600" stAng="10800000" swAng="-5400000"/>
                <a:lnTo>
                  <a:pt x="18000" y="32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圆角矩形 53"/>
          <p:cNvSpPr/>
          <p:nvPr/>
        </p:nvSpPr>
        <p:spPr>
          <a:xfrm flipV="1">
            <a:off x="3179880" y="-133200"/>
            <a:ext cx="569880" cy="73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37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45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50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55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60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62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67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68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9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0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71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74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75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6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78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81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82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3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4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585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590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591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2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594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598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02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05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08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11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18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20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88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93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96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01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04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09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12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13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4842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57"/>
          <p:cNvSpPr/>
          <p:nvPr/>
        </p:nvSpPr>
        <p:spPr>
          <a:xfrm>
            <a:off x="1776240" y="-85680"/>
            <a:ext cx="551160" cy="38415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8"/>
          <p:cNvSpPr/>
          <p:nvPr/>
        </p:nvSpPr>
        <p:spPr>
          <a:xfrm>
            <a:off x="2327400" y="-85680"/>
            <a:ext cx="550800" cy="329076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5"/>
          <p:cNvSpPr/>
          <p:nvPr/>
        </p:nvSpPr>
        <p:spPr>
          <a:xfrm>
            <a:off x="2878200" y="-85680"/>
            <a:ext cx="550800" cy="273996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3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4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4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5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5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7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7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0"/>
          <p:cNvSpPr/>
          <p:nvPr/>
        </p:nvSpPr>
        <p:spPr>
          <a:xfrm>
            <a:off x="3429000" y="-85680"/>
            <a:ext cx="550800" cy="219060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291-A965-42B0-9DAD-AD34FC1BDBD2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18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18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19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19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0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0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0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1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1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723-D635-4EFA-8988-5C9B2EF94CE1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1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2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3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4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F17-74F5-4C04-AF72-679A310BBC59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5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5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6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6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6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6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7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7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7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C4A-36D0-4D06-B83B-C77894D80696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0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0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07F-E859-4D13-8304-31A8B1102964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0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1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1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1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2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F4F-9B0A-4DF6-A765-3173FE19F2DE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3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4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文本框 111"/>
            <p:cNvSpPr/>
            <p:nvPr/>
          </p:nvSpPr>
          <p:spPr>
            <a:xfrm rot="19800">
              <a:off x="375696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6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6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C36-25EA-4865-8883-0DCF038989FF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/>
  <dc:description/>
  <cp:keywords>幻灯片之家 http:/www.eeppt.com</cp:keywords>
  <dc:language>en-US</dc:language>
  <cp:lastModifiedBy/>
  <dcterms:modified xsi:type="dcterms:W3CDTF">2015-07-12T09:34:12Z</dcterms:modified>
  <cp:revision>3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