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0ED-A4E1-461D-943F-76C5D64C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39D-26AA-43EC-B85A-F645BD5E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512A-6385-4912-995F-0620A2F4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BC3F-829F-4B1C-B986-385F0CB8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D962-C163-4404-8692-EA6D7D81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C538-9326-4434-A9F6-F453AFD5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DDE-7132-4FFF-96F1-7A60318E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B8E-EC2F-42EC-BD2F-22E93191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332-36DE-4C45-BCBC-9D41CE25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582B-EF8B-4713-8E4F-0859F1D0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D975-2F99-4C06-B8E0-11012B48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53C-030B-4F59-8916-3D1C5DBD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5891-82CD-4556-941D-4EE4CC7314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85880" y="7142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2926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37836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03920" y="83664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片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7340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22860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21176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78352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44978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381720"/>
            <a:ext cx="611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20880" y="1693800"/>
            <a:ext cx="68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意设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chuangy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CA0-F171-40F3-936F-38BE4F5C7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7340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640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128304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2926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47120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7340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2571840" y="2786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259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426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734040" y="6429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85716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85496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12117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734040" y="639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38548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13546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/>
          <p:cNvSpPr/>
          <p:nvPr/>
        </p:nvSpPr>
        <p:spPr>
          <a:xfrm>
            <a:off x="22831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/>
  <dc:description/>
  <cp:keywords>幻灯片之家 http:/www.eeppt.com</cp:keywords>
  <dc:language>en-US</dc:language>
  <cp:lastModifiedBy/>
  <dcterms:modified xsi:type="dcterms:W3CDTF">2015-07-06T02:33:28Z</dcterms:modified>
  <cp:revision>3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