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9D5-8C3C-4E35-AE54-1C798BC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B65-7E16-4579-A93C-11E2E0ED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692-34FC-441F-9373-A24CA222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D35-11B9-40C6-9E1A-33DCA7B4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030E-2C4C-45D1-9977-0FC4A514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2E6F-DD03-4468-B44E-4A90D8B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0B55-F133-4600-8C94-4629C8F8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68D2-0B59-41BD-861D-CBFF7726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654-6FEB-4458-A7DB-FA3338F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24D8-9A6F-4E7E-A5C9-A643884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AF31-5F41-4FD8-AFCF-F6BC18A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46D-ABAD-4295-92EE-0DA6F64E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D76C-A750-4A83-91EA-64B0CA28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74C5-9B13-4401-A5EF-AC5E678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8D48-79DB-45D5-A9F6-9EA9085B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9D20-2768-4F5C-B220-D07ED534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0ED-9489-425B-8E90-0D6C4464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4DC-2081-478C-A589-76696BD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F54-9789-4D1B-B060-3820ED3C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0AA-F818-472A-A8CE-5CE30161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05A-860F-4A37-946F-9A774C8E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146-167E-424F-9FF9-F328557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C27-AC09-44EB-BE74-EF955BB0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2E3-9B66-4F25-A58E-6AECCD0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74CC-C1C9-46FF-BFAD-FF865A3D40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D09F-3425-41AA-9A9B-D86573AB56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8172360" y="537372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43104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7280" y="1125360"/>
            <a:ext cx="43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春意水墨桃花源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94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97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00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03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06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1776240" y="1285920"/>
            <a:ext cx="5938920" cy="863640"/>
            <a:chOff x="1776240" y="1285920"/>
            <a:chExt cx="5938920" cy="863640"/>
          </a:xfrm>
        </p:grpSpPr>
        <p:sp>
          <p:nvSpPr>
            <p:cNvPr id="112" name="矩形 26"/>
            <p:cNvSpPr/>
            <p:nvPr/>
          </p:nvSpPr>
          <p:spPr>
            <a:xfrm>
              <a:off x="1776240" y="1285920"/>
              <a:ext cx="864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848240" y="14299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27"/>
            <p:cNvSpPr/>
            <p:nvPr/>
          </p:nvSpPr>
          <p:spPr>
            <a:xfrm>
              <a:off x="2568240" y="142992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2280240" y="193392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8"/>
          <p:cNvGrpSpPr/>
          <p:nvPr/>
        </p:nvGrpSpPr>
        <p:grpSpPr>
          <a:xfrm>
            <a:off x="1847880" y="2220840"/>
            <a:ext cx="5867280" cy="649440"/>
            <a:chOff x="1847880" y="2220840"/>
            <a:chExt cx="5867280" cy="649440"/>
          </a:xfrm>
        </p:grpSpPr>
        <p:pic>
          <p:nvPicPr>
            <p:cNvPr id="117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847880" y="22208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矩形 32"/>
            <p:cNvSpPr/>
            <p:nvPr/>
          </p:nvSpPr>
          <p:spPr>
            <a:xfrm>
              <a:off x="2567880" y="222084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2279880" y="272592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2"/>
          <p:cNvGrpSpPr/>
          <p:nvPr/>
        </p:nvGrpSpPr>
        <p:grpSpPr>
          <a:xfrm>
            <a:off x="1847880" y="3013200"/>
            <a:ext cx="5867280" cy="649080"/>
            <a:chOff x="1847880" y="3013200"/>
            <a:chExt cx="5867280" cy="649080"/>
          </a:xfrm>
        </p:grpSpPr>
        <p:pic>
          <p:nvPicPr>
            <p:cNvPr id="121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847880" y="301320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36"/>
            <p:cNvSpPr/>
            <p:nvPr/>
          </p:nvSpPr>
          <p:spPr>
            <a:xfrm>
              <a:off x="2567880" y="3013200"/>
              <a:ext cx="4825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2279880" y="351828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16"/>
          <p:cNvGrpSpPr/>
          <p:nvPr/>
        </p:nvGrpSpPr>
        <p:grpSpPr>
          <a:xfrm>
            <a:off x="1847880" y="3878280"/>
            <a:ext cx="5867280" cy="647640"/>
            <a:chOff x="1847880" y="3878280"/>
            <a:chExt cx="5867280" cy="647640"/>
          </a:xfrm>
        </p:grpSpPr>
        <p:pic>
          <p:nvPicPr>
            <p:cNvPr id="125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847880" y="3878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40"/>
            <p:cNvSpPr/>
            <p:nvPr/>
          </p:nvSpPr>
          <p:spPr>
            <a:xfrm>
              <a:off x="2567880" y="3878280"/>
              <a:ext cx="4825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2279880" y="438192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矩形 42"/>
          <p:cNvSpPr/>
          <p:nvPr/>
        </p:nvSpPr>
        <p:spPr>
          <a:xfrm>
            <a:off x="1779480" y="20653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1776240" y="28512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4"/>
          <p:cNvSpPr/>
          <p:nvPr/>
        </p:nvSpPr>
        <p:spPr>
          <a:xfrm>
            <a:off x="1770120" y="371484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3"/>
          <p:cNvGrpSpPr/>
          <p:nvPr/>
        </p:nvGrpSpPr>
        <p:grpSpPr>
          <a:xfrm>
            <a:off x="1704960" y="4500720"/>
            <a:ext cx="5938920" cy="863280"/>
            <a:chOff x="1704960" y="4500720"/>
            <a:chExt cx="5938920" cy="863280"/>
          </a:xfrm>
        </p:grpSpPr>
        <p:sp>
          <p:nvSpPr>
            <p:cNvPr id="132" name="矩形 26"/>
            <p:cNvSpPr/>
            <p:nvPr/>
          </p:nvSpPr>
          <p:spPr>
            <a:xfrm>
              <a:off x="1704960" y="4500720"/>
              <a:ext cx="8640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24" descr="D_042.jpg"/>
            <p:cNvPicPr/>
            <p:nvPr/>
          </p:nvPicPr>
          <p:blipFill>
            <a:blip r:embed="rId9"/>
            <a:stretch/>
          </p:blipFill>
          <p:spPr>
            <a:xfrm>
              <a:off x="1785600" y="4643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27"/>
            <p:cNvSpPr/>
            <p:nvPr/>
          </p:nvSpPr>
          <p:spPr>
            <a:xfrm>
              <a:off x="2496960" y="464436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图片 28" descr="C_108.jpg"/>
            <p:cNvPicPr/>
            <p:nvPr/>
          </p:nvPicPr>
          <p:blipFill>
            <a:blip r:embed="rId10"/>
            <a:stretch/>
          </p:blipFill>
          <p:spPr>
            <a:xfrm>
              <a:off x="2208960" y="5148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28"/>
          <p:cNvGrpSpPr/>
          <p:nvPr/>
        </p:nvGrpSpPr>
        <p:grpSpPr>
          <a:xfrm>
            <a:off x="1785960" y="5429160"/>
            <a:ext cx="5867280" cy="649440"/>
            <a:chOff x="1785960" y="5429160"/>
            <a:chExt cx="5867280" cy="649440"/>
          </a:xfrm>
        </p:grpSpPr>
        <p:pic>
          <p:nvPicPr>
            <p:cNvPr id="137" name="图片 31" descr="D_042.jpg"/>
            <p:cNvPicPr/>
            <p:nvPr/>
          </p:nvPicPr>
          <p:blipFill>
            <a:blip r:embed="rId11"/>
            <a:stretch/>
          </p:blipFill>
          <p:spPr>
            <a:xfrm>
              <a:off x="1785960" y="542916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32"/>
            <p:cNvSpPr/>
            <p:nvPr/>
          </p:nvSpPr>
          <p:spPr>
            <a:xfrm>
              <a:off x="2505960" y="542916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33" descr="C_108.jpg"/>
            <p:cNvPicPr/>
            <p:nvPr/>
          </p:nvPicPr>
          <p:blipFill>
            <a:blip r:embed="rId12"/>
            <a:stretch/>
          </p:blipFill>
          <p:spPr>
            <a:xfrm>
              <a:off x="2217960" y="593424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32"/>
          <p:cNvGrpSpPr/>
          <p:nvPr/>
        </p:nvGrpSpPr>
        <p:grpSpPr>
          <a:xfrm>
            <a:off x="1776240" y="6227640"/>
            <a:ext cx="5867640" cy="649440"/>
            <a:chOff x="1776240" y="6227640"/>
            <a:chExt cx="5867640" cy="649440"/>
          </a:xfrm>
        </p:grpSpPr>
        <p:pic>
          <p:nvPicPr>
            <p:cNvPr id="141" name="图片 35" descr="D_042.jpg"/>
            <p:cNvPicPr/>
            <p:nvPr/>
          </p:nvPicPr>
          <p:blipFill>
            <a:blip r:embed="rId13"/>
            <a:stretch/>
          </p:blipFill>
          <p:spPr>
            <a:xfrm>
              <a:off x="1776240" y="62276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矩形 36"/>
            <p:cNvSpPr/>
            <p:nvPr/>
          </p:nvSpPr>
          <p:spPr>
            <a:xfrm>
              <a:off x="2496240" y="6227640"/>
              <a:ext cx="48254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37" descr="C_108.jpg"/>
            <p:cNvPicPr/>
            <p:nvPr/>
          </p:nvPicPr>
          <p:blipFill>
            <a:blip r:embed="rId14"/>
            <a:stretch/>
          </p:blipFill>
          <p:spPr>
            <a:xfrm>
              <a:off x="2208240" y="673272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内容占位符 2"/>
          <p:cNvSpPr/>
          <p:nvPr/>
        </p:nvSpPr>
        <p:spPr>
          <a:xfrm>
            <a:off x="1928880" y="5429160"/>
            <a:ext cx="428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内容占位符 2"/>
          <p:cNvSpPr/>
          <p:nvPr/>
        </p:nvSpPr>
        <p:spPr>
          <a:xfrm>
            <a:off x="1928880" y="6270480"/>
            <a:ext cx="37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9%D)E9F1L_1U}KQIVO5[R7X"/>
          <p:cNvPicPr/>
          <p:nvPr/>
        </p:nvPicPr>
        <p:blipFill>
          <a:blip r:embed="rId2"/>
          <a:stretch/>
        </p:blipFill>
        <p:spPr>
          <a:xfrm>
            <a:off x="755640" y="2205000"/>
            <a:ext cx="7562880" cy="2762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(LMY6F]{KV}ZS8QQ3%8F5T4"/>
          <p:cNvPicPr/>
          <p:nvPr/>
        </p:nvPicPr>
        <p:blipFill>
          <a:blip r:embed="rId2"/>
          <a:stretch/>
        </p:blipFill>
        <p:spPr>
          <a:xfrm>
            <a:off x="1260360" y="2278080"/>
            <a:ext cx="6985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2FA3-CBFB-4767-8EB9-85762CFD5A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51:18Z</dcterms:created>
  <dc:creator/>
  <dc:description/>
  <cp:keywords>幻灯片之家 http:/www.eeppt.com</cp:keywords>
  <dc:language>en-US</dc:language>
  <cp:lastModifiedBy/>
  <dcterms:modified xsi:type="dcterms:W3CDTF">2015-07-12T09:51:1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