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68A-1B6D-47BA-8D5D-5268867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0D5-5FA6-4371-9232-7024E8C4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89C-A281-4162-9C08-BBF2B54F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182-7A3C-4FA0-87AD-9F88E044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0243-737C-4FC8-B466-D056D46F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8B9F-6DB3-4E06-8ADD-67DDAFB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D298-F0A2-4D4F-9FD4-11C9099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C4A4-739C-4A36-9FAD-E8E73B7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38A9-6228-4189-8114-93AE933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AC7-B821-4469-946C-E0FBB06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614-A60F-4133-93A0-6CF1832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6B9-CEFA-41AC-B7D8-43D775C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A88E-8C5F-4C9A-94B9-F2D8206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F51C-F2D9-4525-8336-05C2C1A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07C-C437-492C-A2DD-5ADFDCC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F88E-28C8-42B1-85F5-033AC0C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9EDF-58C7-4D2F-9142-A3CC1703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D89-18C1-4CC3-A74E-5E716B26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B59-D677-47BA-ACB0-4FC75AE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B44-CB46-49F1-BED0-090501A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A51-718D-4C48-944C-11B990C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AC9-AD63-41E4-9AB2-0584CCA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EE1-7DCC-4ED9-A33B-3CD637C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B26-09CE-47D0-AE0C-CF56F2B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53CF-2FCE-448E-A7E0-969581C2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106-8CDC-40CA-9CFE-6122A6C9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>
            <a:off x="0" y="52848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0"/>
          <p:cNvSpPr/>
          <p:nvPr/>
        </p:nvSpPr>
        <p:spPr>
          <a:xfrm>
            <a:off x="47520" y="57312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关系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3320" y="2492280"/>
            <a:ext cx="3838680" cy="497160"/>
          </a:xfrm>
          <a:prstGeom prst="rect">
            <a:avLst/>
          </a:prstGeom>
          <a:gradFill rotWithShape="0">
            <a:gsLst>
              <a:gs pos="0">
                <a:srgbClr val="060f33">
                  <a:alpha val="0"/>
                </a:srgbClr>
              </a:gs>
              <a:gs pos="50000">
                <a:srgbClr val="0f216f"/>
              </a:gs>
              <a:gs pos="100000">
                <a:srgbClr val="060f3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492280"/>
            <a:ext cx="3825720" cy="497160"/>
          </a:xfrm>
          <a:prstGeom prst="rect">
            <a:avLst/>
          </a:prstGeom>
          <a:gradFill rotWithShape="0">
            <a:gsLst>
              <a:gs pos="0">
                <a:srgbClr val="060f33">
                  <a:alpha val="0"/>
                </a:srgbClr>
              </a:gs>
              <a:gs pos="50000">
                <a:srgbClr val="0f216f"/>
              </a:gs>
              <a:gs pos="100000">
                <a:srgbClr val="060f3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320" y="3157560"/>
            <a:ext cx="3838680" cy="528480"/>
          </a:xfrm>
          <a:prstGeom prst="rect">
            <a:avLst/>
          </a:prstGeom>
          <a:gradFill rotWithShape="0">
            <a:gsLst>
              <a:gs pos="0">
                <a:srgbClr val="002f36">
                  <a:alpha val="0"/>
                </a:srgbClr>
              </a:gs>
              <a:gs pos="50000">
                <a:srgbClr val="006876"/>
              </a:gs>
              <a:gs pos="100000">
                <a:srgbClr val="002f3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157560"/>
            <a:ext cx="3825720" cy="528480"/>
          </a:xfrm>
          <a:prstGeom prst="rect">
            <a:avLst/>
          </a:prstGeom>
          <a:gradFill rotWithShape="0">
            <a:gsLst>
              <a:gs pos="0">
                <a:srgbClr val="002f36">
                  <a:alpha val="0"/>
                </a:srgbClr>
              </a:gs>
              <a:gs pos="50000">
                <a:srgbClr val="006876"/>
              </a:gs>
              <a:gs pos="100000">
                <a:srgbClr val="002f3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7200" y="3992400"/>
            <a:ext cx="3838320" cy="576360"/>
          </a:xfrm>
          <a:prstGeom prst="rect">
            <a:avLst/>
          </a:prstGeom>
          <a:gradFill rotWithShape="0">
            <a:gsLst>
              <a:gs pos="0">
                <a:srgbClr val="20012e">
                  <a:alpha val="0"/>
                </a:srgbClr>
              </a:gs>
              <a:gs pos="50000">
                <a:srgbClr val="470365"/>
              </a:gs>
              <a:gs pos="100000">
                <a:srgbClr val="20012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5520" y="3992400"/>
            <a:ext cx="3826080" cy="576360"/>
          </a:xfrm>
          <a:prstGeom prst="rect">
            <a:avLst/>
          </a:prstGeom>
          <a:gradFill rotWithShape="0">
            <a:gsLst>
              <a:gs pos="0">
                <a:srgbClr val="20012e">
                  <a:alpha val="0"/>
                </a:srgbClr>
              </a:gs>
              <a:gs pos="50000">
                <a:srgbClr val="470365"/>
              </a:gs>
              <a:gs pos="100000">
                <a:srgbClr val="20012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3320" y="4967280"/>
            <a:ext cx="3838680" cy="579600"/>
          </a:xfrm>
          <a:prstGeom prst="rect">
            <a:avLst/>
          </a:prstGeom>
          <a:gradFill rotWithShape="0">
            <a:gsLst>
              <a:gs pos="0">
                <a:srgbClr val="2e0017">
                  <a:alpha val="0"/>
                </a:srgbClr>
              </a:gs>
              <a:gs pos="50000">
                <a:srgbClr val="650133"/>
              </a:gs>
              <a:gs pos="100000">
                <a:srgbClr val="2e001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67280"/>
            <a:ext cx="3825720" cy="579600"/>
          </a:xfrm>
          <a:prstGeom prst="rect">
            <a:avLst/>
          </a:prstGeom>
          <a:gradFill rotWithShape="0">
            <a:gsLst>
              <a:gs pos="0">
                <a:srgbClr val="2e0017">
                  <a:alpha val="0"/>
                </a:srgbClr>
              </a:gs>
              <a:gs pos="50000">
                <a:srgbClr val="650133"/>
              </a:gs>
              <a:gs pos="100000">
                <a:srgbClr val="2e001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"/>
          <p:cNvSpPr/>
          <p:nvPr/>
        </p:nvSpPr>
        <p:spPr>
          <a:xfrm>
            <a:off x="5335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"/>
          <p:cNvSpPr/>
          <p:nvPr/>
        </p:nvSpPr>
        <p:spPr>
          <a:xfrm>
            <a:off x="45673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122480" y="4729320"/>
            <a:ext cx="286056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e0017"/>
              </a:gs>
              <a:gs pos="50000">
                <a:srgbClr val="650133"/>
              </a:gs>
              <a:gs pos="100000">
                <a:srgbClr val="2e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1122480" y="4735440"/>
            <a:ext cx="2860560" cy="525600"/>
          </a:xfrm>
          <a:prstGeom prst="ellipse">
            <a:avLst/>
          </a:prstGeom>
          <a:gradFill rotWithShape="0">
            <a:gsLst>
              <a:gs pos="0">
                <a:srgbClr val="2e0017"/>
              </a:gs>
              <a:gs pos="100000">
                <a:srgbClr val="6501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569400">
            <a:off x="246168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36512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20012e"/>
              </a:gs>
              <a:gs pos="50000">
                <a:srgbClr val="470365"/>
              </a:gs>
              <a:gs pos="100000">
                <a:srgbClr val="200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136044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20012e"/>
              </a:gs>
              <a:gs pos="100000">
                <a:srgbClr val="4703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8"/>
          <p:cNvSpPr/>
          <p:nvPr/>
        </p:nvSpPr>
        <p:spPr>
          <a:xfrm rot="21569400">
            <a:off x="246024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1606680" y="2995560"/>
            <a:ext cx="188568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002f36"/>
              </a:gs>
              <a:gs pos="50000">
                <a:srgbClr val="006876"/>
              </a:gs>
              <a:gs pos="100000">
                <a:srgbClr val="002f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1614600" y="2995560"/>
            <a:ext cx="1877760" cy="328680"/>
          </a:xfrm>
          <a:prstGeom prst="ellipse">
            <a:avLst/>
          </a:prstGeom>
          <a:gradFill rotWithShape="0">
            <a:gsLst>
              <a:gs pos="0">
                <a:srgbClr val="002f36"/>
              </a:gs>
              <a:gs pos="100000">
                <a:srgbClr val="0068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 rot="21569400">
            <a:off x="245880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81296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060f33"/>
              </a:gs>
              <a:gs pos="50000">
                <a:srgbClr val="0f216f"/>
              </a:gs>
              <a:gs pos="100000">
                <a:srgbClr val="060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3"/>
          <p:cNvGrpSpPr/>
          <p:nvPr/>
        </p:nvGrpSpPr>
        <p:grpSpPr>
          <a:xfrm>
            <a:off x="2436840" y="2133000"/>
            <a:ext cx="236160" cy="476640"/>
            <a:chOff x="2436840" y="2133000"/>
            <a:chExt cx="236160" cy="476640"/>
          </a:xfrm>
        </p:grpSpPr>
        <p:sp>
          <p:nvSpPr>
            <p:cNvPr id="106" name="AutoShape 28"/>
            <p:cNvSpPr/>
            <p:nvPr/>
          </p:nvSpPr>
          <p:spPr>
            <a:xfrm rot="21569400">
              <a:off x="2467080" y="2133720"/>
              <a:ext cx="158040" cy="450000"/>
            </a:xfrm>
            <a:prstGeom prst="can">
              <a:avLst>
                <a:gd name="adj" fmla="val 1455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 rot="10938000">
              <a:off x="2437920" y="2532960"/>
              <a:ext cx="233640" cy="72000"/>
            </a:xfrm>
            <a:prstGeom prst="ellipse">
              <a:avLst/>
            </a:prstGeom>
            <a:gradFill rotWithShape="0">
              <a:gsLst>
                <a:gs pos="0">
                  <a:srgbClr val="768d5a"/>
                </a:gs>
                <a:gs pos="100000">
                  <a:srgbClr val="4f5e3c"/>
                </a:gs>
              </a:gsLst>
              <a:lin ang="21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2" descr="G:\animation\business\buildings\windmills\windmill_spinning_slow_hc.gif"/>
          <p:cNvPicPr/>
          <p:nvPr/>
        </p:nvPicPr>
        <p:blipFill>
          <a:blip r:embed="rId1"/>
          <a:stretch/>
        </p:blipFill>
        <p:spPr>
          <a:xfrm>
            <a:off x="1973160" y="1225440"/>
            <a:ext cx="115272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/>
          <p:cNvSpPr/>
          <p:nvPr/>
        </p:nvSpPr>
        <p:spPr>
          <a:xfrm>
            <a:off x="5216400" y="4729320"/>
            <a:ext cx="286092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e0017"/>
              </a:gs>
              <a:gs pos="50000">
                <a:srgbClr val="650133"/>
              </a:gs>
              <a:gs pos="100000">
                <a:srgbClr val="2e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5216400" y="4735440"/>
            <a:ext cx="2860920" cy="525600"/>
          </a:xfrm>
          <a:prstGeom prst="ellipse">
            <a:avLst/>
          </a:prstGeom>
          <a:gradFill rotWithShape="0">
            <a:gsLst>
              <a:gs pos="0">
                <a:srgbClr val="2e0017"/>
              </a:gs>
              <a:gs pos="100000">
                <a:srgbClr val="6501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 rot="21569400">
            <a:off x="655452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545940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20012e"/>
              </a:gs>
              <a:gs pos="50000">
                <a:srgbClr val="470365"/>
              </a:gs>
              <a:gs pos="100000">
                <a:srgbClr val="200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545472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20012e"/>
              </a:gs>
              <a:gs pos="100000">
                <a:srgbClr val="4703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8"/>
          <p:cNvSpPr/>
          <p:nvPr/>
        </p:nvSpPr>
        <p:spPr>
          <a:xfrm rot="21569400">
            <a:off x="655452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5700600" y="2995560"/>
            <a:ext cx="188604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002f36"/>
              </a:gs>
              <a:gs pos="50000">
                <a:srgbClr val="006876"/>
              </a:gs>
              <a:gs pos="100000">
                <a:srgbClr val="002f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5708520" y="2995560"/>
            <a:ext cx="1878120" cy="328680"/>
          </a:xfrm>
          <a:prstGeom prst="ellipse">
            <a:avLst/>
          </a:prstGeom>
          <a:gradFill rotWithShape="0">
            <a:gsLst>
              <a:gs pos="0">
                <a:srgbClr val="002f36"/>
              </a:gs>
              <a:gs pos="100000">
                <a:srgbClr val="0068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 rot="21569400">
            <a:off x="655452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590724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060f33"/>
              </a:gs>
              <a:gs pos="50000">
                <a:srgbClr val="0f216f"/>
              </a:gs>
              <a:gs pos="100000">
                <a:srgbClr val="060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:\animation\business\buildings\windmills\dutch_windmill_turning_hc.gif"/>
          <p:cNvPicPr/>
          <p:nvPr/>
        </p:nvPicPr>
        <p:blipFill>
          <a:blip r:embed="rId2"/>
          <a:stretch/>
        </p:blipFill>
        <p:spPr>
          <a:xfrm>
            <a:off x="5902200" y="1133640"/>
            <a:ext cx="1533600" cy="1533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611244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614484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14880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617148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02176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05380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205776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08080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1:10:25Z</dcterms:created>
  <dc:creator/>
  <dc:description/>
  <cp:keywords>幻灯片之家 http:/www.eeppt.com</cp:keywords>
  <dc:language>en-US</dc:language>
  <cp:lastModifiedBy/>
  <dcterms:modified xsi:type="dcterms:W3CDTF">2015-07-09T11:11:48Z</dcterms:modified>
  <cp:revision>5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1对比型</vt:lpwstr>
  </property>
  <property fmtid="{D5CDD505-2E9C-101B-9397-08002B2CF9AE}" pid="4" name="SlideDescription">
    <vt:lpwstr/>
  </property>
  <property fmtid="{D5CDD505-2E9C-101B-9397-08002B2CF9AE}" pid="5" name="Version">
    <vt:r8>1</vt:r8>
  </property>
</Properties>
</file>