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A1AB-EAA3-42F7-8C70-A66F3D549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AFB6-1E30-44F6-98C1-95FC94B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3607-A728-462E-AEB7-ABC018A8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135F-FDF5-4899-AF4B-C74DBD294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0AB7-2C75-4F1A-A01E-39BF9C7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FFB4-D85F-4E5D-9FE1-D0B67CB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50D1-782F-4E81-AB2B-605EA13D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C61C-4289-4AE3-95B7-DA7AD339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360" y="44748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E087-9338-48FE-AC41-B06B9D2C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AEA3-0E3A-4944-B2AC-50FD879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2B8D-D8CB-458C-947D-2E25CE0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40032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07D1-E89C-4D8E-BEA3-3DD64229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1368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d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d84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47E3-C630-46EA-A0A0-0BB8FB678EB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990360" y="44748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68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1368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44444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54"/>
          <p:cNvSpPr/>
          <p:nvPr/>
        </p:nvSpPr>
        <p:spPr>
          <a:xfrm>
            <a:off x="0" y="357120"/>
            <a:ext cx="3571920" cy="428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5"/>
          <p:cNvSpPr/>
          <p:nvPr/>
        </p:nvSpPr>
        <p:spPr>
          <a:xfrm>
            <a:off x="0" y="40176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26880" y="2165400"/>
            <a:ext cx="8132760" cy="4316400"/>
          </a:xfrm>
          <a:prstGeom prst="roundRect">
            <a:avLst>
              <a:gd name="adj" fmla="val 389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9280" y="1438200"/>
            <a:ext cx="8831160" cy="1393920"/>
            <a:chOff x="179280" y="1438200"/>
            <a:chExt cx="8831160" cy="1393920"/>
          </a:xfrm>
        </p:grpSpPr>
        <p:sp>
          <p:nvSpPr>
            <p:cNvPr id="45" name="AutoShape 7"/>
            <p:cNvSpPr/>
            <p:nvPr/>
          </p:nvSpPr>
          <p:spPr>
            <a:xfrm>
              <a:off x="179280" y="1590480"/>
              <a:ext cx="1152360" cy="1078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0"/>
            <p:cNvSpPr/>
            <p:nvPr/>
          </p:nvSpPr>
          <p:spPr>
            <a:xfrm>
              <a:off x="1403280" y="1438200"/>
              <a:ext cx="7607160" cy="1393920"/>
            </a:xfrm>
            <a:prstGeom prst="rightArrow">
              <a:avLst>
                <a:gd name="adj1" fmla="val 78463"/>
                <a:gd name="adj2" fmla="val 42472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Line 31"/>
          <p:cNvSpPr/>
          <p:nvPr/>
        </p:nvSpPr>
        <p:spPr>
          <a:xfrm>
            <a:off x="235728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2"/>
          <p:cNvSpPr/>
          <p:nvPr/>
        </p:nvSpPr>
        <p:spPr>
          <a:xfrm>
            <a:off x="439092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3"/>
          <p:cNvSpPr/>
          <p:nvPr/>
        </p:nvSpPr>
        <p:spPr>
          <a:xfrm>
            <a:off x="6424560" y="2979720"/>
            <a:ext cx="0" cy="3338640"/>
          </a:xfrm>
          <a:prstGeom prst="line">
            <a:avLst/>
          </a:prstGeom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9"/>
          <p:cNvSpPr/>
          <p:nvPr/>
        </p:nvSpPr>
        <p:spPr>
          <a:xfrm>
            <a:off x="506520" y="1380960"/>
            <a:ext cx="1744560" cy="1511640"/>
          </a:xfrm>
          <a:prstGeom prst="hexagon">
            <a:avLst>
              <a:gd name="adj" fmla="val 2885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0"/>
          <p:cNvSpPr/>
          <p:nvPr/>
        </p:nvSpPr>
        <p:spPr>
          <a:xfrm>
            <a:off x="679320" y="151452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6"/>
          <p:cNvSpPr/>
          <p:nvPr/>
        </p:nvSpPr>
        <p:spPr>
          <a:xfrm>
            <a:off x="2527200" y="139068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7"/>
          <p:cNvSpPr/>
          <p:nvPr/>
        </p:nvSpPr>
        <p:spPr>
          <a:xfrm>
            <a:off x="2700360" y="152388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549680" y="140004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722840" y="1533600"/>
            <a:ext cx="1409760" cy="1217520"/>
          </a:xfrm>
          <a:prstGeom prst="hexagon">
            <a:avLst>
              <a:gd name="adj" fmla="val 28947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6572160" y="1409760"/>
            <a:ext cx="1744920" cy="1511280"/>
          </a:xfrm>
          <a:prstGeom prst="hexagon">
            <a:avLst>
              <a:gd name="adj" fmla="val 28865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3"/>
          <p:cNvSpPr/>
          <p:nvPr/>
        </p:nvSpPr>
        <p:spPr>
          <a:xfrm>
            <a:off x="6745320" y="1542960"/>
            <a:ext cx="1409760" cy="121788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19080">
            <a:solidFill>
              <a:srgbClr val="66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45252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6de7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0"/>
          <p:cNvSpPr/>
          <p:nvPr/>
        </p:nvSpPr>
        <p:spPr>
          <a:xfrm>
            <a:off x="247824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5d84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1"/>
          <p:cNvSpPr/>
          <p:nvPr/>
        </p:nvSpPr>
        <p:spPr>
          <a:xfrm>
            <a:off x="4505400" y="3224160"/>
            <a:ext cx="180000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b36dff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2"/>
          <p:cNvSpPr/>
          <p:nvPr/>
        </p:nvSpPr>
        <p:spPr>
          <a:xfrm>
            <a:off x="6532560" y="3224160"/>
            <a:ext cx="1800360" cy="7318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9360">
            <a:solidFill>
              <a:srgbClr val="fe5893"/>
            </a:solidFill>
            <a:miter/>
          </a:ln>
          <a:effectLst>
            <a:outerShdw dist="17819" dir="2700000" blurRad="0" rotWithShape="0">
              <a:srgbClr val="c9c2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433440" y="4005360"/>
            <a:ext cx="183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4454640" y="4005360"/>
            <a:ext cx="1917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469200" y="4005360"/>
            <a:ext cx="1919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2455920" y="4005360"/>
            <a:ext cx="1828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5540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헤드라인M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258444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46162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6648480" y="3343320"/>
            <a:ext cx="1584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46000" y="1773360"/>
            <a:ext cx="100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404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2300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1773360"/>
            <a:ext cx="100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18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5:28:04Z</dcterms:created>
  <dc:creator/>
  <dc:description/>
  <cp:keywords>幻灯片之家 http:/www.eeppt.com</cp:keywords>
  <dc:language>en-US</dc:language>
  <cp:lastModifiedBy/>
  <dcterms:modified xsi:type="dcterms:W3CDTF">2015-07-09T11:12:21Z</dcterms:modified>
  <cp:revision>1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4·立体</vt:lpwstr>
  </property>
  <property fmtid="{D5CDD505-2E9C-101B-9397-08002B2CF9AE}" pid="4" name="SlideDescription">
    <vt:lpwstr/>
  </property>
</Properties>
</file>