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6A0-DF40-445D-9B4A-1A486F45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57A-C5C0-4529-9370-0652D274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922-5CBD-47DA-8DCB-F97EDA1B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5DF-E676-40E7-84C6-353EDD32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0A0-2A83-4355-938C-D0C37521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3A6-1EA2-4770-A436-481F98F1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BC0-B47A-4917-AC0C-56CE9A43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251-CE56-4DA8-894A-9190A984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E06-8BD2-4965-8B79-1372E5A2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46C-1091-45FE-9FC1-A11E0766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0B3-3BA3-474E-9B91-17983F68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270-153E-4113-99FD-18121AC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59F-2348-4852-8291-DA3F21EB0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hyperlink" Target="http://www.eeppt.com/moban/gongzuo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5160" y="69228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党建工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556000" y="2201760"/>
            <a:ext cx="4895640" cy="684360"/>
            <a:chOff x="2556000" y="2201760"/>
            <a:chExt cx="4895640" cy="684360"/>
          </a:xfrm>
        </p:grpSpPr>
        <p:sp>
          <p:nvSpPr>
            <p:cNvPr id="46" name="任意多边形 5"/>
            <p:cNvSpPr/>
            <p:nvPr/>
          </p:nvSpPr>
          <p:spPr>
            <a:xfrm>
              <a:off x="2556000" y="220176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6"/>
            <p:cNvSpPr/>
            <p:nvPr/>
          </p:nvSpPr>
          <p:spPr>
            <a:xfrm>
              <a:off x="2603880" y="221832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556000" y="2968560"/>
            <a:ext cx="4895640" cy="682560"/>
            <a:chOff x="2556000" y="2968560"/>
            <a:chExt cx="4895640" cy="682560"/>
          </a:xfrm>
        </p:grpSpPr>
        <p:sp>
          <p:nvSpPr>
            <p:cNvPr id="49" name="任意多边形 8"/>
            <p:cNvSpPr/>
            <p:nvPr/>
          </p:nvSpPr>
          <p:spPr>
            <a:xfrm>
              <a:off x="2556000" y="296856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9"/>
            <p:cNvSpPr/>
            <p:nvPr/>
          </p:nvSpPr>
          <p:spPr>
            <a:xfrm>
              <a:off x="2603880" y="298512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556000" y="3733920"/>
            <a:ext cx="4895640" cy="684000"/>
            <a:chOff x="2556000" y="3733920"/>
            <a:chExt cx="4895640" cy="684000"/>
          </a:xfrm>
        </p:grpSpPr>
        <p:sp>
          <p:nvSpPr>
            <p:cNvPr id="52" name="任意多边形 11"/>
            <p:cNvSpPr/>
            <p:nvPr/>
          </p:nvSpPr>
          <p:spPr>
            <a:xfrm>
              <a:off x="2556000" y="3733920"/>
              <a:ext cx="489564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2"/>
            <p:cNvSpPr/>
            <p:nvPr/>
          </p:nvSpPr>
          <p:spPr>
            <a:xfrm>
              <a:off x="2603880" y="3750480"/>
              <a:ext cx="479952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556000" y="4500720"/>
            <a:ext cx="4895640" cy="682560"/>
            <a:chOff x="2556000" y="4500720"/>
            <a:chExt cx="4895640" cy="682560"/>
          </a:xfrm>
        </p:grpSpPr>
        <p:sp>
          <p:nvSpPr>
            <p:cNvPr id="55" name="任意多边形 14"/>
            <p:cNvSpPr/>
            <p:nvPr/>
          </p:nvSpPr>
          <p:spPr>
            <a:xfrm>
              <a:off x="2556000" y="450072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5"/>
            <p:cNvSpPr/>
            <p:nvPr/>
          </p:nvSpPr>
          <p:spPr>
            <a:xfrm>
              <a:off x="2603880" y="451728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56000" y="5265720"/>
            <a:ext cx="4895640" cy="684360"/>
            <a:chOff x="2556000" y="5265720"/>
            <a:chExt cx="4895640" cy="684360"/>
          </a:xfrm>
        </p:grpSpPr>
        <p:sp>
          <p:nvSpPr>
            <p:cNvPr id="58" name="任意多边形 17"/>
            <p:cNvSpPr/>
            <p:nvPr/>
          </p:nvSpPr>
          <p:spPr>
            <a:xfrm>
              <a:off x="2556000" y="526572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8"/>
            <p:cNvSpPr/>
            <p:nvPr/>
          </p:nvSpPr>
          <p:spPr>
            <a:xfrm>
              <a:off x="2603880" y="528228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692360" y="1341360"/>
            <a:ext cx="5832360" cy="684360"/>
            <a:chOff x="1692360" y="1341360"/>
            <a:chExt cx="5832360" cy="684360"/>
          </a:xfrm>
        </p:grpSpPr>
        <p:sp>
          <p:nvSpPr>
            <p:cNvPr id="61" name="任意多边形 23"/>
            <p:cNvSpPr/>
            <p:nvPr/>
          </p:nvSpPr>
          <p:spPr>
            <a:xfrm>
              <a:off x="1692360" y="1341360"/>
              <a:ext cx="583236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round/>
            </a:ln>
            <a:effectLst>
              <a:outerShdw dist="153753" dir="2700000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727640" y="1354680"/>
              <a:ext cx="5759640" cy="659160"/>
              <a:chOff x="1727640" y="1354680"/>
              <a:chExt cx="5759640" cy="659160"/>
            </a:xfrm>
          </p:grpSpPr>
          <p:pic>
            <p:nvPicPr>
              <p:cNvPr id="63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27640" y="1354680"/>
                <a:ext cx="575964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739160" y="1357560"/>
                <a:ext cx="573804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1620720" y="2201760"/>
            <a:ext cx="719280" cy="684360"/>
            <a:chOff x="1620720" y="2201760"/>
            <a:chExt cx="719280" cy="684360"/>
          </a:xfrm>
        </p:grpSpPr>
        <p:sp>
          <p:nvSpPr>
            <p:cNvPr id="66" name="圆角矩形 26"/>
            <p:cNvSpPr/>
            <p:nvPr/>
          </p:nvSpPr>
          <p:spPr>
            <a:xfrm>
              <a:off x="1620720" y="220176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49880" y="2212920"/>
              <a:ext cx="659160" cy="665280"/>
              <a:chOff x="1649880" y="2212920"/>
              <a:chExt cx="659160" cy="665280"/>
            </a:xfrm>
          </p:grpSpPr>
          <p:pic>
            <p:nvPicPr>
              <p:cNvPr id="68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9880" y="221292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686960" y="22500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1620720" y="2968560"/>
            <a:ext cx="719280" cy="682560"/>
            <a:chOff x="1620720" y="2968560"/>
            <a:chExt cx="719280" cy="682560"/>
          </a:xfrm>
        </p:grpSpPr>
        <p:sp>
          <p:nvSpPr>
            <p:cNvPr id="71" name="圆角矩形 29"/>
            <p:cNvSpPr/>
            <p:nvPr/>
          </p:nvSpPr>
          <p:spPr>
            <a:xfrm>
              <a:off x="1620720" y="296856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1649880" y="2981880"/>
              <a:ext cx="659160" cy="657360"/>
              <a:chOff x="1649880" y="2981880"/>
              <a:chExt cx="659160" cy="657360"/>
            </a:xfrm>
          </p:grpSpPr>
          <p:pic>
            <p:nvPicPr>
              <p:cNvPr id="73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649880" y="2981880"/>
                <a:ext cx="65916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686960" y="301644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1620720" y="3733920"/>
            <a:ext cx="719280" cy="684000"/>
            <a:chOff x="1620720" y="3733920"/>
            <a:chExt cx="719280" cy="684000"/>
          </a:xfrm>
        </p:grpSpPr>
        <p:sp>
          <p:nvSpPr>
            <p:cNvPr id="76" name="圆角矩形 32"/>
            <p:cNvSpPr/>
            <p:nvPr/>
          </p:nvSpPr>
          <p:spPr>
            <a:xfrm>
              <a:off x="1620720" y="3733920"/>
              <a:ext cx="71928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649880" y="3743280"/>
              <a:ext cx="659160" cy="664920"/>
              <a:chOff x="1649880" y="3743280"/>
              <a:chExt cx="659160" cy="664920"/>
            </a:xfrm>
          </p:grpSpPr>
          <p:pic>
            <p:nvPicPr>
              <p:cNvPr id="78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880" y="3743280"/>
                <a:ext cx="65916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1686960" y="378216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1620720" y="4500720"/>
            <a:ext cx="719280" cy="682560"/>
            <a:chOff x="1620720" y="4500720"/>
            <a:chExt cx="719280" cy="682560"/>
          </a:xfrm>
        </p:grpSpPr>
        <p:sp>
          <p:nvSpPr>
            <p:cNvPr id="81" name="圆角矩形 35"/>
            <p:cNvSpPr/>
            <p:nvPr/>
          </p:nvSpPr>
          <p:spPr>
            <a:xfrm>
              <a:off x="1620720" y="450072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649880" y="4512240"/>
              <a:ext cx="659160" cy="663480"/>
              <a:chOff x="1649880" y="4512240"/>
              <a:chExt cx="659160" cy="663480"/>
            </a:xfrm>
          </p:grpSpPr>
          <p:pic>
            <p:nvPicPr>
              <p:cNvPr id="83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49880" y="4512240"/>
                <a:ext cx="65916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686960" y="454860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1620720" y="5265720"/>
            <a:ext cx="719280" cy="684360"/>
            <a:chOff x="1620720" y="5265720"/>
            <a:chExt cx="719280" cy="684360"/>
          </a:xfrm>
        </p:grpSpPr>
        <p:sp>
          <p:nvSpPr>
            <p:cNvPr id="86" name="圆角矩形 38"/>
            <p:cNvSpPr/>
            <p:nvPr/>
          </p:nvSpPr>
          <p:spPr>
            <a:xfrm>
              <a:off x="1620720" y="526572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649880" y="5273280"/>
              <a:ext cx="659160" cy="665280"/>
              <a:chOff x="1649880" y="5273280"/>
              <a:chExt cx="659160" cy="665280"/>
            </a:xfrm>
          </p:grpSpPr>
          <p:pic>
            <p:nvPicPr>
              <p:cNvPr id="88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649880" y="527328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686960" y="53136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396720" y="631044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744-0735-4D59-AABE-2F5C71679A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2:00:10Z</dcterms:created>
  <dc:creator/>
  <dc:description/>
  <cp:keywords>幻灯片之家 http:/www.eeppt.com</cp:keywords>
  <dc:language>en-US</dc:language>
  <cp:lastModifiedBy/>
  <dcterms:modified xsi:type="dcterms:W3CDTF">2015-07-06T02:50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