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BDD-4E96-4928-8AE3-E30150A6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7620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923360"/>
            <a:ext cx="7620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5D3-90AD-4DC4-9F0E-745DBF56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92336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61760" y="492336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1076-BDD6-4E6F-AD0D-CBECC891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3360" y="472392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9880" y="472392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92336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3360" y="492336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9880" y="492336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5B7-098C-41C2-8E53-CE0B80C2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1503-D528-4ACD-B2DD-D0412B02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723920"/>
            <a:ext cx="7620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B26E-A84E-475B-94CC-475E4A88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76201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E456-2BF9-4811-BB77-B509C873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40A8-C709-4031-BAF9-03E833D0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1893-BBC8-4517-BA64-AA80B575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4114440"/>
            <a:ext cx="762012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7CD3-6D30-4152-B9A4-098953B2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92336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2991-CC32-4918-98F5-BFE6766E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4723920"/>
            <a:ext cx="7620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80B-4707-490E-9EFC-DC4449E6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61760" y="492336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8910-43EB-4A99-8C66-CD0E5ED5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923360"/>
            <a:ext cx="7620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AA99-63F8-4A3B-AE50-B8AED493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7620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923360"/>
            <a:ext cx="7620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579C-006A-4939-B697-54EE7529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92336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61760" y="492336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7E90-1430-45E9-96DE-F0933E0A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3360" y="472392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09880" y="472392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92336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3360" y="492336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09880" y="4923360"/>
            <a:ext cx="245340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238D-F232-4248-9745-92AA6C64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76201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2D1-EC93-4C98-9F24-5B994F77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E23-BA85-4296-9279-48EE79C7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EBA-ED60-473E-BC41-6620CE6F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114440"/>
            <a:ext cx="762012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CE9-0F12-47FD-85F5-667F8459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92336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150-E016-4134-9300-6767D4BF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61760" y="492336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9026-7E09-4138-8CF3-653DC995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1760" y="4723920"/>
            <a:ext cx="37184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923360"/>
            <a:ext cx="76201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79FE-1FBC-445A-9BB2-237B904B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0773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71F3-4BF6-4D7A-9C25-BF7AC724A64E}" type="slidenum">
              <a:rPr b="1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CF06-693A-4F21-8441-5A2E163B8B56}" type="slidenum">
              <a:rPr b="0" lang="en-US" sz="8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Impact"/>
                <a:ea typeface="宋体"/>
              </a:rPr>
              <a:t>淡紫色抽象</a:t>
            </a:r>
            <a:r>
              <a:rPr b="0" lang="zh-CN" sz="44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723920"/>
            <a:ext cx="7620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http://www.eeppt.com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0773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114440"/>
            <a:ext cx="762012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4723920"/>
            <a:ext cx="7620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Your Subtitle Goes Her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20880" y="1693800"/>
            <a:ext cx="6819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创意设计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0773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74160" y="9446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74674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15:47:00Z</dcterms:created>
  <dc:creator/>
  <dc:description/>
  <cp:keywords>幻灯片之家 http:/www.eeppt.com</cp:keywords>
  <dc:language>en-US</dc:language>
  <cp:lastModifiedBy/>
  <dcterms:modified xsi:type="dcterms:W3CDTF">2015-07-05T07:33:31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