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3.png" ContentType="image/png"/>
  <Override PartName="/ppt/media/image56.jpeg" ContentType="image/jpeg"/>
  <Override PartName="/ppt/media/image52.gif" ContentType="image/gif"/>
  <Override PartName="/ppt/media/image51.png" ContentType="image/png"/>
  <Override PartName="/ppt/media/image49.gif" ContentType="image/gif"/>
  <Override PartName="/ppt/media/image48.gif" ContentType="image/gif"/>
  <Override PartName="/ppt/media/image46.gif" ContentType="image/gif"/>
  <Override PartName="/ppt/media/image45.jpeg" ContentType="image/jpeg"/>
  <Override PartName="/ppt/media/image43.png" ContentType="image/png"/>
  <Override PartName="/ppt/media/image40.gif" ContentType="image/gif"/>
  <Override PartName="/ppt/media/image42.gif" ContentType="image/gif"/>
  <Override PartName="/ppt/media/image32.jpeg" ContentType="image/jpeg"/>
  <Override PartName="/ppt/media/image15.jpeg" ContentType="image/jpeg"/>
  <Override PartName="/ppt/media/image71.gif" ContentType="image/gif"/>
  <Override PartName="/ppt/media/image50.jpeg" ContentType="image/jpeg"/>
  <Override PartName="/ppt/media/image22.png" ContentType="image/png"/>
  <Override PartName="/ppt/media/image20.png" ContentType="image/png"/>
  <Override PartName="/ppt/media/image14.gif" ContentType="image/gif"/>
  <Override PartName="/ppt/media/image47.wmf" ContentType="image/x-wmf"/>
  <Override PartName="/ppt/media/image54.png" ContentType="image/png"/>
  <Override PartName="/ppt/media/image19.gif" ContentType="image/gif"/>
  <Override PartName="/ppt/media/image61.gif" ContentType="image/gif"/>
  <Override PartName="/ppt/media/image41.jpeg" ContentType="image/jpeg"/>
  <Override PartName="/ppt/media/image66.png" ContentType="image/png"/>
  <Override PartName="/ppt/media/image16.png" ContentType="image/png"/>
  <Override PartName="/ppt/media/image23.gif" ContentType="image/gif"/>
  <Override PartName="/ppt/media/image35.gif" ContentType="image/gif"/>
  <Override PartName="/ppt/media/image70.png" ContentType="image/png"/>
  <Override PartName="/ppt/media/image38.jpeg" ContentType="image/jpeg"/>
  <Override PartName="/ppt/media/image64.jpeg" ContentType="image/jpeg"/>
  <Override PartName="/ppt/media/image67.gif" ContentType="image/gif"/>
  <Override PartName="/ppt/media/image69.png" ContentType="image/png"/>
  <Override PartName="/ppt/media/image2.png" ContentType="image/png"/>
  <Override PartName="/ppt/media/image24.png" ContentType="image/png"/>
  <Override PartName="/ppt/media/image68.jpeg" ContentType="image/jpeg"/>
  <Override PartName="/ppt/media/image63.jpeg" ContentType="image/jpeg"/>
  <Override PartName="/ppt/media/image28.png" ContentType="image/png"/>
  <Override PartName="/ppt/media/image25.gif" ContentType="image/gif"/>
  <Override PartName="/ppt/media/image60.png" ContentType="image/png"/>
  <Override PartName="/ppt/media/image65.png" ContentType="image/png"/>
  <Override PartName="/ppt/media/image62.gif" ContentType="image/gif"/>
  <Override PartName="/ppt/media/image27.png" ContentType="image/png"/>
  <Override PartName="/ppt/media/image33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59.jpeg" ContentType="image/jpeg"/>
  <Override PartName="/ppt/media/image3.gif" ContentType="image/gif"/>
  <Override PartName="/ppt/media/image4.gif" ContentType="image/gif"/>
  <Override PartName="/ppt/media/image7.png" ContentType="image/png"/>
  <Override PartName="/ppt/media/image44.gif" ContentType="image/gif"/>
  <Override PartName="/ppt/media/image17.gif" ContentType="image/gif"/>
  <Override PartName="/ppt/media/image8.png" ContentType="image/png"/>
  <Override PartName="/ppt/media/image26.jpeg" ContentType="image/jpeg"/>
  <Override PartName="/ppt/media/image5.jpeg" ContentType="image/jpeg"/>
  <Override PartName="/ppt/media/image6.gif" ContentType="image/gif"/>
  <Override PartName="/ppt/media/image9.gif" ContentType="image/gif"/>
  <Override PartName="/ppt/media/%E6%88%91%E4%BB%AC%E5%A4%9A%E4%B9%88%E5%B9%B8%E7%A6%8F%E4%BC%B4%E5%A5%8F=11.wav" ContentType="audio/x-wav"/>
  <Override PartName="/ppt/media/image39.gif" ContentType="image/gif"/>
  <Override PartName="/ppt/media/image11.png" ContentType="image/png"/>
  <Override PartName="/ppt/media/image55.gif" ContentType="image/gif"/>
  <Override PartName="/ppt/media/image13.png" ContentType="image/png"/>
  <Override PartName="/ppt/media/image57.gif" ContentType="image/gif"/>
  <Override PartName="/ppt/media/image31.gif" ContentType="image/gif"/>
  <Override PartName="/ppt/media/image34.png" ContentType="image/png"/>
  <Override PartName="/ppt/media/image12.jpeg" ContentType="image/jpeg"/>
  <Override PartName="/ppt/media/image29.jpeg" ContentType="image/jpeg"/>
  <Override PartName="/ppt/media/image37.gif" ContentType="image/gif"/>
  <Override PartName="/ppt/media/image3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FF2-4F31-4A30-968A-4BA1D9DB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98B-7671-4C2C-A114-B8AF2180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443-B28B-4703-BD3E-6C34955F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C76-A5AD-4133-8E2A-766A0266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ED9-1835-449F-B4B6-8600AB5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3FD-865A-49E6-848C-8A6019E1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905-F3EF-4CE0-934B-FFAD2EA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D41-4A20-4EC4-889A-0255B7B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D0B-21D0-4494-8E58-56E11BB2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007-FBA3-4AC2-9726-71FE331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654-BBF6-4FB1-AA43-2B410F7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70C-E987-4E89-97D8-F12449D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122-2D4B-4E7A-9450-ECDC86412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image" Target="../media/image42.gif"/><Relationship Id="rId8" Type="http://schemas.openxmlformats.org/officeDocument/2006/relationships/image" Target="../media/image43.png"/><Relationship Id="rId9" Type="http://schemas.openxmlformats.org/officeDocument/2006/relationships/image" Target="../media/image44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wmf"/><Relationship Id="rId4" Type="http://schemas.openxmlformats.org/officeDocument/2006/relationships/image" Target="../media/image48.gif"/><Relationship Id="rId5" Type="http://schemas.openxmlformats.org/officeDocument/2006/relationships/image" Target="../media/image46.gif"/><Relationship Id="rId6" Type="http://schemas.openxmlformats.org/officeDocument/2006/relationships/image" Target="../media/image47.wm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8.gif"/><Relationship Id="rId5" Type="http://schemas.openxmlformats.org/officeDocument/2006/relationships/image" Target="../media/image58.gif"/><Relationship Id="rId6" Type="http://schemas.openxmlformats.org/officeDocument/2006/relationships/image" Target="../media/image58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3.jpeg"/><Relationship Id="rId3" Type="http://schemas.openxmlformats.org/officeDocument/2006/relationships/image" Target="../media/image60.png"/><Relationship Id="rId4" Type="http://schemas.openxmlformats.org/officeDocument/2006/relationships/image" Target="../media/image4.gif"/><Relationship Id="rId5" Type="http://schemas.openxmlformats.org/officeDocument/2006/relationships/image" Target="../media/image61.gif"/><Relationship Id="rId6" Type="http://schemas.openxmlformats.org/officeDocument/2006/relationships/image" Target="../media/image61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62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8.png"/><Relationship Id="rId10" Type="http://schemas.openxmlformats.org/officeDocument/2006/relationships/audio" Target="../media/&#25105;&#20204;&#22810;&#20040;&#24184;&#31119;&#20276;&#22863;=11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1.gif"/><Relationship Id="rId6" Type="http://schemas.openxmlformats.org/officeDocument/2006/relationships/image" Target="../media/image7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4.png"/><Relationship Id="rId8" Type="http://schemas.openxmlformats.org/officeDocument/2006/relationships/image" Target="../media/image3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DF2-4F70-4AF3-AD00-6F73DCAF6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36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38391254430501612"/>
          <p:cNvPicPr/>
          <p:nvPr/>
        </p:nvPicPr>
        <p:blipFill>
          <a:blip r:embed="rId2"/>
          <a:stretch/>
        </p:blipFill>
        <p:spPr>
          <a:xfrm>
            <a:off x="4788000" y="2502000"/>
            <a:ext cx="4356000" cy="435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1452410879827444944"/>
          <p:cNvPicPr/>
          <p:nvPr/>
        </p:nvPicPr>
        <p:blipFill>
          <a:blip r:embed="rId3"/>
          <a:stretch/>
        </p:blipFill>
        <p:spPr>
          <a:xfrm rot="20378400">
            <a:off x="6156000" y="4724280"/>
            <a:ext cx="1262160" cy="1401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84360" y="378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放飞一群白鸽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六一儿童节的清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1189848254_0_29081200"/>
          <p:cNvPicPr/>
          <p:nvPr/>
        </p:nvPicPr>
        <p:blipFill>
          <a:blip r:embed="rId4"/>
          <a:stretch/>
        </p:blipFill>
        <p:spPr>
          <a:xfrm>
            <a:off x="5364000" y="2349360"/>
            <a:ext cx="129564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189848254_0_29081200"/>
          <p:cNvPicPr/>
          <p:nvPr/>
        </p:nvPicPr>
        <p:blipFill>
          <a:blip r:embed="rId5"/>
          <a:stretch/>
        </p:blipFill>
        <p:spPr>
          <a:xfrm>
            <a:off x="5292720" y="2421000"/>
            <a:ext cx="1176480" cy="137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189848254_0_29081200"/>
          <p:cNvPicPr/>
          <p:nvPr/>
        </p:nvPicPr>
        <p:blipFill>
          <a:blip r:embed="rId6"/>
          <a:stretch/>
        </p:blipFill>
        <p:spPr>
          <a:xfrm>
            <a:off x="5292720" y="2276640"/>
            <a:ext cx="1295280" cy="151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71640" y="5229360"/>
            <a:ext cx="564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儿童动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00833E-006 C -0.02241 0.01041 -0.0448 0.02105 -0.06459 0.02035 C -0.08421 0.01966 -0.10435 0.01249 -0.11841 -0.00416 C -0.1323 -0.02081 -0.13369 -0.06013 -0.14758 -0.08002 C -0.16164 -0.09991 -0.17709 -0.11656 -0.2014 -0.12303 C -0.22588 -0.12951 -0.26286 -0.12234 -0.29393 -0.11887 C -0.32501 -0.1154 -0.35765 -0.09759 -0.38768 -0.10245 C -0.41754 -0.10731 -0.44949 -0.12234 -0.47379 -0.14755 C -0.4981 -0.17276 -0.51442 -0.22618 -0.53386 -0.25416 C -0.55331 -0.28215 -0.57327 -0.29995 -0.59081 -0.31568 C -0.608 -0.33141 -0.62327 -0.33996 -0.63838 -0.34852 E">
                                      <p:cBhvr>
                                        <p:cTn id="9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209 -0.02243 C -0.00955 -0.06383 -0.01736 -0.105 -0.03108 -0.12882 C -0.04497 -0.15264 -0.06736 -0.16004 -0.0849 -0.16582 C -0.10278 -0.1716 -0.12118 -0.16605 -0.13733 -0.16374 C -0.15347 -0.16142 -0.16736 -0.15657 -0.18195 -0.15148 C -0.19618 -0.14639 -0.20538 -0.1457 -0.22344 -0.13298 C -0.24167 -0.12026 -0.26979 -0.08719 -0.29115 -0.07562 C -0.31268 -0.06406 -0.3349 -0.04995 -0.35122 -0.06337 C -0.36754 -0.07678 -0.38229 -0.12419 -0.38959 -0.15564 C -0.39722 -0.1871 -0.38229 -0.2308 -0.39584 -0.25185 C -0.4092 -0.2729 -0.44774 -0.27382 -0.46945 -0.28261 C -0.49132 -0.2914 -0.51181 -0.28654 -0.52639 -0.30504 C -0.54097 -0.32354 -0.5441 -0.37257 -0.55729 -0.39315 C -0.57066 -0.41374 -0.59531 -0.41813 -0.60643 -0.42808 C -0.61754 -0.43802 -0.62049 -0.44542 -0.62344 -0.45259 E">
                                      <p:cBhvr>
                                        <p:cTn id="13" dur="6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" dur="6000" fill="hold"/>
                                        <p:tgtEl>
                                          <p:spTgt spid="4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34C-1ECB-44C7-AA0A-98B326367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133880464095399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479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183716_134427077164_2=d"/>
          <p:cNvPicPr/>
          <p:nvPr/>
        </p:nvPicPr>
        <p:blipFill>
          <a:blip r:embed="rId4"/>
          <a:stretch/>
        </p:blipFill>
        <p:spPr>
          <a:xfrm>
            <a:off x="755640" y="4149720"/>
            <a:ext cx="7056360" cy="1881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0" y="6165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象小树、幼苗、花朵     成长在祖国的温暖的怀抱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10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4387-6C50-43D9-912B-A25B7AB15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305_201109051521081uPa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84360" y="3716280"/>
            <a:ext cx="7991280" cy="2455920"/>
            <a:chOff x="684360" y="3716280"/>
            <a:chExt cx="7991280" cy="2455920"/>
          </a:xfrm>
        </p:grpSpPr>
        <p:pic>
          <p:nvPicPr>
            <p:cNvPr id="143" name="Picture 4" descr="027-D"/>
            <p:cNvPicPr/>
            <p:nvPr/>
          </p:nvPicPr>
          <p:blipFill>
            <a:blip r:embed="rId2"/>
            <a:stretch/>
          </p:blipFill>
          <p:spPr>
            <a:xfrm>
              <a:off x="684360" y="3716280"/>
              <a:ext cx="3995640" cy="24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027-D"/>
            <p:cNvPicPr/>
            <p:nvPr/>
          </p:nvPicPr>
          <p:blipFill>
            <a:blip r:embed="rId3"/>
            <a:stretch/>
          </p:blipFill>
          <p:spPr>
            <a:xfrm>
              <a:off x="4680000" y="3716280"/>
              <a:ext cx="3995640" cy="24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6"/>
          <p:cNvSpPr/>
          <p:nvPr/>
        </p:nvSpPr>
        <p:spPr>
          <a:xfrm>
            <a:off x="468360" y="61657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明亮的教室里    我们汲取着知识的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2ED6-8D01-4E25-ACE1-CA246F78B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hsfhh11"/>
          <p:cNvPicPr/>
          <p:nvPr/>
        </p:nvPicPr>
        <p:blipFill>
          <a:blip r:embed="rId2"/>
          <a:stretch/>
        </p:blipFill>
        <p:spPr>
          <a:xfrm>
            <a:off x="6227640" y="4581360"/>
            <a:ext cx="259236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20061226023442180"/>
          <p:cNvPicPr/>
          <p:nvPr/>
        </p:nvPicPr>
        <p:blipFill>
          <a:blip r:embed="rId3"/>
          <a:stretch/>
        </p:blipFill>
        <p:spPr>
          <a:xfrm>
            <a:off x="1979640" y="4581360"/>
            <a:ext cx="1728720" cy="1417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24000" y="6021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闹的操场上        我们放飞着童年的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3E15-97AA-496E-A6CA-70D327DEFE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7_2122516_a9aaafb3327ba1b"/>
          <p:cNvPicPr/>
          <p:nvPr/>
        </p:nvPicPr>
        <p:blipFill>
          <a:blip r:embed="rId2"/>
          <a:stretch/>
        </p:blipFill>
        <p:spPr>
          <a:xfrm>
            <a:off x="611280" y="2257560"/>
            <a:ext cx="2160360" cy="205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7_2122516_a9aaafb3327ba1b"/>
          <p:cNvPicPr/>
          <p:nvPr/>
        </p:nvPicPr>
        <p:blipFill>
          <a:blip r:embed="rId3"/>
          <a:stretch/>
        </p:blipFill>
        <p:spPr>
          <a:xfrm rot="20223600">
            <a:off x="2987640" y="2997000"/>
            <a:ext cx="1533600" cy="145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7_2122516_a9aaafb3327ba1b"/>
          <p:cNvPicPr/>
          <p:nvPr/>
        </p:nvPicPr>
        <p:blipFill>
          <a:blip r:embed="rId4"/>
          <a:stretch/>
        </p:blipFill>
        <p:spPr>
          <a:xfrm rot="2286600">
            <a:off x="7410240" y="4001760"/>
            <a:ext cx="1079280" cy="102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_2122516_a9aaafb3327ba1b"/>
          <p:cNvPicPr/>
          <p:nvPr/>
        </p:nvPicPr>
        <p:blipFill>
          <a:blip r:embed="rId5"/>
          <a:stretch/>
        </p:blipFill>
        <p:spPr>
          <a:xfrm rot="7766400">
            <a:off x="5923440" y="3750120"/>
            <a:ext cx="863640" cy="82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7_2122516_a9aaafb3327ba1b"/>
          <p:cNvPicPr/>
          <p:nvPr/>
        </p:nvPicPr>
        <p:blipFill>
          <a:blip r:embed="rId6"/>
          <a:stretch/>
        </p:blipFill>
        <p:spPr>
          <a:xfrm rot="3439800">
            <a:off x="1725480" y="191880"/>
            <a:ext cx="2143080" cy="2314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7_2122516_a9aaafb3327ba1b"/>
          <p:cNvPicPr/>
          <p:nvPr/>
        </p:nvPicPr>
        <p:blipFill>
          <a:blip r:embed="rId7"/>
          <a:stretch/>
        </p:blipFill>
        <p:spPr>
          <a:xfrm>
            <a:off x="5003640" y="0"/>
            <a:ext cx="3667320" cy="3960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611280" y="5229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奇异的网络中   我们苦练着高科技的本领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童真的幻想中   我们一次次登上了金星、水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712440"/>
            <a:ext cx="3628800" cy="2860560"/>
            <a:chOff x="4859280" y="712440"/>
            <a:chExt cx="3628800" cy="2860560"/>
          </a:xfrm>
        </p:grpSpPr>
        <p:pic>
          <p:nvPicPr>
            <p:cNvPr id="165" name="Picture 11" descr="23-"/>
            <p:cNvPicPr/>
            <p:nvPr/>
          </p:nvPicPr>
          <p:blipFill>
            <a:blip r:embed="rId8"/>
            <a:stretch/>
          </p:blipFill>
          <p:spPr>
            <a:xfrm>
              <a:off x="4859280" y="765000"/>
              <a:ext cx="3628800" cy="28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2" descr="China1"/>
            <p:cNvPicPr/>
            <p:nvPr/>
          </p:nvPicPr>
          <p:blipFill>
            <a:blip r:embed="rId9"/>
            <a:stretch/>
          </p:blipFill>
          <p:spPr>
            <a:xfrm rot="19553400">
              <a:off x="5180040" y="924480"/>
              <a:ext cx="95832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3000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9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1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1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89D-16CA-4FD5-96B2-6FD02C50A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200911298152142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2011111817275097"/>
          <p:cNvPicPr/>
          <p:nvPr/>
        </p:nvPicPr>
        <p:blipFill>
          <a:blip r:embed="rId2"/>
          <a:stretch/>
        </p:blipFill>
        <p:spPr>
          <a:xfrm rot="20890800">
            <a:off x="1114200" y="4725720"/>
            <a:ext cx="1057320" cy="126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MCj04452540000[1]"/>
          <p:cNvPicPr/>
          <p:nvPr/>
        </p:nvPicPr>
        <p:blipFill>
          <a:blip r:embed="rId3"/>
          <a:stretch/>
        </p:blipFill>
        <p:spPr>
          <a:xfrm rot="21038400">
            <a:off x="4140000" y="4797360"/>
            <a:ext cx="546120" cy="836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080415032387759"/>
          <p:cNvPicPr/>
          <p:nvPr/>
        </p:nvPicPr>
        <p:blipFill>
          <a:blip r:embed="rId4"/>
          <a:stretch/>
        </p:blipFill>
        <p:spPr>
          <a:xfrm rot="20571000">
            <a:off x="6877080" y="4941360"/>
            <a:ext cx="668160" cy="1341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2011111817275097"/>
          <p:cNvPicPr/>
          <p:nvPr/>
        </p:nvPicPr>
        <p:blipFill>
          <a:blip r:embed="rId5"/>
          <a:stretch/>
        </p:blipFill>
        <p:spPr>
          <a:xfrm flipH="1" rot="20908200">
            <a:off x="2698560" y="4726080"/>
            <a:ext cx="1056960" cy="126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Cj04452540000[1]"/>
          <p:cNvPicPr/>
          <p:nvPr/>
        </p:nvPicPr>
        <p:blipFill>
          <a:blip r:embed="rId6"/>
          <a:stretch/>
        </p:blipFill>
        <p:spPr>
          <a:xfrm rot="21038400">
            <a:off x="4858920" y="4941720"/>
            <a:ext cx="546120" cy="8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080415032387759"/>
          <p:cNvPicPr/>
          <p:nvPr/>
        </p:nvPicPr>
        <p:blipFill>
          <a:blip r:embed="rId7"/>
          <a:stretch/>
        </p:blipFill>
        <p:spPr>
          <a:xfrm rot="20571000">
            <a:off x="7740720" y="4797000"/>
            <a:ext cx="668160" cy="1341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2411280" y="62064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我们的节日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鲜花 彩旗 美丽的气球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欢笑着我们幸福的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13D"/>
          <p:cNvPicPr/>
          <p:nvPr/>
        </p:nvPicPr>
        <p:blipFill>
          <a:blip r:embed="rId8">
            <a:lum bright="-12000"/>
          </a:blip>
          <a:stretch/>
        </p:blipFill>
        <p:spPr>
          <a:xfrm flipH="1">
            <a:off x="2268000" y="4005360"/>
            <a:ext cx="5185080" cy="317484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8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8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6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6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7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6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6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6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CEFA-87FA-4734-9C29-8ED1553061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4067280" y="404640"/>
            <a:ext cx="446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可我们更愿把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们花朵一样的笑脸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编成一个巨大的花环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由全世界儿童共同举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2013042922401054"/>
          <p:cNvPicPr/>
          <p:nvPr/>
        </p:nvPicPr>
        <p:blipFill>
          <a:blip r:embed="rId2"/>
          <a:stretch/>
        </p:blipFill>
        <p:spPr>
          <a:xfrm>
            <a:off x="2843280" y="3255840"/>
            <a:ext cx="5400720" cy="3602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61569685_730410872_mid-ac57ca46-0"/>
          <p:cNvPicPr/>
          <p:nvPr/>
        </p:nvPicPr>
        <p:blipFill>
          <a:blip r:embed="rId3"/>
          <a:stretch/>
        </p:blipFill>
        <p:spPr>
          <a:xfrm rot="629400">
            <a:off x="7308720" y="3429000"/>
            <a:ext cx="1086120" cy="109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70384dq36c2"/>
          <p:cNvPicPr/>
          <p:nvPr/>
        </p:nvPicPr>
        <p:blipFill>
          <a:blip r:embed="rId4"/>
          <a:stretch/>
        </p:blipFill>
        <p:spPr>
          <a:xfrm>
            <a:off x="3276720" y="3357720"/>
            <a:ext cx="1022400" cy="119988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6B50-1A9C-4898-913D-01B30342E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03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031"/>
          <p:cNvPicPr/>
          <p:nvPr/>
        </p:nvPicPr>
        <p:blipFill>
          <a:blip r:embed="rId2"/>
          <a:stretch/>
        </p:blipFill>
        <p:spPr>
          <a:xfrm>
            <a:off x="0" y="2247840"/>
            <a:ext cx="9144000" cy="4610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250920" y="40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我们一起告别贫困、告别战争、告别歧视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告别一切罪恶的狰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2457331_164457084306_2-D"/>
          <p:cNvPicPr/>
          <p:nvPr/>
        </p:nvPicPr>
        <p:blipFill>
          <a:blip r:embed="rId3"/>
          <a:stretch/>
        </p:blipFill>
        <p:spPr>
          <a:xfrm>
            <a:off x="0" y="3645000"/>
            <a:ext cx="9144000" cy="2676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2457331_164457084306_2-D"/>
          <p:cNvPicPr/>
          <p:nvPr/>
        </p:nvPicPr>
        <p:blipFill>
          <a:blip r:embed="rId4"/>
          <a:stretch/>
        </p:blipFill>
        <p:spPr>
          <a:xfrm>
            <a:off x="0" y="3645000"/>
            <a:ext cx="9144000" cy="267660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E48-A501-4DC8-9203-26A98E241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OOOPIC_yuyu_2009031308c9df5a61b8ed26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3330166_144919082086_2=D"/>
          <p:cNvPicPr/>
          <p:nvPr/>
        </p:nvPicPr>
        <p:blipFill>
          <a:blip r:embed="rId2"/>
          <a:stretch/>
        </p:blipFill>
        <p:spPr>
          <a:xfrm>
            <a:off x="0" y="3970440"/>
            <a:ext cx="9144000" cy="192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0" y="5724360"/>
            <a:ext cx="9144000" cy="1133640"/>
            <a:chOff x="0" y="5724360"/>
            <a:chExt cx="9144000" cy="1133640"/>
          </a:xfrm>
        </p:grpSpPr>
        <p:pic>
          <p:nvPicPr>
            <p:cNvPr id="201" name="Picture 5" descr="Mypsd_2538_201012032159480021B=d"/>
            <p:cNvPicPr/>
            <p:nvPr/>
          </p:nvPicPr>
          <p:blipFill>
            <a:blip r:embed="rId3"/>
            <a:stretch/>
          </p:blipFill>
          <p:spPr>
            <a:xfrm>
              <a:off x="0" y="5724360"/>
              <a:ext cx="259236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Mypsd_2538_201012032159480021B=d"/>
            <p:cNvPicPr/>
            <p:nvPr/>
          </p:nvPicPr>
          <p:blipFill>
            <a:blip r:embed="rId4"/>
            <a:stretch/>
          </p:blipFill>
          <p:spPr>
            <a:xfrm>
              <a:off x="2195640" y="5724360"/>
              <a:ext cx="259236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Mypsd_2538_201012032159480021B=d"/>
            <p:cNvPicPr/>
            <p:nvPr/>
          </p:nvPicPr>
          <p:blipFill>
            <a:blip r:embed="rId5"/>
            <a:stretch/>
          </p:blipFill>
          <p:spPr>
            <a:xfrm>
              <a:off x="4427640" y="5724360"/>
              <a:ext cx="259236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Mypsd_2538_201012032159480021B=d"/>
            <p:cNvPicPr/>
            <p:nvPr/>
          </p:nvPicPr>
          <p:blipFill>
            <a:blip r:embed="rId6"/>
            <a:stretch/>
          </p:blipFill>
          <p:spPr>
            <a:xfrm>
              <a:off x="6551640" y="5724360"/>
              <a:ext cx="2592360" cy="113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Rectangle 9"/>
          <p:cNvSpPr/>
          <p:nvPr/>
        </p:nvSpPr>
        <p:spPr>
          <a:xfrm>
            <a:off x="1758240" y="42372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在这个蔚蓝色的星球上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创造出一个地球村的高度文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F98E-1204-4C25-8FAD-CF09ECC3D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3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133880464069961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708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189848254_0_29081200"/>
          <p:cNvPicPr/>
          <p:nvPr/>
        </p:nvPicPr>
        <p:blipFill>
          <a:blip r:embed="rId4"/>
          <a:stretch/>
        </p:blipFill>
        <p:spPr>
          <a:xfrm>
            <a:off x="8404200" y="3573360"/>
            <a:ext cx="739800" cy="863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189848253_0_78904000"/>
          <p:cNvPicPr/>
          <p:nvPr/>
        </p:nvPicPr>
        <p:blipFill>
          <a:blip r:embed="rId5"/>
          <a:stretch/>
        </p:blipFill>
        <p:spPr>
          <a:xfrm>
            <a:off x="6300720" y="3429000"/>
            <a:ext cx="457200" cy="523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189848253_0_78904000"/>
          <p:cNvPicPr/>
          <p:nvPr/>
        </p:nvPicPr>
        <p:blipFill>
          <a:blip r:embed="rId6"/>
          <a:stretch/>
        </p:blipFill>
        <p:spPr>
          <a:xfrm>
            <a:off x="3132000" y="5445000"/>
            <a:ext cx="457200" cy="524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189848254_0_29081200"/>
          <p:cNvPicPr/>
          <p:nvPr/>
        </p:nvPicPr>
        <p:blipFill>
          <a:blip r:embed="rId7"/>
          <a:stretch/>
        </p:blipFill>
        <p:spPr>
          <a:xfrm>
            <a:off x="3564000" y="4149720"/>
            <a:ext cx="739800" cy="863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3995640" y="404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放飞一群白鸽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六一儿童节的清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1189848254_0_29081200"/>
          <p:cNvPicPr/>
          <p:nvPr/>
        </p:nvPicPr>
        <p:blipFill>
          <a:blip r:embed="rId8"/>
          <a:stretch/>
        </p:blipFill>
        <p:spPr>
          <a:xfrm>
            <a:off x="5796000" y="4797360"/>
            <a:ext cx="928800" cy="1084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1773545_184900636000_2-d"/>
          <p:cNvPicPr/>
          <p:nvPr/>
        </p:nvPicPr>
        <p:blipFill>
          <a:blip r:embed="rId9"/>
          <a:stretch/>
        </p:blipFill>
        <p:spPr>
          <a:xfrm>
            <a:off x="4643280" y="4000680"/>
            <a:ext cx="3267360" cy="285732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2276E-006 L -0.30069 -0.5377 E">
                                      <p:cBhvr>
                                        <p:cTn id="284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9454E-006 L -0.26909 -0.83141 E">
                                      <p:cBhvr>
                                        <p:cTn id="286" dur="8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95837E-006 L -0.94913 -0.49861 E">
                                      <p:cBhvr>
                                        <p:cTn id="288" dur="8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99537E-006 L -0.40503 -0.6834 E">
                                      <p:cBhvr>
                                        <p:cTn id="290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08141E-006 L -0.47587 -0.77775 E">
                                      <p:cBhvr>
                                        <p:cTn id="292" dur="6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ECB-C20D-4F75-83B7-727F0E4DFD05}" type="slidenum">
              <a:t>19</a:t>
            </a:fld>
          </a:p>
        </p:txBody>
      </p:sp>
    </p:spTree>
  </p:cSld>
  <p:transition advTm="1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877-517E-4A13-85EA-F5AFBE301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2"/>
          <p:cNvPicPr/>
          <p:nvPr/>
        </p:nvPicPr>
        <p:blipFill>
          <a:blip r:embed="rId2"/>
          <a:stretch/>
        </p:blipFill>
        <p:spPr>
          <a:xfrm flipH="1">
            <a:off x="4356000" y="5661000"/>
            <a:ext cx="540000" cy="41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2"/>
          <p:cNvPicPr/>
          <p:nvPr/>
        </p:nvPicPr>
        <p:blipFill>
          <a:blip r:embed="rId3"/>
          <a:stretch/>
        </p:blipFill>
        <p:spPr>
          <a:xfrm flipH="1">
            <a:off x="3708000" y="6021360"/>
            <a:ext cx="57636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5056547_120905650144_2"/>
          <p:cNvPicPr/>
          <p:nvPr/>
        </p:nvPicPr>
        <p:blipFill>
          <a:blip r:embed="rId4"/>
          <a:stretch/>
        </p:blipFill>
        <p:spPr>
          <a:xfrm>
            <a:off x="4932360" y="2565360"/>
            <a:ext cx="4211640" cy="293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2"/>
          <p:cNvPicPr/>
          <p:nvPr/>
        </p:nvPicPr>
        <p:blipFill>
          <a:blip r:embed="rId5"/>
          <a:stretch/>
        </p:blipFill>
        <p:spPr>
          <a:xfrm flipH="1">
            <a:off x="6443640" y="2386080"/>
            <a:ext cx="504720" cy="3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2"/>
          <p:cNvPicPr/>
          <p:nvPr/>
        </p:nvPicPr>
        <p:blipFill>
          <a:blip r:embed="rId6"/>
          <a:stretch/>
        </p:blipFill>
        <p:spPr>
          <a:xfrm flipH="1">
            <a:off x="6443640" y="2924280"/>
            <a:ext cx="57456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22"/>
          <p:cNvPicPr/>
          <p:nvPr/>
        </p:nvPicPr>
        <p:blipFill>
          <a:blip r:embed="rId7"/>
          <a:stretch/>
        </p:blipFill>
        <p:spPr>
          <a:xfrm flipH="1">
            <a:off x="5076360" y="283680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22"/>
          <p:cNvPicPr/>
          <p:nvPr/>
        </p:nvPicPr>
        <p:blipFill>
          <a:blip r:embed="rId8"/>
          <a:stretch/>
        </p:blipFill>
        <p:spPr>
          <a:xfrm flipH="1">
            <a:off x="1258920" y="0"/>
            <a:ext cx="433440" cy="3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%3d2091415531%2c1105430776%26fm%3d23%26gp%3d0"/>
          <p:cNvPicPr/>
          <p:nvPr/>
        </p:nvPicPr>
        <p:blipFill>
          <a:blip r:embed="rId9"/>
          <a:stretch/>
        </p:blipFill>
        <p:spPr>
          <a:xfrm>
            <a:off x="0" y="4245120"/>
            <a:ext cx="9144000" cy="261288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  <p:sndAc>
      <p:stSnd>
        <p:snd r:embed="rId10" name="%E6%88%91%E4%BB%AC%E5%A4%9A%E4%B9%88%E5%B9%B8%E7%A6%8F%E4%BC%B4%E5%A5%8F=11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6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6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6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6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9B2F-9E79-4FF0-98EA-4C193CFBC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0606024400-5"/>
          <p:cNvPicPr/>
          <p:nvPr/>
        </p:nvPicPr>
        <p:blipFill>
          <a:blip r:embed="rId2"/>
          <a:stretch/>
        </p:blipFill>
        <p:spPr>
          <a:xfrm>
            <a:off x="0" y="2133720"/>
            <a:ext cx="308124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0" y="4413240"/>
            <a:ext cx="9143640" cy="2444760"/>
            <a:chOff x="0" y="4413240"/>
            <a:chExt cx="9143640" cy="2444760"/>
          </a:xfrm>
        </p:grpSpPr>
        <p:pic>
          <p:nvPicPr>
            <p:cNvPr id="228" name="Picture 5" descr="草"/>
            <p:cNvPicPr/>
            <p:nvPr/>
          </p:nvPicPr>
          <p:blipFill>
            <a:blip r:embed="rId3"/>
            <a:stretch/>
          </p:blipFill>
          <p:spPr>
            <a:xfrm>
              <a:off x="0" y="4614840"/>
              <a:ext cx="4788000" cy="22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草"/>
            <p:cNvPicPr/>
            <p:nvPr/>
          </p:nvPicPr>
          <p:blipFill>
            <a:blip r:embed="rId4"/>
            <a:stretch/>
          </p:blipFill>
          <p:spPr>
            <a:xfrm flipH="1">
              <a:off x="3924000" y="4413240"/>
              <a:ext cx="521964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7" descr="草"/>
            <p:cNvPicPr/>
            <p:nvPr/>
          </p:nvPicPr>
          <p:blipFill>
            <a:blip r:embed="rId5"/>
            <a:stretch/>
          </p:blipFill>
          <p:spPr>
            <a:xfrm>
              <a:off x="2843280" y="4869000"/>
              <a:ext cx="4788000" cy="19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8"/>
          <p:cNvSpPr/>
          <p:nvPr/>
        </p:nvSpPr>
        <p:spPr>
          <a:xfrm>
            <a:off x="3419640" y="620640"/>
            <a:ext cx="43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让白鸽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带着我们稚气的宣言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飞向世界各地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飞向未来时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19"/>
          <p:cNvPicPr/>
          <p:nvPr/>
        </p:nvPicPr>
        <p:blipFill>
          <a:blip r:embed="rId6"/>
          <a:stretch/>
        </p:blipFill>
        <p:spPr>
          <a:xfrm>
            <a:off x="1908000" y="3068640"/>
            <a:ext cx="393840" cy="43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19"/>
          <p:cNvPicPr/>
          <p:nvPr/>
        </p:nvPicPr>
        <p:blipFill>
          <a:blip r:embed="rId7"/>
          <a:stretch/>
        </p:blipFill>
        <p:spPr>
          <a:xfrm rot="21247200">
            <a:off x="1692000" y="2924280"/>
            <a:ext cx="590400" cy="64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19"/>
          <p:cNvPicPr/>
          <p:nvPr/>
        </p:nvPicPr>
        <p:blipFill>
          <a:blip r:embed="rId8"/>
          <a:stretch/>
        </p:blipFill>
        <p:spPr>
          <a:xfrm rot="20426400">
            <a:off x="1618920" y="3068640"/>
            <a:ext cx="326880" cy="358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19"/>
          <p:cNvPicPr/>
          <p:nvPr/>
        </p:nvPicPr>
        <p:blipFill>
          <a:blip r:embed="rId9"/>
          <a:stretch/>
        </p:blipFill>
        <p:spPr>
          <a:xfrm rot="20426400">
            <a:off x="1618920" y="3141720"/>
            <a:ext cx="326880" cy="358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19"/>
          <p:cNvPicPr/>
          <p:nvPr/>
        </p:nvPicPr>
        <p:blipFill>
          <a:blip r:embed="rId10"/>
          <a:stretch/>
        </p:blipFill>
        <p:spPr>
          <a:xfrm rot="20426400">
            <a:off x="1618920" y="3141720"/>
            <a:ext cx="326880" cy="35856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4.04255E-006 L 0.59757 -0.46277 E">
                                      <p:cBhvr>
                                        <p:cTn id="298" dur="8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8.69565E-007 L 0.77569 -0.32632 E">
                                      <p:cBhvr>
                                        <p:cTn id="300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72222E-006 -1.28585E-006 L 0.37586 -0.48381 E">
                                      <p:cBhvr>
                                        <p:cTn id="302" dur="6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4.6531E-006 L 0.22621 -0.50463 E">
                                      <p:cBhvr>
                                        <p:cTn id="304" dur="7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15 -0.05227 L 0.75781 -0.1938 E">
                                      <p:cBhvr>
                                        <p:cTn id="306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5D4-F9D1-4FC1-A26E-16384565CD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41="/>
          <p:cNvPicPr/>
          <p:nvPr/>
        </p:nvPicPr>
        <p:blipFill>
          <a:blip r:embed="rId2"/>
          <a:stretch/>
        </p:blipFill>
        <p:spPr>
          <a:xfrm>
            <a:off x="324000" y="692280"/>
            <a:ext cx="8820000" cy="5513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243" name="Picture 5" descr="葵花"/>
            <p:cNvPicPr/>
            <p:nvPr/>
          </p:nvPicPr>
          <p:blipFill>
            <a:blip r:embed="rId3"/>
            <a:stretch/>
          </p:blipFill>
          <p:spPr>
            <a:xfrm>
              <a:off x="0" y="5445000"/>
              <a:ext cx="46490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6" descr="葵花"/>
            <p:cNvPicPr/>
            <p:nvPr/>
          </p:nvPicPr>
          <p:blipFill>
            <a:blip r:embed="rId4"/>
            <a:srcRect l="0" t="0" r="1124" b="0"/>
            <a:stretch/>
          </p:blipFill>
          <p:spPr>
            <a:xfrm flipH="1">
              <a:off x="4597560" y="5445000"/>
              <a:ext cx="4546080" cy="14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WordArt 7"/>
          <p:cNvSpPr txBox="1"/>
          <p:nvPr/>
        </p:nvSpPr>
        <p:spPr>
          <a:xfrm>
            <a:off x="2340000" y="357336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祝大家六一快乐！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556000" y="4797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图文来自网络           制作：</a:t>
            </a: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Shi  Ming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d9938e3f39145904a5aff46f46e53c84"/>
          <p:cNvPicPr/>
          <p:nvPr/>
        </p:nvPicPr>
        <p:blipFill>
          <a:blip r:embed="rId5"/>
          <a:stretch/>
        </p:blipFill>
        <p:spPr>
          <a:xfrm>
            <a:off x="1692360" y="2997360"/>
            <a:ext cx="5715000" cy="42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d9938e3f39145904a5aff46f46e53c84"/>
          <p:cNvPicPr/>
          <p:nvPr/>
        </p:nvPicPr>
        <p:blipFill>
          <a:blip r:embed="rId6"/>
          <a:stretch/>
        </p:blipFill>
        <p:spPr>
          <a:xfrm>
            <a:off x="1692360" y="4508640"/>
            <a:ext cx="5715000" cy="428400"/>
          </a:xfrm>
          <a:prstGeom prst="rect">
            <a:avLst/>
          </a:prstGeom>
          <a:ln w="0">
            <a:noFill/>
          </a:ln>
        </p:spPr>
      </p:pic>
    </p:spTree>
  </p:cSld>
  <p:transition advTm="17000"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5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A03F-93BB-49BD-970D-021189CC1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3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1_100910211655_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1773360"/>
            <a:ext cx="3054240" cy="38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yujinxiang_yujinxiang5_1838"/>
          <p:cNvPicPr/>
          <p:nvPr/>
        </p:nvPicPr>
        <p:blipFill>
          <a:blip r:embed="rId3"/>
          <a:stretch/>
        </p:blipFill>
        <p:spPr>
          <a:xfrm>
            <a:off x="0" y="4772160"/>
            <a:ext cx="4500720" cy="2085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716360" y="357336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初升朝阳的晨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照彻无数透明的心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yujinxiang_yujinxiang5_1838"/>
          <p:cNvPicPr/>
          <p:nvPr/>
        </p:nvPicPr>
        <p:blipFill>
          <a:blip r:embed="rId4"/>
          <a:stretch/>
        </p:blipFill>
        <p:spPr>
          <a:xfrm>
            <a:off x="4500720" y="4772160"/>
            <a:ext cx="4643280" cy="208584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52A9-CF6E-4EC6-9658-38D05ACF8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0590290034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286680" y="3029040"/>
            <a:ext cx="2857320" cy="3828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9640" y="62064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展翅高飞的白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带走了我们所有的祝福、理想、希望与憧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597230_114819076_2"/>
          <p:cNvPicPr/>
          <p:nvPr/>
        </p:nvPicPr>
        <p:blipFill>
          <a:blip r:embed="rId3"/>
          <a:stretch/>
        </p:blipFill>
        <p:spPr>
          <a:xfrm>
            <a:off x="5940360" y="3645000"/>
            <a:ext cx="93528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597230_114819076_2"/>
          <p:cNvPicPr/>
          <p:nvPr/>
        </p:nvPicPr>
        <p:blipFill>
          <a:blip r:embed="rId4"/>
          <a:stretch/>
        </p:blipFill>
        <p:spPr>
          <a:xfrm>
            <a:off x="5867280" y="3645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597230_114819076_2"/>
          <p:cNvPicPr/>
          <p:nvPr/>
        </p:nvPicPr>
        <p:blipFill>
          <a:blip r:embed="rId5"/>
          <a:stretch/>
        </p:blipFill>
        <p:spPr>
          <a:xfrm>
            <a:off x="6084720" y="3933720"/>
            <a:ext cx="648000" cy="44928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346 -0.02706 -0.00746 -0.05458 -0.02117 -0.07146 C -0.03506 -0.08788 -0.05763 -0.09713 -0.08298 -0.10014 C -0.10815 -0.10292 -0.14496 -0.08973 -0.17204 -0.08973 C -0.19912 -0.08973 -0.22586 -0.08395 -0.24583 -0.10014 C -0.26579 -0.11587 -0.27933 -0.16235 -0.29218 -0.1864 C -0.30485 -0.21022 -0.31145 -0.22664 -0.32274 -0.24376 C -0.33402 -0.26064 -0.3394 -0.2759 -0.35971 -0.28862 C -0.3802 -0.30134 -0.41579 -0.31429 -0.446 -0.31938 C -0.47586 -0.32447 -0.51284 -0.30643 -0.53992 -0.31938 C -0.56666 -0.33233 -0.58958 -0.37026 -0.60746 -0.39709 C -0.62534 -0.42415 -0.63228 -0.45629 -0.64756 -0.48127 C -0.66267 -0.50648 -0.68037 -0.5266 -0.69808 -0.54672 E">
                                      <p:cBhvr>
                                        <p:cTn id="68" dur="8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8000" fill="hold"/>
                                        <p:tgtEl>
                                          <p:spTgt spid="8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3.51526E-006 L -0.41753 -0.6198 E">
                                      <p:cBhvr>
                                        <p:cTn id="7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0" fill="hold"/>
                                        <p:tgtEl>
                                          <p:spTgt spid="8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.55556E-006 -4.37558E-006 C -0.01129 0.00787 -0.0224 0.01573 -0.03542 0.00625 C -0.04844 -0.00323 -0.0731 -0.0296 -0.07848 -0.05735 C -0.08386 -0.0851 -0.0698 -0.12557 -0.06772 -0.1598 C -0.06563 -0.19426 -0.05469 -0.24098 -0.06615 -0.26225 C -0.07761 -0.28376 -0.10938 -0.2826 -0.13699 -0.28885 C -0.16459 -0.29509 -0.21233 -0.28399 -0.2323 -0.29926 C -0.25226 -0.31452 -0.24983 -0.35939 -0.25695 -0.38112 C -0.26407 -0.40286 -0.26459 -0.41743 -0.27535 -0.43038 C -0.28612 -0.44334 -0.30122 -0.45097 -0.32153 -0.45929 C -0.34185 -0.46739 -0.37692 -0.47247 -0.39688 -0.47964 C -0.41685 -0.48635 -0.42969 -0.48889 -0.4415 -0.5 C -0.45331 -0.51133 -0.46181 -0.53515 -0.46772 -0.54717 C -0.47362 -0.5592 -0.47535 -0.56544 -0.47692 -0.57169 E">
                                      <p:cBhvr>
                                        <p:cTn id="76" dur="6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6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8E2-7C8B-4A2B-A1BC-BF01F503F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2373269_215505984897_2+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468360" y="522936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鸽哨响在五星红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冉冉升起的校园上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00720" y="404640"/>
            <a:ext cx="1081080" cy="4608360"/>
            <a:chOff x="4500720" y="404640"/>
            <a:chExt cx="1081080" cy="4608360"/>
          </a:xfrm>
        </p:grpSpPr>
        <p:pic>
          <p:nvPicPr>
            <p:cNvPr id="90" name="Picture 6" descr="m_ad340f4d31e884ed9a64ccabc86a25d5"/>
            <p:cNvPicPr/>
            <p:nvPr/>
          </p:nvPicPr>
          <p:blipFill>
            <a:blip r:embed="rId3"/>
            <a:stretch/>
          </p:blipFill>
          <p:spPr>
            <a:xfrm>
              <a:off x="4500720" y="404640"/>
              <a:ext cx="10810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7"/>
            <p:cNvSpPr/>
            <p:nvPr/>
          </p:nvSpPr>
          <p:spPr>
            <a:xfrm>
              <a:off x="4500720" y="1123920"/>
              <a:ext cx="73080" cy="3889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8" descr="01_000535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851280" y="2104920"/>
            <a:ext cx="3467160" cy="475308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8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6E4-DD8C-4DDC-A774-E05EDE82F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4335150_600"/>
          <p:cNvPicPr/>
          <p:nvPr/>
        </p:nvPicPr>
        <p:blipFill>
          <a:blip r:embed="rId1"/>
          <a:stretch/>
        </p:blipFill>
        <p:spPr>
          <a:xfrm>
            <a:off x="0" y="0"/>
            <a:ext cx="8532720" cy="578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0110410_1dfd0cb6444f3e9f57a6U37Btsg9TN0Y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7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ua"/>
          <p:cNvPicPr/>
          <p:nvPr/>
        </p:nvPicPr>
        <p:blipFill>
          <a:blip r:embed="rId3"/>
          <a:stretch/>
        </p:blipFill>
        <p:spPr>
          <a:xfrm>
            <a:off x="0" y="400068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11280" y="4869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向着庄严的国旗敬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优秀中华儿女的鲜血和生命染红了国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E1FD-0027-4A53-B5CC-ABD391D98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17"/>
          <p:cNvPicPr/>
          <p:nvPr/>
        </p:nvPicPr>
        <p:blipFill>
          <a:blip r:embed="rId2"/>
          <a:stretch/>
        </p:blipFill>
        <p:spPr>
          <a:xfrm>
            <a:off x="250920" y="249228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7"/>
          <p:cNvPicPr/>
          <p:nvPr/>
        </p:nvPicPr>
        <p:blipFill>
          <a:blip r:embed="rId3"/>
          <a:stretch/>
        </p:blipFill>
        <p:spPr>
          <a:xfrm>
            <a:off x="7093080" y="441360"/>
            <a:ext cx="1079280" cy="77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7"/>
          <p:cNvPicPr/>
          <p:nvPr/>
        </p:nvPicPr>
        <p:blipFill>
          <a:blip r:embed="rId4"/>
          <a:stretch/>
        </p:blipFill>
        <p:spPr>
          <a:xfrm>
            <a:off x="0" y="54936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7"/>
          <p:cNvPicPr/>
          <p:nvPr/>
        </p:nvPicPr>
        <p:blipFill>
          <a:blip r:embed="rId5"/>
          <a:stretch/>
        </p:blipFill>
        <p:spPr>
          <a:xfrm>
            <a:off x="8028000" y="1125360"/>
            <a:ext cx="1116000" cy="798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395280" y="260280"/>
            <a:ext cx="60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也赢得了一个民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个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应有的主权与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祖国高于一切的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深深植入了我们心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7"/>
          <p:cNvPicPr/>
          <p:nvPr/>
        </p:nvPicPr>
        <p:blipFill>
          <a:blip r:embed="rId6"/>
          <a:stretch/>
        </p:blipFill>
        <p:spPr>
          <a:xfrm>
            <a:off x="5148360" y="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01_002136=a"/>
          <p:cNvPicPr/>
          <p:nvPr/>
        </p:nvPicPr>
        <p:blipFill>
          <a:blip r:embed="rId7"/>
          <a:stretch/>
        </p:blipFill>
        <p:spPr>
          <a:xfrm>
            <a:off x="2050920" y="2676600"/>
            <a:ext cx="7093080" cy="418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701d9q9add"/>
          <p:cNvPicPr/>
          <p:nvPr/>
        </p:nvPicPr>
        <p:blipFill>
          <a:blip r:embed="rId8"/>
          <a:stretch/>
        </p:blipFill>
        <p:spPr>
          <a:xfrm rot="1220400">
            <a:off x="2124000" y="2997360"/>
            <a:ext cx="1219320" cy="135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70384dq36c2"/>
          <p:cNvPicPr/>
          <p:nvPr/>
        </p:nvPicPr>
        <p:blipFill>
          <a:blip r:embed="rId9"/>
          <a:stretch/>
        </p:blipFill>
        <p:spPr>
          <a:xfrm>
            <a:off x="6372360" y="3429000"/>
            <a:ext cx="1137960" cy="133524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528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6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528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6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E10-BD9E-4519-9F3B-AD954D7BB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3187574_201241031788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01_002116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189000"/>
            <a:ext cx="5138640" cy="6669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78200" y="49417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胸前红领巾的火红中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民族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获得了新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8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5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E20-7449-47BE-8419-62204088C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图片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2010032776562345=aD"/>
          <p:cNvPicPr/>
          <p:nvPr/>
        </p:nvPicPr>
        <p:blipFill>
          <a:blip r:embed="rId3"/>
          <a:stretch/>
        </p:blipFill>
        <p:spPr>
          <a:xfrm>
            <a:off x="4140360" y="4076640"/>
            <a:ext cx="1223640" cy="887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539640" y="59500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串鸣唱的白云     在万里晴空中巡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010032776562345=aD"/>
          <p:cNvPicPr/>
          <p:nvPr/>
        </p:nvPicPr>
        <p:blipFill>
          <a:blip r:embed="rId4"/>
          <a:stretch/>
        </p:blipFill>
        <p:spPr>
          <a:xfrm>
            <a:off x="4140360" y="4076640"/>
            <a:ext cx="1223640" cy="88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2010032776562345=aD"/>
          <p:cNvPicPr/>
          <p:nvPr/>
        </p:nvPicPr>
        <p:blipFill>
          <a:blip r:embed="rId5"/>
          <a:stretch/>
        </p:blipFill>
        <p:spPr>
          <a:xfrm>
            <a:off x="3780000" y="4437000"/>
            <a:ext cx="2009520" cy="145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2010032776562345=aD"/>
          <p:cNvPicPr/>
          <p:nvPr/>
        </p:nvPicPr>
        <p:blipFill>
          <a:blip r:embed="rId6"/>
          <a:stretch/>
        </p:blipFill>
        <p:spPr>
          <a:xfrm>
            <a:off x="3780000" y="4437000"/>
            <a:ext cx="2009520" cy="145728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6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6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8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6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6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0:39:31Z</dcterms:created>
  <dc:creator/>
  <dc:description/>
  <cp:keywords>幻灯片之家 http:/www.eeppt.com</cp:keywords>
  <dc:language>en-US</dc:language>
  <cp:lastModifiedBy/>
  <dcterms:modified xsi:type="dcterms:W3CDTF">2015-07-12T08:19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