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3456-57FD-4210-B686-EA3FC15E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95724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5DC7-39CE-4E48-AEBA-74BFF6D8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9572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9572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CFA7-3A17-43E4-B255-2579C12B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8377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8377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9572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9572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9572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2F80-8315-40A7-92E6-E464DC47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0306-F106-4058-939E-46628C61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8377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F7CA-479C-40E9-8637-99B86F94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AEC8-C646-4868-9FC4-8408576C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5087-09C2-45B3-9144-C481A07B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347B-8AF2-47C4-A4C3-5B732CAA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084E-42B1-4475-850B-21834F68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9572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DA60-6D1F-4557-B5D7-16B28D00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8377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00E4-369F-41BE-B4A1-7682F8D9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9572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C2F0-E288-49B8-83B7-F1353EC3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95724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E1B7-A4D5-44BD-9633-7DFECC2B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95724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4AFA-CBC0-4695-A4D3-AD62DB58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9572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9572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8C09-0215-4621-8A50-069DC66D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8377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8377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9572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9572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9572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416D-2B57-4DF8-842E-A5DBC45A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8713-E72F-4594-A5BB-6ACDD198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42C7-B365-4500-8E15-7EBA6E3B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D119-3DD6-467F-A570-A5498116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002-215D-46DB-9B5D-2DE3E680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9572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0311-670E-4F9E-95A9-09B48710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9572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ED9E-63A5-4772-9E69-28D468A8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95724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6A0B-00DF-44DC-BF5D-D90635A5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9140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Bold ITC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Eras Bold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Bold ITC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Eras Bold IT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Bold ITC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48A3-956D-4C41-8E78-B48F0E5FAA5C}" type="slidenum">
              <a:rPr b="0" lang="en-US" sz="1000" spc="-1" strike="noStrike">
                <a:solidFill>
                  <a:srgbClr val="000000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3BDD-55CF-4BDA-8A92-4F633871E9F3}" type="slidenum"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300000"/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300000"/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chuangyi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Impact"/>
                <a:ea typeface="宋体"/>
              </a:rPr>
              <a:t>非常抽象的</a:t>
            </a:r>
            <a:r>
              <a:rPr b="1" lang="zh-CN" sz="4400" spc="-1" strike="noStrike">
                <a:solidFill>
                  <a:srgbClr val="000000"/>
                </a:solidFill>
                <a:latin typeface="Impact"/>
                <a:ea typeface="宋体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Impact"/>
                <a:ea typeface="宋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815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 Black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Arial Black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9140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宋体"/>
              </a:rPr>
              <a:t>Your subtopic goes her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9140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宋体"/>
              </a:rPr>
              <a:t>Your subtopic goes her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920880" y="1693800"/>
            <a:ext cx="6819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创意设计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870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590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3700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867280" y="1295280"/>
            <a:ext cx="1447920" cy="10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666880" y="1295280"/>
            <a:ext cx="1447920" cy="10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4267080" y="1295280"/>
            <a:ext cx="1447920" cy="10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7:18:13Z</dcterms:created>
  <dc:creator/>
  <dc:description/>
  <cp:keywords>幻灯片之家 http:/www.eeppt.com</cp:keywords>
  <dc:language>en-US</dc:language>
  <cp:lastModifiedBy/>
  <dcterms:modified xsi:type="dcterms:W3CDTF">2015-07-05T07:32:18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