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D1C2-F8BE-4A51-8B57-A4F99E7A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B80-DA72-4C94-BDFA-E251E76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D4A2-49BE-484C-B8B9-5DE4320A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DDC-BB5B-40C7-8C20-BDBAB148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3A6-F2C0-463B-B943-5CAF681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225-2F12-4FC7-BB6E-3DD53FD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004D-2378-417F-BD15-0A31886F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881-D459-4B21-96AA-415EA294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42F-FC6F-429C-86AD-2B0B801A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F9C9-A1B2-4649-8683-B636B488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5BD-2A4C-49F4-B36B-A08392B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071-4990-4381-8880-27E554A6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63C-71ED-481B-B9DC-985702785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3"/>
          <p:cNvSpPr/>
          <p:nvPr/>
        </p:nvSpPr>
        <p:spPr>
          <a:xfrm>
            <a:off x="2194920" y="5877000"/>
            <a:ext cx="45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ahoma"/>
                <a:ea typeface="Dotum"/>
              </a:rPr>
              <a:t>Happy Father’s Day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86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8A3-86B3-4457-918C-3C517633E1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1:07:43Z</dcterms:created>
  <dc:creator/>
  <dc:description/>
  <cp:keywords>幻灯片之家 http:/www.eeppt.com</cp:keywords>
  <dc:language>en-US</dc:language>
  <cp:lastModifiedBy/>
  <dcterms:modified xsi:type="dcterms:W3CDTF">2015-07-09T05:58:5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