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7E65-6D05-4E7A-A6F0-B3DA43BC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21E2-AA5A-4544-829D-F4B36521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8FBA-981B-4934-838B-11004165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BBD7-BD44-4E7D-B0C3-3B73B3D7E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7FD7-20AD-4869-A801-05D6220E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0384-B775-4210-ADC6-4E60A241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B1E4-1716-42FF-ACB5-E27A3906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6EA8-22FC-4FDB-A7A8-3BC127BA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9DF4-BE0B-4935-983D-A01BA582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766A-343E-4BCD-ABAE-486E35A7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6BF8-F13B-4C91-ABD9-8F274668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B340-AC8C-456C-866F-1AC3EBCF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7446-7F30-4EAA-B503-B3C81F79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2F2C-521B-41A3-9C16-FC84BDDB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6F76-B0B0-4974-91D1-98DAB63C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FD78-3FBC-4BAD-B1DB-BDB9543F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284E-11A2-489E-8A01-48F17495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EE98-352F-4929-B73C-D075B3A6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FE9F-3148-41D7-BA8E-4C7E911F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625F-3A1E-4B7F-9F8B-2637A47E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2209-D581-4E0E-ACFB-D0A826A3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E272-BF85-4707-BE96-C19DFE25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2C91-8A31-4613-8120-1A735B98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64A5-F1AF-4A38-9995-5DC96398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5BCF-C6B9-4941-9160-49D65B4C02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7D31-FAF0-4093-92DF-13DFE8C786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835280" y="3429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3"/>
          <p:cNvSpPr/>
          <p:nvPr/>
        </p:nvSpPr>
        <p:spPr>
          <a:xfrm>
            <a:off x="-572040" y="285840"/>
            <a:ext cx="715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Agency FB"/>
                <a:ea typeface="长城行书体繁"/>
              </a:rPr>
              <a:t>Happy Teacher’s Day </a:t>
            </a:r>
            <a:r>
              <a:rPr b="1" lang="zh-CN" sz="4800" spc="-1" strike="noStrike">
                <a:solidFill>
                  <a:srgbClr val="0070c0"/>
                </a:solidFill>
                <a:latin typeface="Agency FB"/>
                <a:ea typeface="长城行书体繁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3978360" y="1643040"/>
            <a:ext cx="2009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简魏碑"/>
              </a:rPr>
              <a:t>您像一支蜡烛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简魏碑"/>
              </a:rPr>
              <a:t>虽然细弱，但有一分热，发一分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简魏碑"/>
              </a:rPr>
              <a:t>照亮了别人，耗尽了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简魏碑"/>
              </a:rPr>
              <a:t>这无私的奉献，令人用志不忘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简魏碑"/>
              </a:rPr>
              <a:t>只因有您的谆谆教诲，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简魏碑"/>
              </a:rPr>
              <a:t>人生路上才得以一次次凯旋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简魏碑"/>
              </a:rPr>
              <a:t>老师您辛苦了！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简魏碑"/>
              </a:rPr>
              <a:t>教师节快乐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573408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1DD0-398A-474B-8DA8-E5F13D9CF8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5:47:01Z</dcterms:created>
  <dc:creator/>
  <dc:description/>
  <cp:keywords>幻灯片之家 http:/www.eeppt.com</cp:keywords>
  <dc:language>en-US</dc:language>
  <cp:lastModifiedBy/>
  <dcterms:modified xsi:type="dcterms:W3CDTF">2015-07-09T06:09:55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