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A85-8B32-43E1-BB5A-4AB9F15E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436-8F2A-49A4-ADC7-222DA07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0E5-A2E2-4A62-8817-E302DCFC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F3D-3699-4C0A-8FDB-604F7459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9F9-8E0E-4FF3-9222-9BBFCF53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985-D4BB-4048-BD24-1360F07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467-B8E4-40D6-9BC5-DAD736BE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512-3D89-4841-81B2-8706220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489-A11D-4069-A223-53A61DBB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BBE-5F64-4AFF-854D-1E23738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ADC-26C0-4C32-9E07-14B690F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9CF-25B9-4E10-A8DF-EB17F64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6F2-7F6A-4FA9-90E8-89897726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3960" y="90972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恩教师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73E-6CC5-4666-B967-2487EED5F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/>
  <dc:description/>
  <cp:keywords>幻灯片之家 http:/www.eeppt.com</cp:keywords>
  <dc:language>en-US</dc:language>
  <cp:lastModifiedBy/>
  <dcterms:modified xsi:type="dcterms:W3CDTF">2015-07-09T06:15:25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