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FC6-28CE-4A2C-BBED-5938824C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851-AFB9-48C7-982A-08947AC2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50A-ACAC-4537-A341-B511E85D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2AA-0464-4DBB-A1F7-6D21501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3D2C-31C4-4370-B317-49BF63FA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6713-39DE-4F4B-A841-69C7C0D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2D43-7013-47BE-8F88-6531899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D6F1-AE34-4C64-8310-36F3287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2DD-69A8-4F5B-943E-D0F94FB4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0166-0AE0-4DD8-8085-FB38DB8B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584-0881-4609-BA56-5B6C8E6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34C-6EAC-40C5-80C2-A824BDFA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0F03-B548-43C0-A12D-0C4BC7D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705A-33CC-45A7-BBBB-EB95020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0491-24D6-4901-824D-B65B320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7D9D-A516-4D1A-B2B4-D00BF6A9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F46-D95E-4931-9963-245883FA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3D8-6DCA-4848-9323-E869308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204-FF4C-4D41-9637-29C0FD37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B7F-373D-4265-8267-51612DE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4F8-F385-4F13-994A-17F39DD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E8F-4B95-4462-9935-8E75982D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838-4830-4BC1-91F5-909DA1A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233-1847-44CF-93DF-76F80D2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109-8341-490E-93FB-2F3DC0B4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2B3-8A44-4C09-BB77-098961E8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1"/>
          <p:cNvPicPr/>
          <p:nvPr/>
        </p:nvPicPr>
        <p:blipFill>
          <a:blip r:embed="rId1"/>
          <a:stretch/>
        </p:blipFill>
        <p:spPr>
          <a:xfrm>
            <a:off x="-3636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573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920" y="37180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广告公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292720" y="59421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仿宋"/>
              </a:rPr>
              <a:t>点击分主题进入分主题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23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513396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4720" y="494172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1FE0-B979-4827-993D-605F22A3C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7:37:56Z</dcterms:created>
  <dc:creator/>
  <dc:description/>
  <cp:keywords>幻灯片之家 http:/www.eeppt.com</cp:keywords>
  <dc:language>en-US</dc:language>
  <cp:lastModifiedBy/>
  <dcterms:modified xsi:type="dcterms:W3CDTF">2015-07-06T11:54:3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