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33B-AC37-4311-A72E-63B7DC80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CD3-9876-4D99-924B-5AE50364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B11-2FED-425C-B5B4-A14B7437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21E-4460-4DA0-B80B-64FCE922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647-C893-4318-B47D-1F2C90A6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60A-E336-4708-9C43-A59BD446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4D7-7DFA-45E0-B397-432C381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779-E093-40D7-A0F9-6C7D68EE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C34-554D-4E05-92F9-22E66E0D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016-3CAE-4ED4-9B8D-23CC6E0F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C45-F1DD-4A13-BDE2-C6891033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FE3-D0FD-4C11-9103-E9030C45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94092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671580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937980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5FF3B458-320E-4761-806B-4C8BBCA907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hyperlink" Target="http://www.eeppt.com/moban/qiye/" TargetMode="External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8"/>
          <p:cNvSpPr/>
          <p:nvPr/>
        </p:nvSpPr>
        <p:spPr>
          <a:xfrm>
            <a:off x="50760" y="-6048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163" name="矩形 19"/>
          <p:cNvSpPr/>
          <p:nvPr/>
        </p:nvSpPr>
        <p:spPr>
          <a:xfrm>
            <a:off x="-123840" y="6149880"/>
            <a:ext cx="1260000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6556320" y="1266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5142600" y="39060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公司宣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444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445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447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448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455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456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457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458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459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460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0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矩形 75"/>
          <p:cNvSpPr/>
          <p:nvPr/>
        </p:nvSpPr>
        <p:spPr>
          <a:xfrm>
            <a:off x="-138240" y="0"/>
            <a:ext cx="130320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9"/>
          <p:cNvSpPr/>
          <p:nvPr/>
        </p:nvSpPr>
        <p:spPr>
          <a:xfrm rot="10800000">
            <a:off x="-309600" y="-25920"/>
            <a:ext cx="12600000" cy="863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176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179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182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185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188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191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194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197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204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207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210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213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216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219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222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225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27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238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239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242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245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47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0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67" dur="193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249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252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258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63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265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268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0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272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275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278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281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284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287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290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293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296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299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302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305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308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311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3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317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320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2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341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343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6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348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352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356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5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360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363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366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369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372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375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378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0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382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4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386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389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392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395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398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401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404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5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6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4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4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4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4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4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4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4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2" dur="4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00"/>
                            </p:stCondLst>
                            <p:childTnLst>
                              <p:par>
                                <p:cTn id="47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00"/>
                            </p:stCondLst>
                            <p:childTnLst>
                              <p:par>
                                <p:cTn id="4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200"/>
                            </p:stCondLst>
                            <p:childTnLst>
                              <p:par>
                                <p:cTn id="4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700"/>
                            </p:stCondLst>
                            <p:childTnLst>
                              <p:par>
                                <p:cTn id="50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200"/>
                            </p:stCondLst>
                            <p:childTnLst>
                              <p:par>
                                <p:cTn id="51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700"/>
                            </p:stCondLst>
                            <p:childTnLst>
                              <p:par>
                                <p:cTn id="5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414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417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420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423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426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429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432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436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85840" y="5405400"/>
            <a:ext cx="8486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企业ppt模板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ttp://www.eeppt.com/moban/qiye/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58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58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5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4000" y="1269720"/>
            <a:ext cx="1190628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971856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/>
  <dc:description/>
  <cp:keywords>幻灯片之家 http:/www.eeppt.com</cp:keywords>
  <dc:language>en-US</dc:language>
  <cp:lastModifiedBy/>
  <dcterms:modified xsi:type="dcterms:W3CDTF">2015-07-06T08:02:13Z</dcterms:modified>
  <cp:revision>2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