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E766-A439-462D-9CF8-25785FF0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81464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BE81-4179-4F5E-B804-A8468FE0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048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8BC5-9121-4CFF-A072-3837F23E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908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412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908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412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3E1D-4820-4795-A1F4-0FB8FC56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040" y="4495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8686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4495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6EB-0E8D-4E09-8601-B3E8C7BA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048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040" y="481464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048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3908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412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04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3908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412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6A8-D0EF-4D31-8AB1-F761B42C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13E4-8EA1-451F-A144-6D7226D8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007A-22DA-462C-815B-5BAAA252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8686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926-414C-4533-9027-5F58748D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164-664E-4C6D-A2A6-A0163AB9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048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CB55-59FA-479B-851D-75342E2F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676-6070-43CC-87EA-474A826F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6c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6296-C2AA-4DAE-A659-61DF181C9A18}" type="slidenum"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0" y="837720"/>
            <a:ext cx="9144000" cy="7632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5562720"/>
            <a:ext cx="184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99c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99c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guowai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国外创意</a:t>
            </a:r>
            <a:r>
              <a:rPr b="1" lang="zh-CN" sz="4000" spc="-1" strike="noStrike">
                <a:solidFill>
                  <a:srgbClr val="000066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66"/>
                </a:solidFill>
                <a:latin typeface="Verdana"/>
                <a:ea typeface="宋体"/>
              </a:rPr>
              <a:t>模板下载</a:t>
            </a: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040" y="4495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1092240" y="2095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25360" y="210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4167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2125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36720" y="1787400"/>
            <a:ext cx="642960" cy="642960"/>
            <a:chOff x="1836720" y="1787400"/>
            <a:chExt cx="642960" cy="642960"/>
          </a:xfrm>
        </p:grpSpPr>
        <p:sp>
          <p:nvSpPr>
            <p:cNvPr id="316" name=""/>
            <p:cNvSpPr/>
            <p:nvPr/>
          </p:nvSpPr>
          <p:spPr>
            <a:xfrm>
              <a:off x="1836720" y="178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43200" y="179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51120" y="179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57600" y="180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91440" y="181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976760" y="187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68560" y="254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816520" y="209556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850000" y="210348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67280" y="416736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2125800"/>
            <a:ext cx="207036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6561000" y="1787400"/>
            <a:ext cx="642960" cy="642960"/>
            <a:chOff x="6561000" y="1787400"/>
            <a:chExt cx="642960" cy="642960"/>
          </a:xfrm>
        </p:grpSpPr>
        <p:sp>
          <p:nvSpPr>
            <p:cNvPr id="328" name=""/>
            <p:cNvSpPr/>
            <p:nvPr/>
          </p:nvSpPr>
          <p:spPr>
            <a:xfrm>
              <a:off x="6561000" y="178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67480" y="179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75400" y="179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81880" y="180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15720" y="181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6701040" y="187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92840" y="254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54560" y="2095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87680" y="210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05320" y="4167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505320" y="2125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99040" y="1787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205160" y="1792440"/>
            <a:ext cx="622440" cy="62208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13080" y="179532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19560" y="1801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54480" y="1817640"/>
            <a:ext cx="51264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339080" y="187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30520" y="254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Progress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33cc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9999ff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86c05a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6c05a"/>
              </a:gs>
              <a:gs pos="100000">
                <a:srgbClr val="3d582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ff"/>
              </a:gs>
              <a:gs pos="100000">
                <a:srgbClr val="175e75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627120" y="1752480"/>
          <a:ext cx="7734240" cy="3505320"/>
        </p:xfrm>
        <a:graphic>
          <a:graphicData uri="http://schemas.openxmlformats.org/drawingml/2006/table">
            <a:tbl>
              <a:tblPr/>
              <a:tblGrid>
                <a:gridCol w="1041480"/>
                <a:gridCol w="2019240"/>
                <a:gridCol w="374760"/>
                <a:gridCol w="2043000"/>
                <a:gridCol w="357120"/>
                <a:gridCol w="189864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99ccff"/>
                      </a:solidFill>
                    </a:lnR>
                    <a:lnT>
                      <a:noFill/>
                    </a:lnT>
                    <a:lnB w="5760">
                      <a:solidFill>
                        <a:srgbClr val="99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 rot="13770000">
            <a:off x="4912920" y="3960720"/>
            <a:ext cx="960480" cy="1922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20856000">
            <a:off x="2923920" y="3508200"/>
            <a:ext cx="100944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62440" y="2202120"/>
            <a:ext cx="1704600" cy="1836000"/>
            <a:chOff x="3862440" y="2202120"/>
            <a:chExt cx="1704600" cy="1836000"/>
          </a:xfrm>
        </p:grpSpPr>
        <p:sp>
          <p:nvSpPr>
            <p:cNvPr id="359" name=""/>
            <p:cNvSpPr/>
            <p:nvPr/>
          </p:nvSpPr>
          <p:spPr>
            <a:xfrm rot="18394200">
              <a:off x="5038200" y="2414880"/>
              <a:ext cx="59616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3862440" y="2448720"/>
              <a:ext cx="1609560" cy="1589400"/>
              <a:chOff x="3862440" y="2448720"/>
              <a:chExt cx="1609560" cy="1589400"/>
            </a:xfrm>
          </p:grpSpPr>
          <p:sp>
            <p:nvSpPr>
              <p:cNvPr id="361" name=""/>
              <p:cNvSpPr/>
              <p:nvPr/>
            </p:nvSpPr>
            <p:spPr>
              <a:xfrm>
                <a:off x="3862440" y="2448720"/>
                <a:ext cx="1609560" cy="15894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13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046400" y="2475000"/>
                <a:ext cx="1241640" cy="599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3949200" y="31402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5272200" y="1519200"/>
            <a:ext cx="891720" cy="861840"/>
            <a:chOff x="5272200" y="1519200"/>
            <a:chExt cx="891720" cy="861840"/>
          </a:xfrm>
        </p:grpSpPr>
        <p:grpSp>
          <p:nvGrpSpPr>
            <p:cNvPr id="365" name=""/>
            <p:cNvGrpSpPr/>
            <p:nvPr/>
          </p:nvGrpSpPr>
          <p:grpSpPr>
            <a:xfrm>
              <a:off x="5272200" y="1519200"/>
              <a:ext cx="871560" cy="861840"/>
              <a:chOff x="5272200" y="1519200"/>
              <a:chExt cx="871560" cy="861840"/>
            </a:xfrm>
          </p:grpSpPr>
          <p:sp>
            <p:nvSpPr>
              <p:cNvPr id="366" name=""/>
              <p:cNvSpPr/>
              <p:nvPr/>
            </p:nvSpPr>
            <p:spPr>
              <a:xfrm>
                <a:off x="5272200" y="1519200"/>
                <a:ext cx="871560" cy="86184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131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371560" y="1533240"/>
                <a:ext cx="672480" cy="32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529272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Concep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447920" y="2844720"/>
            <a:ext cx="1744560" cy="1790640"/>
            <a:chOff x="1447920" y="2844720"/>
            <a:chExt cx="1744560" cy="1790640"/>
          </a:xfrm>
        </p:grpSpPr>
        <p:grpSp>
          <p:nvGrpSpPr>
            <p:cNvPr id="370" name=""/>
            <p:cNvGrpSpPr/>
            <p:nvPr/>
          </p:nvGrpSpPr>
          <p:grpSpPr>
            <a:xfrm>
              <a:off x="1447920" y="2844720"/>
              <a:ext cx="1744560" cy="1790640"/>
              <a:chOff x="1447920" y="2844720"/>
              <a:chExt cx="1744560" cy="1790640"/>
            </a:xfrm>
          </p:grpSpPr>
          <p:sp>
            <p:nvSpPr>
              <p:cNvPr id="371" name=""/>
              <p:cNvSpPr/>
              <p:nvPr/>
            </p:nvSpPr>
            <p:spPr>
              <a:xfrm>
                <a:off x="144792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d31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647360" y="2874240"/>
                <a:ext cx="1345680" cy="67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154224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203800" y="4105440"/>
            <a:ext cx="2013120" cy="1989000"/>
            <a:chOff x="5203800" y="4105440"/>
            <a:chExt cx="2013120" cy="1989000"/>
          </a:xfrm>
        </p:grpSpPr>
        <p:grpSp>
          <p:nvGrpSpPr>
            <p:cNvPr id="375" name=""/>
            <p:cNvGrpSpPr/>
            <p:nvPr/>
          </p:nvGrpSpPr>
          <p:grpSpPr>
            <a:xfrm>
              <a:off x="5203800" y="4105440"/>
              <a:ext cx="2013120" cy="1989000"/>
              <a:chOff x="5203800" y="4105440"/>
              <a:chExt cx="2013120" cy="1989000"/>
            </a:xfrm>
          </p:grpSpPr>
          <p:sp>
            <p:nvSpPr>
              <p:cNvPr id="376" name=""/>
              <p:cNvSpPr/>
              <p:nvPr/>
            </p:nvSpPr>
            <p:spPr>
              <a:xfrm>
                <a:off x="5203800" y="4105440"/>
                <a:ext cx="201312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61e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433840" y="4138200"/>
                <a:ext cx="1553040" cy="750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549216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194840" y="1325880"/>
            <a:ext cx="6879600" cy="4804560"/>
            <a:chOff x="1194840" y="1325880"/>
            <a:chExt cx="6879600" cy="4804560"/>
          </a:xfrm>
        </p:grpSpPr>
        <p:sp>
          <p:nvSpPr>
            <p:cNvPr id="381" name=""/>
            <p:cNvSpPr/>
            <p:nvPr/>
          </p:nvSpPr>
          <p:spPr>
            <a:xfrm>
              <a:off x="2262240" y="4465440"/>
              <a:ext cx="5562720" cy="1325520"/>
            </a:xfrm>
            <a:prstGeom prst="ellipse">
              <a:avLst/>
            </a:prstGeom>
            <a:solidFill>
              <a:srgbClr val="00013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20601600">
              <a:off x="1536840" y="235224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20601600">
              <a:off x="1593720" y="219024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20601600">
              <a:off x="1508040" y="217620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rot="20602200">
              <a:off x="1486080" y="220716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20601600">
              <a:off x="1517760" y="218736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rot="20602200">
              <a:off x="1500120" y="219492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20601600">
              <a:off x="3054600" y="290484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69880" y="3127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75000" y="2212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1160" y="2670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77040" y="320328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20539200">
              <a:off x="1512360" y="220572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76760" y="368460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51160" y="36604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198680" y="4422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9356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20601600">
              <a:off x="3156120" y="315756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53160" y="407988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Marketing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402" name=""/>
            <p:cNvSpPr/>
            <p:nvPr/>
          </p:nvSpPr>
          <p:spPr>
            <a:xfrm>
              <a:off x="7679880" y="4875120"/>
              <a:ext cx="930240" cy="130680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6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56600" y="4875120"/>
              <a:ext cx="433512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040a1"/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89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406" name="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4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3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49840" y="4506840"/>
              <a:ext cx="3781440" cy="76644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5e5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343400" y="3313080"/>
            <a:ext cx="3107880" cy="1027080"/>
            <a:chOff x="4343400" y="3313080"/>
            <a:chExt cx="3107880" cy="1027080"/>
          </a:xfrm>
        </p:grpSpPr>
        <p:sp>
          <p:nvSpPr>
            <p:cNvPr id="410" name=""/>
            <p:cNvSpPr/>
            <p:nvPr/>
          </p:nvSpPr>
          <p:spPr>
            <a:xfrm>
              <a:off x="6731640" y="3313080"/>
              <a:ext cx="71964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179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62080" y="3313080"/>
              <a:ext cx="217476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34e05"/>
                </a:gs>
                <a:gs pos="100000">
                  <a:srgbClr val="f4a70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8d4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414" name="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938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22481"/>
                </a:gs>
                <a:gs pos="100000">
                  <a:srgbClr val="c24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dfa2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418" name="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dc4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421" name=""/>
            <p:cNvSpPr/>
            <p:nvPr/>
          </p:nvSpPr>
          <p:spPr>
            <a:xfrm flipH="1">
              <a:off x="1295280" y="6156000"/>
              <a:ext cx="1957680" cy="14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1294920" y="5283360"/>
              <a:ext cx="2526840" cy="14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1294920" y="4378680"/>
              <a:ext cx="2966040" cy="14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1294920" y="2593800"/>
              <a:ext cx="3976200" cy="14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1295280" y="1828800"/>
              <a:ext cx="4419360" cy="108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2133720" y="335268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81080" y="2514600"/>
            <a:ext cx="5105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f87d7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f87d7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21160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7f0dd"/>
              </a:gs>
              <a:gs pos="100000">
                <a:srgbClr val="48be67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21718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28018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78fcb"/>
              </a:gs>
              <a:gs pos="50000">
                <a:srgbClr val="aed1e9"/>
              </a:gs>
              <a:gs pos="100000">
                <a:srgbClr val="378fcb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28576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4876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7f0dd"/>
              </a:gs>
              <a:gs pos="100000">
                <a:srgbClr val="48be67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35434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41734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78fcb"/>
              </a:gs>
              <a:gs pos="50000">
                <a:srgbClr val="aed1e9"/>
              </a:gs>
              <a:gs pos="100000">
                <a:srgbClr val="378fcb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42292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48592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7f0dd"/>
              </a:gs>
              <a:gs pos="100000">
                <a:srgbClr val="48be67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49150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895480" y="1677960"/>
            <a:ext cx="122400" cy="4030560"/>
            <a:chOff x="2895480" y="1677960"/>
            <a:chExt cx="122400" cy="4030560"/>
          </a:xfrm>
        </p:grpSpPr>
        <p:sp>
          <p:nvSpPr>
            <p:cNvPr id="97" name=""/>
            <p:cNvSpPr/>
            <p:nvPr/>
          </p:nvSpPr>
          <p:spPr>
            <a:xfrm>
              <a:off x="2896920" y="1677960"/>
              <a:ext cx="117720" cy="3808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5480" y="2579760"/>
              <a:ext cx="111240" cy="16992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00160" y="3260520"/>
              <a:ext cx="111240" cy="16992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6920" y="3946320"/>
              <a:ext cx="111240" cy="16992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96920" y="4630680"/>
              <a:ext cx="111240" cy="16992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00160" y="5327640"/>
              <a:ext cx="117720" cy="3808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894280" y="1676520"/>
            <a:ext cx="125280" cy="4030560"/>
            <a:chOff x="5894280" y="1676520"/>
            <a:chExt cx="125280" cy="4030560"/>
          </a:xfrm>
        </p:grpSpPr>
        <p:sp>
          <p:nvSpPr>
            <p:cNvPr id="104" name=""/>
            <p:cNvSpPr/>
            <p:nvPr/>
          </p:nvSpPr>
          <p:spPr>
            <a:xfrm>
              <a:off x="5895720" y="1676520"/>
              <a:ext cx="117720" cy="3808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94280" y="2578320"/>
              <a:ext cx="120600" cy="17604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98960" y="3259080"/>
              <a:ext cx="120600" cy="17640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95720" y="3944880"/>
              <a:ext cx="120960" cy="17640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95720" y="4629240"/>
              <a:ext cx="120960" cy="17640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98960" y="5326200"/>
              <a:ext cx="117720" cy="3808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286000" y="5697360"/>
            <a:ext cx="4495680" cy="152640"/>
          </a:xfrm>
          <a:prstGeom prst="rect">
            <a:avLst/>
          </a:prstGeom>
          <a:gradFill rotWithShape="0">
            <a:gsLst>
              <a:gs pos="0">
                <a:srgbClr val="5f87d7">
                  <a:alpha val="0"/>
                </a:srgbClr>
              </a:gs>
              <a:gs pos="50000">
                <a:srgbClr val="2b3e63">
                  <a:alpha val="58039"/>
                </a:srgbClr>
              </a:gs>
              <a:gs pos="100000">
                <a:srgbClr val="5f87d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3471840"/>
            <a:ext cx="2057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adcd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7eac9"/>
              </a:gs>
              <a:gs pos="100000">
                <a:srgbClr val="86c0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19" name=""/>
            <p:cNvGrpSpPr/>
            <p:nvPr/>
          </p:nvGrpSpPr>
          <p:grpSpPr>
            <a:xfrm>
              <a:off x="3048120" y="1695600"/>
              <a:ext cx="2998440" cy="1458360"/>
              <a:chOff x="3048120" y="1695600"/>
              <a:chExt cx="2998440" cy="1458360"/>
            </a:xfrm>
          </p:grpSpPr>
          <p:sp>
            <p:nvSpPr>
              <p:cNvPr id="120" name=""/>
              <p:cNvSpPr/>
              <p:nvPr/>
            </p:nvSpPr>
            <p:spPr>
              <a:xfrm>
                <a:off x="3080880" y="17420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a4a7b"/>
                  </a:gs>
                  <a:gs pos="100000">
                    <a:srgbClr val="99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048120" y="16956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d0d0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318924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86c05a"/>
                </a:gs>
                <a:gs pos="100000">
                  <a:srgbClr val="3d58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24160" y="15606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d3e8c4"/>
                </a:gs>
                <a:gs pos="100000">
                  <a:srgbClr val="86c05a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51160" y="15732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86c05a">
                    <a:alpha val="48235"/>
                  </a:srgbClr>
                </a:gs>
                <a:gs pos="100000">
                  <a:srgbClr val="6997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82920" y="16002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86c05a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Diagram 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8fe2fe">
                  <a:alpha val="12156"/>
                </a:srgbClr>
              </a:gs>
              <a:gs pos="100000">
                <a:srgbClr val="33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33ccff"/>
              </a:gs>
              <a:gs pos="100000">
                <a:srgbClr val="8fe2fe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33ccff"/>
              </a:gs>
              <a:gs pos="100000">
                <a:srgbClr val="8fe2fe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8fe2fe">
                  <a:alpha val="12156"/>
                </a:srgbClr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d5829"/>
              </a:gs>
              <a:gs pos="50000">
                <a:srgbClr val="86c05a"/>
              </a:gs>
              <a:gs pos="100000">
                <a:srgbClr val="3d58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d5829"/>
              </a:gs>
              <a:gs pos="50000">
                <a:srgbClr val="86c05a"/>
              </a:gs>
              <a:gs pos="100000">
                <a:srgbClr val="3d58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d5829"/>
              </a:gs>
              <a:gs pos="50000">
                <a:srgbClr val="86c05a"/>
              </a:gs>
              <a:gs pos="100000">
                <a:srgbClr val="3d58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917800" y="1981080"/>
            <a:ext cx="3156840" cy="2841480"/>
            <a:chOff x="2917800" y="1981080"/>
            <a:chExt cx="3156840" cy="2841480"/>
          </a:xfrm>
        </p:grpSpPr>
        <p:sp>
          <p:nvSpPr>
            <p:cNvPr id="154" name=""/>
            <p:cNvSpPr/>
            <p:nvPr/>
          </p:nvSpPr>
          <p:spPr>
            <a:xfrm flipH="1" rot="16200000">
              <a:off x="2836080" y="309636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e5267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rot="5400000">
              <a:off x="5665320" y="3042000"/>
              <a:ext cx="49032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e5267"/>
                </a:gs>
                <a:gs pos="100000">
                  <a:srgbClr val="99cc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10800000">
              <a:off x="4250160" y="4495680"/>
              <a:ext cx="4888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e5267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22720" y="1981080"/>
              <a:ext cx="256464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68520" y="2125440"/>
              <a:ext cx="227088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02080" y="2260440"/>
              <a:ext cx="200412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02080" y="2260440"/>
              <a:ext cx="200412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33840" y="23922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33840" y="23922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12760" y="304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847880"/>
            <a:ext cx="4222800" cy="719280"/>
          </a:xfrm>
          <a:prstGeom prst="rect">
            <a:avLst/>
          </a:prstGeom>
          <a:gradFill rotWithShape="0">
            <a:gsLst>
              <a:gs pos="0">
                <a:srgbClr val="e98931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668760" y="1573200"/>
            <a:ext cx="1098000" cy="1001520"/>
            <a:chOff x="3668760" y="1573200"/>
            <a:chExt cx="1098000" cy="1001520"/>
          </a:xfrm>
        </p:grpSpPr>
        <p:grpSp>
          <p:nvGrpSpPr>
            <p:cNvPr id="201" name=""/>
            <p:cNvGrpSpPr/>
            <p:nvPr/>
          </p:nvGrpSpPr>
          <p:grpSpPr>
            <a:xfrm>
              <a:off x="3668760" y="1573200"/>
              <a:ext cx="1098000" cy="1001520"/>
              <a:chOff x="3668760" y="1573200"/>
              <a:chExt cx="1098000" cy="1001520"/>
            </a:xfrm>
          </p:grpSpPr>
          <p:sp>
            <p:nvSpPr>
              <p:cNvPr id="202" name=""/>
              <p:cNvSpPr/>
              <p:nvPr/>
            </p:nvSpPr>
            <p:spPr>
              <a:xfrm>
                <a:off x="3668760" y="1573200"/>
                <a:ext cx="1098000" cy="10015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33b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94040" y="1589760"/>
                <a:ext cx="847080" cy="3780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4046400" y="168444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57200" y="2030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2979720"/>
            <a:ext cx="4665600" cy="719280"/>
          </a:xfrm>
          <a:prstGeom prst="rect">
            <a:avLst/>
          </a:prstGeom>
          <a:gradFill rotWithShape="0">
            <a:gsLst>
              <a:gs pos="0">
                <a:srgbClr val="418aeb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316400" y="2727360"/>
            <a:ext cx="1087200" cy="1006200"/>
            <a:chOff x="4316400" y="2727360"/>
            <a:chExt cx="1087200" cy="1006200"/>
          </a:xfrm>
        </p:grpSpPr>
        <p:grpSp>
          <p:nvGrpSpPr>
            <p:cNvPr id="208" name=""/>
            <p:cNvGrpSpPr/>
            <p:nvPr/>
          </p:nvGrpSpPr>
          <p:grpSpPr>
            <a:xfrm>
              <a:off x="4316400" y="2727360"/>
              <a:ext cx="1087200" cy="1006200"/>
              <a:chOff x="4316400" y="2727360"/>
              <a:chExt cx="1087200" cy="1006200"/>
            </a:xfrm>
          </p:grpSpPr>
          <p:sp>
            <p:nvSpPr>
              <p:cNvPr id="209" name=""/>
              <p:cNvSpPr/>
              <p:nvPr/>
            </p:nvSpPr>
            <p:spPr>
              <a:xfrm>
                <a:off x="4316400" y="2727360"/>
                <a:ext cx="108720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52d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40600" y="2743920"/>
                <a:ext cx="838800" cy="3798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4657320" y="28656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066680" y="31845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091040"/>
            <a:ext cx="5686560" cy="720720"/>
          </a:xfrm>
          <a:prstGeom prst="rect">
            <a:avLst/>
          </a:prstGeom>
          <a:gradFill rotWithShape="0">
            <a:gsLst>
              <a:gs pos="0">
                <a:srgbClr val="9942e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021280" y="3809880"/>
            <a:ext cx="1098000" cy="1012680"/>
            <a:chOff x="5021280" y="3809880"/>
            <a:chExt cx="1098000" cy="1012680"/>
          </a:xfrm>
        </p:grpSpPr>
        <p:grpSp>
          <p:nvGrpSpPr>
            <p:cNvPr id="215" name=""/>
            <p:cNvGrpSpPr/>
            <p:nvPr/>
          </p:nvGrpSpPr>
          <p:grpSpPr>
            <a:xfrm>
              <a:off x="5021280" y="3809880"/>
              <a:ext cx="1098000" cy="1012680"/>
              <a:chOff x="5021280" y="3809880"/>
              <a:chExt cx="1098000" cy="1012680"/>
            </a:xfrm>
          </p:grpSpPr>
          <p:sp>
            <p:nvSpPr>
              <p:cNvPr id="216" name=""/>
              <p:cNvSpPr/>
              <p:nvPr/>
            </p:nvSpPr>
            <p:spPr>
              <a:xfrm>
                <a:off x="5021280" y="3809880"/>
                <a:ext cx="109800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2518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146560" y="3826440"/>
                <a:ext cx="847080" cy="381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5441400" y="386424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828800" y="42670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5214960"/>
            <a:ext cx="6392880" cy="719280"/>
          </a:xfrm>
          <a:prstGeom prst="rect">
            <a:avLst/>
          </a:prstGeom>
          <a:gradFill rotWithShape="0">
            <a:gsLst>
              <a:gs pos="0">
                <a:srgbClr val="33ad8a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678640" y="4952880"/>
            <a:ext cx="1103040" cy="1019160"/>
            <a:chOff x="5678640" y="4952880"/>
            <a:chExt cx="1103040" cy="1019160"/>
          </a:xfrm>
        </p:grpSpPr>
        <p:sp>
          <p:nvSpPr>
            <p:cNvPr id="222" name=""/>
            <p:cNvSpPr/>
            <p:nvPr/>
          </p:nvSpPr>
          <p:spPr>
            <a:xfrm>
              <a:off x="5678640" y="4952880"/>
              <a:ext cx="1103040" cy="1019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1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04640" y="4969800"/>
              <a:ext cx="851040" cy="3844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128640" y="50198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5405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72200" y="1676520"/>
            <a:ext cx="2514600" cy="1981080"/>
          </a:xfrm>
          <a:prstGeom prst="wedgeRoundRectCallout">
            <a:avLst>
              <a:gd name="adj1" fmla="val -44759"/>
              <a:gd name="adj2" fmla="val 84694"/>
              <a:gd name="adj3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</a:rPr>
              <a:t>Diagram </a:t>
            </a:r>
            <a:r>
              <a:rPr b="0" lang="en-US" sz="2000" spc="-1" strike="noStrike">
                <a:solidFill>
                  <a:srgbClr val="99ccff"/>
                </a:solidFill>
                <a:latin typeface="Verdana"/>
              </a:rPr>
              <a:t>– PowerPoint2002</a:t>
            </a:r>
            <a:endParaRPr b="0" lang="en-US" sz="20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86c05a"/>
              </a:gs>
              <a:gs pos="100000">
                <a:srgbClr val="cae3b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2d2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9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25289"/>
              </a:gs>
              <a:gs pos="50000">
                <a:srgbClr val="9999ff"/>
              </a:gs>
              <a:gs pos="100000">
                <a:srgbClr val="52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9999ff">
                  <a:alpha val="0"/>
                </a:srgbClr>
              </a:gs>
              <a:gs pos="100000">
                <a:srgbClr val="6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6969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6969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05050"/>
              </a:gs>
              <a:gs pos="50000">
                <a:srgbClr val="969696"/>
              </a:gs>
              <a:gs pos="100000">
                <a:srgbClr val="50505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969696">
                  <a:alpha val="0"/>
                </a:srgbClr>
              </a:gs>
              <a:gs pos="100000">
                <a:srgbClr val="5e5e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41" name="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3860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6c05a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3d5829"/>
              </a:gs>
              <a:gs pos="100000">
                <a:srgbClr val="86c05a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86730"/>
              </a:gs>
              <a:gs pos="50000">
                <a:srgbClr val="86c05a"/>
              </a:gs>
              <a:gs pos="100000">
                <a:srgbClr val="48673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6c05a">
                  <a:alpha val="0"/>
                </a:srgbClr>
              </a:gs>
              <a:gs pos="100000">
                <a:srgbClr val="54793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51" name="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7532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56" name="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2176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275" name="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278" name="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281" name="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284" name="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287" name="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290" name="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464675"/>
              </a:gs>
              <a:gs pos="100000">
                <a:srgbClr val="99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525289"/>
              </a:gs>
              <a:gs pos="50000">
                <a:srgbClr val="9999ff"/>
              </a:gs>
              <a:gs pos="100000">
                <a:srgbClr val="52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33920" y="287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9999ff">
                  <a:alpha val="0"/>
                </a:srgbClr>
              </a:gs>
              <a:gs pos="100000">
                <a:srgbClr val="6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835440" y="2981160"/>
            <a:ext cx="1522440" cy="1522440"/>
            <a:chOff x="3835440" y="2981160"/>
            <a:chExt cx="1522440" cy="1522440"/>
          </a:xfrm>
        </p:grpSpPr>
        <p:sp>
          <p:nvSpPr>
            <p:cNvPr id="297" name=""/>
            <p:cNvSpPr/>
            <p:nvPr/>
          </p:nvSpPr>
          <p:spPr>
            <a:xfrm>
              <a:off x="3835440" y="298116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57760" y="300024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75040" y="300960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90880" y="302400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71880" y="306036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586728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外国ppt模板</a:t>
            </a: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2:04:19Z</dcterms:created>
  <dc:creator/>
  <dc:description/>
  <cp:keywords>幻灯片之家 http:/www.eeppt.com</cp:keywords>
  <dc:language>en-US</dc:language>
  <cp:lastModifiedBy/>
  <dcterms:modified xsi:type="dcterms:W3CDTF">2015-07-05T03:07:50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