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FD02-2141-4277-AA4A-8AD78BDFA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94D8-D2D0-4125-89E5-377716CE4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D8DC-B705-40FF-B283-965707E67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9F78-E20F-4394-A5DF-61F024646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762120"/>
            <a:ext cx="56386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399B-22C2-4D41-AA3D-C1BD6EFDB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9439-D8F8-48EF-AA11-2D5FFE77B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D644-A013-4518-9621-9D8E8CB86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8943-4680-419D-9109-D18881765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762120"/>
            <a:ext cx="56386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D37F-EFD3-4B33-B686-3C2E46603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AD37-FFF2-485E-B1D4-CC0EC7D9D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68C0-8504-43A5-BDD2-872E4EA05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DA65-1C43-4405-BB69-A4FD1931F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037F-608E-48CF-9865-F5E1570F2AAE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国外简洁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1d528d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0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1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2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38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43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55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58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59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62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6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371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76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77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80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388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393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394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397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0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06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11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12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15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1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24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37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37" idx="3"/>
              <a:endCxn id="438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38" idx="3"/>
              <a:endCxn id="439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523880" y="1295280"/>
            <a:ext cx="6049800" cy="5186520"/>
            <a:chOff x="1523880" y="1295280"/>
            <a:chExt cx="6049800" cy="5186520"/>
          </a:xfrm>
        </p:grpSpPr>
        <p:sp>
          <p:nvSpPr>
            <p:cNvPr id="446" name=""/>
            <p:cNvSpPr/>
            <p:nvPr/>
          </p:nvSpPr>
          <p:spPr>
            <a:xfrm>
              <a:off x="5422680" y="2157120"/>
              <a:ext cx="749520" cy="209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14800" y="3784320"/>
              <a:ext cx="1481040" cy="411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81480" y="5817960"/>
              <a:ext cx="2392200" cy="663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52480" y="44244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3770000">
              <a:off x="4987800" y="373464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0856000">
              <a:off x="2999880" y="32842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938400" y="1978200"/>
              <a:ext cx="1704600" cy="1836000"/>
              <a:chOff x="3938400" y="1978200"/>
              <a:chExt cx="1704600" cy="1836000"/>
            </a:xfrm>
          </p:grpSpPr>
          <p:sp>
            <p:nvSpPr>
              <p:cNvPr id="453" name=""/>
              <p:cNvSpPr/>
              <p:nvPr/>
            </p:nvSpPr>
            <p:spPr>
              <a:xfrm rot="18394200">
                <a:off x="5114160" y="2190960"/>
                <a:ext cx="59616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3938400" y="2224800"/>
                <a:ext cx="1609560" cy="1589400"/>
                <a:chOff x="3938400" y="2224800"/>
                <a:chExt cx="1609560" cy="15894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938400" y="2224800"/>
                  <a:ext cx="1609560" cy="158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122360" y="2251080"/>
                  <a:ext cx="1241640" cy="599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4025160" y="29163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348160" y="1295280"/>
              <a:ext cx="891720" cy="861840"/>
              <a:chOff x="5348160" y="1295280"/>
              <a:chExt cx="891720" cy="86184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5348160" y="1295280"/>
                <a:ext cx="871560" cy="861840"/>
                <a:chOff x="5348160" y="1295280"/>
                <a:chExt cx="871560" cy="8618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348160" y="12952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b9ad9"/>
                    </a:gs>
                    <a:gs pos="100000">
                      <a:srgbClr val="0c45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447520" y="13093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b9a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5368680" y="16272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523880" y="2620800"/>
              <a:ext cx="1744560" cy="1790640"/>
              <a:chOff x="1523880" y="2620800"/>
              <a:chExt cx="1744560" cy="17906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1523880" y="2620800"/>
                <a:ext cx="1744560" cy="1790640"/>
                <a:chOff x="1523880" y="2620800"/>
                <a:chExt cx="1744560" cy="17906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1523880" y="26208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a04e"/>
                    </a:gs>
                    <a:gs pos="100000">
                      <a:srgbClr val="a473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723320" y="26503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4a0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1618200" y="34160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5279760" y="3881160"/>
              <a:ext cx="2013120" cy="1989000"/>
              <a:chOff x="5279760" y="3881160"/>
              <a:chExt cx="2013120" cy="198900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5279760" y="3881160"/>
                <a:ext cx="2013120" cy="1989000"/>
                <a:chOff x="5279760" y="3881160"/>
                <a:chExt cx="2013120" cy="19890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279760" y="38811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376e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509800" y="39139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5568120" y="47430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479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0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481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b9ad9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487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0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493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1b9ad9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838080" y="216540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601200" y="679320"/>
            <a:ext cx="7379280" cy="5581080"/>
            <a:chOff x="601200" y="679320"/>
            <a:chExt cx="7379280" cy="5581080"/>
          </a:xfrm>
        </p:grpSpPr>
        <p:sp>
          <p:nvSpPr>
            <p:cNvPr id="509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9dd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b9ad9"/>
                </a:gs>
                <a:gs pos="100000">
                  <a:srgbClr val="126b9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4081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94923"/>
                </a:gs>
                <a:gs pos="100000">
                  <a:srgbClr val="e4a04e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539200">
              <a:off x="1019520" y="158328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19215"/>
                  </a:srgbClr>
                </a:gs>
                <a:gs pos="100000">
                  <a:srgbClr val="98dc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eting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530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aphicFrame>
          <p:nvGraphicFramePr>
            <p:cNvPr id="531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1b9a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aphicFrame>
          <p:nvGraphicFramePr>
            <p:cNvPr id="537" name=""/>
            <p:cNvGraphicFramePr/>
            <p:nvPr/>
          </p:nvGraphicFramePr>
          <p:xfrm>
            <a:off x="4704120" y="2597400"/>
            <a:ext cx="292860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1d528d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1d528d"/>
                  </a:gs>
                </a:gsLst>
                <a:lin ang="108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66ccff">
                  <a:alpha val="36078"/>
                </a:srgbClr>
              </a:gs>
              <a:gs pos="100000">
                <a:srgbClr val="caec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5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2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09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6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3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cc18d"/>
              </a:gs>
              <a:gs pos="100000">
                <a:srgbClr val="e4a0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dfe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36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37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1627b"/>
                  </a:gs>
                  <a:gs pos="100000">
                    <a:srgbClr val="66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ccff"/>
                  </a:gs>
                  <a:gs pos="100000">
                    <a:srgbClr val="bae7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c46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aedaf0"/>
                </a:gs>
                <a:gs pos="100000">
                  <a:srgbClr val="1b9ad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48235"/>
                  </a:srgbClr>
                </a:gs>
                <a:gs pos="100000">
                  <a:srgbClr val="1579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7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346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830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4a04e"/>
                </a:gs>
                <a:gs pos="100000">
                  <a:srgbClr val="5138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60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4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5e75"/>
                </a:gs>
                <a:gs pos="5000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4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5" name="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cc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6d89"/>
                  </a:gs>
                  <a:gs pos="50000">
                    <a:srgbClr val="66ccff"/>
                  </a:gs>
                  <a:gs pos="100000">
                    <a:srgbClr val="366d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94923"/>
                </a:gs>
                <a:gs pos="50000">
                  <a:srgbClr val="e4a04e"/>
                </a:gs>
                <a:gs pos="100000">
                  <a:srgbClr val="6949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e4a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5e75"/>
                </a:gs>
                <a:gs pos="50000">
                  <a:srgbClr val="66ccff"/>
                </a:gs>
                <a:gs pos="100000">
                  <a:srgbClr val="2f5e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a47338"/>
                </a:gs>
                <a:gs pos="50000">
                  <a:srgbClr val="e4a04e"/>
                </a:gs>
                <a:gs pos="100000">
                  <a:srgbClr val="a473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993b8"/>
                </a:gs>
                <a:gs pos="50000">
                  <a:srgbClr val="66ccff"/>
                </a:gs>
                <a:gs pos="100000">
                  <a:srgbClr val="4993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50000">
                  <a:srgbClr val="969696"/>
                </a:gs>
                <a:gs pos="100000">
                  <a:srgbClr val="6c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36f9c"/>
                </a:gs>
                <a:gs pos="50000">
                  <a:srgbClr val="1b9ad9"/>
                </a:gs>
                <a:gs pos="100000">
                  <a:srgbClr val="136f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1b9ad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4a04e"/>
              </a:gs>
              <a:gs pos="100000">
                <a:srgbClr val="ebbb8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244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250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00520" y="2055960"/>
                <a:ext cx="174312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2895480" y="2743200"/>
            <a:ext cx="3580920" cy="1904040"/>
            <a:chOff x="2895480" y="2743200"/>
            <a:chExt cx="3580920" cy="1904040"/>
          </a:xfrm>
        </p:grpSpPr>
        <p:sp>
          <p:nvSpPr>
            <p:cNvPr id="255" name=""/>
            <p:cNvSpPr/>
            <p:nvPr/>
          </p:nvSpPr>
          <p:spPr>
            <a:xfrm rot="10800000">
              <a:off x="586692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9548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637320" y="2286000"/>
            <a:ext cx="1440000" cy="1440000"/>
            <a:chOff x="6637320" y="2286000"/>
            <a:chExt cx="1440000" cy="1440000"/>
          </a:xfrm>
        </p:grpSpPr>
        <p:sp>
          <p:nvSpPr>
            <p:cNvPr id="261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32720" y="23796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2720" y="23828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94640" y="24433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811920" y="2460600"/>
              <a:ext cx="1090800" cy="1092240"/>
              <a:chOff x="6811920" y="2460600"/>
              <a:chExt cx="1090800" cy="1092240"/>
            </a:xfrm>
          </p:grpSpPr>
          <p:sp>
            <p:nvSpPr>
              <p:cNvPr id="267" name=""/>
              <p:cNvSpPr/>
              <p:nvPr/>
            </p:nvSpPr>
            <p:spPr>
              <a:xfrm>
                <a:off x="6811920" y="24606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37120" y="24771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96160" y="25048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257800" y="4495680"/>
            <a:ext cx="1444680" cy="1523880"/>
            <a:chOff x="5257800" y="4495680"/>
            <a:chExt cx="1444680" cy="1523880"/>
          </a:xfrm>
        </p:grpSpPr>
        <p:sp>
          <p:nvSpPr>
            <p:cNvPr id="273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51400" y="4593960"/>
              <a:ext cx="1257480" cy="132732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4120" y="4572000"/>
              <a:ext cx="1255680" cy="13269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19800" y="4662360"/>
              <a:ext cx="1130400" cy="119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64796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64080" y="4698720"/>
              <a:ext cx="1015920" cy="105264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22760" y="4728960"/>
              <a:ext cx="903600" cy="854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9400" y="50893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284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90680" y="2385000"/>
              <a:ext cx="125676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58000" y="245232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76360" y="2471400"/>
              <a:ext cx="1095840" cy="11545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0040" y="2478600"/>
              <a:ext cx="1068840" cy="11239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1200" y="2489040"/>
              <a:ext cx="101700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295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296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88840" y="4591080"/>
                <a:ext cx="124920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688840" y="4600440"/>
                <a:ext cx="124920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50760" y="4662360"/>
                <a:ext cx="112536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2779560" y="4676760"/>
                <a:ext cx="1090080" cy="1092240"/>
                <a:chOff x="2779560" y="4676760"/>
                <a:chExt cx="1090080" cy="10922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779560" y="4676760"/>
                  <a:ext cx="109008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793240" y="4682880"/>
                  <a:ext cx="106380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04760" y="4693320"/>
                  <a:ext cx="101160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863800" y="4721040"/>
                  <a:ext cx="89928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295128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3:05:53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