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FFEAA-A26B-4565-9CDA-83C340EF3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DDD6-FC2F-47BD-A413-CDEA58F0D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BAE0-398C-4245-BDB7-EA088DCEB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F133-A6C3-494E-8E5E-6D1586D4C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E4B57-4F07-45D2-AFA9-CA82CBFC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14D1-6563-4CEC-A732-1CF7AAE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23E0-A308-41D0-A824-DB312B38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012CB-13CE-4AF9-94BD-21158121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15FD0-8CC6-4C6B-9FE8-05A45FC6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5AD5-9305-4605-9378-5637D4FE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AFF8D-278E-4C86-90EC-9EDBCF9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A9D6-8D17-4904-87CC-9BAEA4477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345B4-8E1A-4558-A8E7-F61C3AED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CA584-133E-4D85-A6FD-53AE275B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A9ABA-AC7A-4F8C-8F04-7AB17236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3FC7-3E0C-4C21-A9A0-0FA213C4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F921-E915-43BC-8F7C-460DCBC3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52C3-34FB-48B5-9CAB-237065298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1D62-15F2-445A-8434-3326B4D78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236A-708B-482D-9BF1-1A8B31841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CBC77-B89B-426B-AF40-E1843134E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491EB-CA0A-4E00-8388-DFA4AA65C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324B-10C0-4318-A473-618ECF4FE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E544-FA51-46DC-B66F-442BD58DF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B322-13D2-49F6-A5F9-E1045A47E28A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AACF-F38E-4A2B-958A-A243CED8C3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简约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355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784b01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8c1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d0a2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5ba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363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366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7a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adb5"/>
                  </a:gs>
                  <a:gs pos="100000">
                    <a:srgbClr val="d2db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dbde"/>
                  </a:gs>
                  <a:gs pos="100000">
                    <a:srgbClr val="97a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bef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372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46031"/>
                </a:gs>
                <a:gs pos="100000">
                  <a:srgbClr val="3ca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374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ca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051"/>
                  </a:gs>
                  <a:gs pos="100000">
                    <a:srgbClr val="cee6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e6d3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051"/>
                </a:gs>
                <a:gs pos="100000">
                  <a:srgbClr val="dae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38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838080" y="23954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25120" y="679320"/>
            <a:ext cx="7378560" cy="5581080"/>
            <a:chOff x="825120" y="679320"/>
            <a:chExt cx="7378560" cy="5581080"/>
          </a:xfrm>
        </p:grpSpPr>
        <p:sp>
          <p:nvSpPr>
            <p:cNvPr id="416" name=""/>
            <p:cNvSpPr/>
            <p:nvPr/>
          </p:nvSpPr>
          <p:spPr>
            <a:xfrm>
              <a:off x="236196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601600">
              <a:off x="1636560" y="23522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601600">
              <a:off x="1693080" y="21906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601600">
              <a:off x="1609560" y="217620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82c18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20602200">
              <a:off x="1658520" y="217656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63ad"/>
                </a:gs>
                <a:gs pos="100000">
                  <a:srgbClr val="1544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601600">
              <a:off x="1616400" y="218736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b6696"/>
                </a:gs>
                <a:gs pos="100000">
                  <a:srgbClr val="5a9be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20602200">
              <a:off x="1626480" y="218592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03c00"/>
                </a:gs>
                <a:gs pos="100000">
                  <a:srgbClr val="d2830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87640" y="36226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5f6d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539200">
              <a:off x="1243440" y="158364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454f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9872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601600">
              <a:off x="3153960" y="29052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445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96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784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35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638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7720" y="417852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ca051">
                    <a:alpha val="19215"/>
                  </a:srgbClr>
                </a:gs>
                <a:gs pos="100000">
                  <a:srgbClr val="7cbe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601600">
              <a:off x="3255840" y="315756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440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447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448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459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1080000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09680" y="2057400"/>
            <a:ext cx="4724280" cy="685800"/>
            <a:chOff x="2209680" y="2057400"/>
            <a:chExt cx="4724280" cy="685800"/>
          </a:xfrm>
        </p:grpSpPr>
        <p:sp>
          <p:nvSpPr>
            <p:cNvPr id="90" name=""/>
            <p:cNvSpPr/>
            <p:nvPr/>
          </p:nvSpPr>
          <p:spPr>
            <a:xfrm>
              <a:off x="259056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05740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16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556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09680" y="2895480"/>
            <a:ext cx="4724280" cy="685800"/>
            <a:chOff x="2209680" y="289548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9056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28954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16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5560" y="29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09680" y="3733920"/>
            <a:ext cx="4724280" cy="685800"/>
            <a:chOff x="2209680" y="373392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9056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73392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1916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5560" y="38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09680" y="4648320"/>
            <a:ext cx="4724280" cy="685800"/>
            <a:chOff x="2209680" y="464832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9056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46483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916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5560" y="474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11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437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91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28302"/>
                </a:gs>
                <a:gs pos="100000">
                  <a:srgbClr val="4a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333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29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30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3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62160" y="2600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2160" y="34275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62160" y="42908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2160" y="509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6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03c00"/>
                </a:gs>
                <a:gs pos="50000">
                  <a:srgbClr val="d28302"/>
                </a:gs>
                <a:gs pos="100000">
                  <a:srgbClr val="60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ca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75e01"/>
                </a:gs>
                <a:gs pos="50000">
                  <a:srgbClr val="d28302"/>
                </a:gs>
                <a:gs pos="100000">
                  <a:srgbClr val="975e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b733a"/>
                </a:gs>
                <a:gs pos="50000">
                  <a:srgbClr val="3ca051"/>
                </a:gs>
                <a:gs pos="100000">
                  <a:srgbClr val="2b73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7a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7d82"/>
                </a:gs>
                <a:gs pos="5000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6477d"/>
                </a:gs>
                <a:gs pos="50000">
                  <a:srgbClr val="1f63ad"/>
                </a:gs>
                <a:gs pos="100000">
                  <a:srgbClr val="1647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3526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90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190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ca051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ca051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1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23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24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26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267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268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271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27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280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28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28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28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29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02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03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06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30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32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32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32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32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333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34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190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350" name=""/>
            <p:cNvCxnSpPr>
              <a:stCxn id="346" idx="3"/>
              <a:endCxn id="347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47" idx="3"/>
              <a:endCxn id="348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35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14:2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