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B565D-C0D2-4841-A074-33D4886B6E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CF41A-D15A-490E-943F-97F3CCD0DB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6E373-747F-4D28-AF2E-CCF440354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0C2E6-B37F-4F7A-8785-0BF20FCB17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47200" y="318960"/>
            <a:ext cx="7162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8F374-D1C4-4C4E-933B-07360BE5EF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9F000-6A9F-483B-8A46-EEC3FC5436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3B870-E44B-4612-9F04-FBF1C9CDF5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ABD96-56E7-40E3-A16A-6D1AA91BAB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47200" y="318960"/>
            <a:ext cx="71629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FD98F-35ED-4BA6-BFFF-826161B16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034AF-A15E-4ECF-904E-A8B9F44892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C3AEB-E434-477B-BE31-2CC13D43EC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7200" y="31032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AB09D-BC82-4219-9DD9-DAD5C898D7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6836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-27000"/>
            <a:ext cx="9144000" cy="692280"/>
          </a:xfrm>
          <a:prstGeom prst="rect">
            <a:avLst/>
          </a:prstGeom>
          <a:solidFill>
            <a:srgbClr val="497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68360" y="6410160"/>
            <a:ext cx="8424720" cy="0"/>
          </a:xfrm>
          <a:prstGeom prst="line">
            <a:avLst/>
          </a:prstGeom>
          <a:ln w="0">
            <a:solidFill>
              <a:srgbClr val="1a3d97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8360" y="233280"/>
            <a:ext cx="7488360" cy="720720"/>
          </a:xfrm>
          <a:prstGeom prst="roundRect">
            <a:avLst>
              <a:gd name="adj" fmla="val 16667"/>
            </a:avLst>
          </a:prstGeom>
          <a:solidFill>
            <a:srgbClr val="23387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6b1e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972b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338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5943240" y="64004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23387d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23387d"/>
                </a:solidFill>
                <a:latin typeface="Verdana"/>
              </a:rPr>
              <a:t>Company 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3657240" y="6386040"/>
            <a:ext cx="2133720" cy="2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23387d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2FDE-ACD3-420D-A4DF-B0F444824119}" type="slidenum">
              <a:rPr b="1" lang="en-US" sz="1000" spc="-1" strike="noStrike">
                <a:solidFill>
                  <a:srgbClr val="23387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"/>
          <p:cNvSpPr/>
          <p:nvPr/>
        </p:nvSpPr>
        <p:spPr>
          <a:xfrm>
            <a:off x="8153280" y="26208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16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rot="5400000">
            <a:off x="8397720" y="-136440"/>
            <a:ext cx="284040" cy="750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091" y="822"/>
                  <a:pt x="4581" y="5080"/>
                  <a:pt x="4581" y="10800"/>
                </a:cubicBezTo>
                <a:cubicBezTo>
                  <a:pt x="4581" y="16520"/>
                  <a:pt x="13091" y="20778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a99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253040" y="0"/>
            <a:ext cx="4890960" cy="4437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9360"/>
            <a:ext cx="1476360" cy="6848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0" y="4266720"/>
            <a:ext cx="9144000" cy="1106640"/>
          </a:xfrm>
          <a:prstGeom prst="rect">
            <a:avLst/>
          </a:prstGeom>
          <a:solidFill>
            <a:srgbClr val="497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74920" y="5156280"/>
            <a:ext cx="7129440" cy="504720"/>
          </a:xfrm>
          <a:prstGeom prst="roundRect">
            <a:avLst>
              <a:gd name="adj" fmla="val 16667"/>
            </a:avLst>
          </a:prstGeom>
          <a:solidFill>
            <a:srgbClr val="23387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354816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87d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23387d"/>
              </a:solidFill>
              <a:latin typeface="Verdana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254480" y="6087960"/>
            <a:ext cx="1079640" cy="605160"/>
            <a:chOff x="4254480" y="6087960"/>
            <a:chExt cx="1079640" cy="605160"/>
          </a:xfrm>
        </p:grpSpPr>
        <p:sp>
          <p:nvSpPr>
            <p:cNvPr id="52" name=""/>
            <p:cNvSpPr/>
            <p:nvPr/>
          </p:nvSpPr>
          <p:spPr>
            <a:xfrm>
              <a:off x="4254480" y="6264000"/>
              <a:ext cx="1079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1a3d97"/>
                  </a:solidFill>
                  <a:latin typeface="Verdana"/>
                </a:rPr>
                <a:t>LOGO</a:t>
              </a:r>
              <a:endParaRPr b="0" lang="en-US" sz="22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5400000">
              <a:off x="4648320" y="579420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6a9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3387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3387d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3387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3387d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387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3387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3387d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387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3387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338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387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3387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3387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387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guowai/" TargetMode="External"/><Relationship Id="rId2" Type="http://schemas.openxmlformats.org/officeDocument/2006/relationships/hyperlink" Target="http://www.eeppt.com/moban/guowai/" TargetMode="Externa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7920" y="365760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3387d"/>
                </a:solidFill>
                <a:latin typeface="Verdana"/>
              </a:rPr>
              <a:t>国外免费</a:t>
            </a:r>
            <a:r>
              <a:rPr b="1" lang="zh-CN" sz="4000" spc="-1" strike="noStrike">
                <a:solidFill>
                  <a:srgbClr val="23387d"/>
                </a:solidFill>
                <a:latin typeface="Verdana"/>
                <a:ea typeface="宋体"/>
              </a:rPr>
              <a:t>PPT</a:t>
            </a:r>
            <a:r>
              <a:rPr b="1" lang="en-US" sz="4000" spc="-1" strike="noStrike">
                <a:solidFill>
                  <a:srgbClr val="23387d"/>
                </a:solidFill>
                <a:latin typeface="Verdana"/>
              </a:rPr>
              <a:t>模板</a:t>
            </a:r>
            <a:endParaRPr b="1" lang="en-US" sz="40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614600" y="5223960"/>
            <a:ext cx="6858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Verdana"/>
              </a:rPr>
              <a:t>http://www.eeppt.com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/>
          <p:nvPr/>
        </p:nvSpPr>
        <p:spPr>
          <a:xfrm>
            <a:off x="144792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96b1e6"/>
              </a:gs>
              <a:gs pos="100000">
                <a:srgbClr val="4972bb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72200" y="3733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a3d97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20876400">
            <a:off x="35449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765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4974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5146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6068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8944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20826600">
            <a:off x="17017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625760" y="3371760"/>
            <a:ext cx="1371240" cy="1441080"/>
            <a:chOff x="1625760" y="3371760"/>
            <a:chExt cx="1371240" cy="1441080"/>
          </a:xfrm>
        </p:grpSpPr>
        <p:sp>
          <p:nvSpPr>
            <p:cNvPr id="344" name=""/>
            <p:cNvSpPr/>
            <p:nvPr/>
          </p:nvSpPr>
          <p:spPr>
            <a:xfrm>
              <a:off x="16257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643760" y="338004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56720" y="339336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728360" y="343008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9062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5238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6002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6128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6239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6779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7971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7907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9131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9224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9289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9653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9833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386000"/>
            <a:ext cx="8381880" cy="4709520"/>
            <a:chOff x="457200" y="1386000"/>
            <a:chExt cx="8381880" cy="4709520"/>
          </a:xfrm>
        </p:grpSpPr>
        <p:sp>
          <p:nvSpPr>
            <p:cNvPr id="363" name=""/>
            <p:cNvSpPr/>
            <p:nvPr/>
          </p:nvSpPr>
          <p:spPr>
            <a:xfrm>
              <a:off x="2590920" y="2133360"/>
              <a:ext cx="4038480" cy="3962160"/>
            </a:xfrm>
            <a:prstGeom prst="ellipse">
              <a:avLst/>
            </a:prstGeom>
            <a:gradFill rotWithShape="0">
              <a:gsLst>
                <a:gs pos="0">
                  <a:srgbClr val="96b1e6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497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3581280" y="3124080"/>
              <a:ext cx="2057400" cy="2133000"/>
              <a:chOff x="3581280" y="3124080"/>
              <a:chExt cx="2057400" cy="2133000"/>
            </a:xfrm>
          </p:grpSpPr>
          <p:sp>
            <p:nvSpPr>
              <p:cNvPr id="365" name=""/>
              <p:cNvSpPr/>
              <p:nvPr/>
            </p:nvSpPr>
            <p:spPr>
              <a:xfrm>
                <a:off x="3581280" y="3124080"/>
                <a:ext cx="2057400" cy="213300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9360">
                <a:solidFill>
                  <a:srgbClr val="2338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816360" y="3159360"/>
                <a:ext cx="1587240" cy="80496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367" name=""/>
            <p:cNvSpPr/>
            <p:nvPr/>
          </p:nvSpPr>
          <p:spPr>
            <a:xfrm>
              <a:off x="3952080" y="396216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23387d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4191120" y="1752480"/>
              <a:ext cx="685800" cy="658440"/>
              <a:chOff x="4191120" y="1752480"/>
              <a:chExt cx="685800" cy="658440"/>
            </a:xfrm>
          </p:grpSpPr>
          <p:grpSp>
            <p:nvGrpSpPr>
              <p:cNvPr id="369" name=""/>
              <p:cNvGrpSpPr/>
              <p:nvPr/>
            </p:nvGrpSpPr>
            <p:grpSpPr>
              <a:xfrm>
                <a:off x="4191120" y="1752480"/>
                <a:ext cx="685800" cy="658440"/>
                <a:chOff x="4191120" y="1752480"/>
                <a:chExt cx="685800" cy="65844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4191120" y="1752480"/>
                  <a:ext cx="685800" cy="65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99d8"/>
                    </a:gs>
                    <a:gs pos="100000">
                      <a:srgbClr val="2c405b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269240" y="1763280"/>
                  <a:ext cx="529200" cy="24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a99d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2" name=""/>
              <p:cNvSpPr/>
              <p:nvPr/>
            </p:nvSpPr>
            <p:spPr>
              <a:xfrm>
                <a:off x="4356000" y="1853640"/>
                <a:ext cx="38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B</a:t>
                </a:r>
                <a:endParaRPr b="0" lang="en-US" sz="24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3524760" y="5037840"/>
              <a:ext cx="368280" cy="334080"/>
              <a:chOff x="3524760" y="5037840"/>
              <a:chExt cx="368280" cy="334080"/>
            </a:xfrm>
          </p:grpSpPr>
          <p:sp>
            <p:nvSpPr>
              <p:cNvPr id="374" name=""/>
              <p:cNvSpPr/>
              <p:nvPr/>
            </p:nvSpPr>
            <p:spPr>
              <a:xfrm rot="18226800">
                <a:off x="3553560" y="5208840"/>
                <a:ext cx="131040" cy="139320"/>
              </a:xfrm>
              <a:prstGeom prst="ellipse">
                <a:avLst/>
              </a:prstGeom>
              <a:gradFill rotWithShape="0">
                <a:gsLst>
                  <a:gs pos="0">
                    <a:srgbClr val="99c25c"/>
                  </a:gs>
                  <a:gs pos="100000">
                    <a:srgbClr val="65803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18226800">
                <a:off x="3732480" y="5061240"/>
                <a:ext cx="131400" cy="139320"/>
              </a:xfrm>
              <a:prstGeom prst="ellipse">
                <a:avLst/>
              </a:prstGeom>
              <a:gradFill rotWithShape="0">
                <a:gsLst>
                  <a:gs pos="0">
                    <a:srgbClr val="99c25c"/>
                  </a:gs>
                  <a:gs pos="100000">
                    <a:srgbClr val="65803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2895480" y="5329080"/>
              <a:ext cx="685800" cy="685440"/>
              <a:chOff x="2895480" y="5329080"/>
              <a:chExt cx="685800" cy="685440"/>
            </a:xfrm>
          </p:grpSpPr>
          <p:grpSp>
            <p:nvGrpSpPr>
              <p:cNvPr id="377" name=""/>
              <p:cNvGrpSpPr/>
              <p:nvPr/>
            </p:nvGrpSpPr>
            <p:grpSpPr>
              <a:xfrm>
                <a:off x="2895480" y="5329080"/>
                <a:ext cx="685800" cy="685440"/>
                <a:chOff x="2895480" y="5329080"/>
                <a:chExt cx="685800" cy="68544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2895480" y="5329080"/>
                  <a:ext cx="685800" cy="685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25c"/>
                    </a:gs>
                    <a:gs pos="100000">
                      <a:srgbClr val="252e16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973600" y="5340240"/>
                  <a:ext cx="529200" cy="258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2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0" name=""/>
              <p:cNvSpPr/>
              <p:nvPr/>
            </p:nvSpPr>
            <p:spPr>
              <a:xfrm>
                <a:off x="3053880" y="5457240"/>
                <a:ext cx="35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E</a:t>
                </a:r>
                <a:endParaRPr b="0" lang="en-US" sz="24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6251400" y="3124080"/>
              <a:ext cx="682560" cy="693360"/>
              <a:chOff x="6251400" y="3124080"/>
              <a:chExt cx="682560" cy="69336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6251400" y="3124080"/>
                <a:ext cx="682560" cy="693360"/>
                <a:chOff x="6251400" y="3124080"/>
                <a:chExt cx="682560" cy="69336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6251400" y="3124080"/>
                  <a:ext cx="682560" cy="69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b1e6"/>
                    </a:gs>
                    <a:gs pos="100000">
                      <a:srgbClr val="c1d1e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329160" y="3135240"/>
                  <a:ext cx="526680" cy="261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b1e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"/>
              <p:cNvSpPr/>
              <p:nvPr/>
            </p:nvSpPr>
            <p:spPr>
              <a:xfrm>
                <a:off x="6396840" y="3219120"/>
                <a:ext cx="37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C</a:t>
                </a:r>
                <a:endParaRPr b="0" lang="en-US" sz="24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5638680" y="5333760"/>
              <a:ext cx="654120" cy="622080"/>
              <a:chOff x="5638680" y="5333760"/>
              <a:chExt cx="654120" cy="622080"/>
            </a:xfrm>
          </p:grpSpPr>
          <p:grpSp>
            <p:nvGrpSpPr>
              <p:cNvPr id="387" name=""/>
              <p:cNvGrpSpPr/>
              <p:nvPr/>
            </p:nvGrpSpPr>
            <p:grpSpPr>
              <a:xfrm>
                <a:off x="5638680" y="5333760"/>
                <a:ext cx="654120" cy="622080"/>
                <a:chOff x="5638680" y="5333760"/>
                <a:chExt cx="654120" cy="62208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5638680" y="5333760"/>
                  <a:ext cx="65412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646464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5713200" y="5343840"/>
                  <a:ext cx="504720" cy="2347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>
                <a:off x="5794920" y="5366880"/>
                <a:ext cx="40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D</a:t>
                </a:r>
                <a:endParaRPr b="0" lang="en-US" sz="24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2362320" y="3124080"/>
              <a:ext cx="685800" cy="685440"/>
              <a:chOff x="2362320" y="3124080"/>
              <a:chExt cx="685800" cy="68544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2362320" y="3124080"/>
                <a:ext cx="685800" cy="685440"/>
                <a:chOff x="2362320" y="3124080"/>
                <a:chExt cx="685800" cy="68544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2362320" y="3124080"/>
                  <a:ext cx="685800" cy="685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972bb"/>
                    </a:gs>
                    <a:gs pos="100000">
                      <a:srgbClr val="213354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440440" y="3135240"/>
                  <a:ext cx="529200" cy="2584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972b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5" name=""/>
              <p:cNvSpPr/>
              <p:nvPr/>
            </p:nvSpPr>
            <p:spPr>
              <a:xfrm>
                <a:off x="2523240" y="3200040"/>
                <a:ext cx="390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</a:rPr>
                  <a:t>A</a:t>
                </a:r>
                <a:endParaRPr b="0" lang="en-US" sz="24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 rot="18226800">
              <a:off x="5563440" y="5173920"/>
              <a:ext cx="129600" cy="137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18226800">
              <a:off x="5411160" y="5020920"/>
              <a:ext cx="129960" cy="137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92929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3099240" y="3553560"/>
              <a:ext cx="416160" cy="261000"/>
              <a:chOff x="3099240" y="3553560"/>
              <a:chExt cx="416160" cy="261000"/>
            </a:xfrm>
          </p:grpSpPr>
          <p:sp>
            <p:nvSpPr>
              <p:cNvPr id="399" name=""/>
              <p:cNvSpPr/>
              <p:nvPr/>
            </p:nvSpPr>
            <p:spPr>
              <a:xfrm rot="18226800">
                <a:off x="3127680" y="3577320"/>
                <a:ext cx="132120" cy="139320"/>
              </a:xfrm>
              <a:prstGeom prst="ellipse">
                <a:avLst/>
              </a:prstGeom>
              <a:gradFill rotWithShape="0">
                <a:gsLst>
                  <a:gs pos="0">
                    <a:srgbClr val="4972bb"/>
                  </a:gs>
                  <a:gs pos="100000">
                    <a:srgbClr val="29416b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8226800">
                <a:off x="3354840" y="3651120"/>
                <a:ext cx="131760" cy="139320"/>
              </a:xfrm>
              <a:prstGeom prst="ellipse">
                <a:avLst/>
              </a:prstGeom>
              <a:gradFill rotWithShape="0">
                <a:gsLst>
                  <a:gs pos="0">
                    <a:srgbClr val="4972bb"/>
                  </a:gs>
                  <a:gs pos="100000">
                    <a:srgbClr val="23375a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4470840" y="2531520"/>
              <a:ext cx="187920" cy="466920"/>
              <a:chOff x="4470840" y="2531520"/>
              <a:chExt cx="187920" cy="466920"/>
            </a:xfrm>
          </p:grpSpPr>
          <p:sp>
            <p:nvSpPr>
              <p:cNvPr id="402" name=""/>
              <p:cNvSpPr/>
              <p:nvPr/>
            </p:nvSpPr>
            <p:spPr>
              <a:xfrm rot="18226800">
                <a:off x="4498920" y="2555280"/>
                <a:ext cx="131040" cy="138240"/>
              </a:xfrm>
              <a:prstGeom prst="ellipse">
                <a:avLst/>
              </a:prstGeom>
              <a:gradFill rotWithShape="0">
                <a:gsLst>
                  <a:gs pos="0">
                    <a:srgbClr val="6a99d8"/>
                  </a:gs>
                  <a:gs pos="100000">
                    <a:srgbClr val="30456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8226800">
                <a:off x="4498920" y="2836080"/>
                <a:ext cx="131040" cy="138240"/>
              </a:xfrm>
              <a:prstGeom prst="ellipse">
                <a:avLst/>
              </a:prstGeom>
              <a:gradFill rotWithShape="0">
                <a:gsLst>
                  <a:gs pos="0">
                    <a:srgbClr val="6a99d8"/>
                  </a:gs>
                  <a:gs pos="100000">
                    <a:srgbClr val="334a6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 rot="18226800">
              <a:off x="5963400" y="360180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aec3eb"/>
                </a:gs>
                <a:gs pos="100000">
                  <a:srgbClr val="96b1e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18226800">
              <a:off x="5715720" y="3725640"/>
              <a:ext cx="129960" cy="138240"/>
            </a:xfrm>
            <a:prstGeom prst="ellipse">
              <a:avLst/>
            </a:prstGeom>
            <a:gradFill rotWithShape="0">
              <a:gsLst>
                <a:gs pos="0">
                  <a:srgbClr val="aec3eb"/>
                </a:gs>
                <a:gs pos="100000">
                  <a:srgbClr val="96b1e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57200" y="3276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a3d97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81280" y="138600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a3d97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934320" y="329076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a3d97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38080" y="5562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a3d97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324480" y="5562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a3d97"/>
                  </a:solidFill>
                  <a:latin typeface="Arial"/>
                </a:rPr>
                <a:t>Add Your 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609480" y="6477120"/>
            <a:ext cx="6078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6b1e6"/>
                </a:solidFill>
                <a:uFillTx/>
                <a:latin typeface="Arial"/>
                <a:hlinkClick r:id="rId1"/>
              </a:rPr>
              <a:t>国外ppt模板下载</a:t>
            </a:r>
            <a:r>
              <a:rPr b="0" lang="zh-CN" sz="1800" spc="-1" strike="noStrike">
                <a:solidFill>
                  <a:srgbClr val="23387d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96b1e6"/>
                </a:solidFill>
                <a:uFillTx/>
                <a:latin typeface="Arial"/>
                <a:hlinkClick r:id="rId2"/>
              </a:rPr>
              <a:t>http://www.eeppt.com/moban/guowai/</a:t>
            </a: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414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421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429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443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448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459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4721760" y="3529440"/>
            <a:ext cx="1523160" cy="2421720"/>
            <a:chOff x="4721760" y="3529440"/>
            <a:chExt cx="1523160" cy="2421720"/>
          </a:xfrm>
        </p:grpSpPr>
        <p:grpSp>
          <p:nvGrpSpPr>
            <p:cNvPr id="462" name=""/>
            <p:cNvGrpSpPr/>
            <p:nvPr/>
          </p:nvGrpSpPr>
          <p:grpSpPr>
            <a:xfrm>
              <a:off x="4721760" y="3686760"/>
              <a:ext cx="1418400" cy="2264400"/>
              <a:chOff x="4721760" y="3686760"/>
              <a:chExt cx="1418400" cy="2264400"/>
            </a:xfrm>
          </p:grpSpPr>
          <p:sp>
            <p:nvSpPr>
              <p:cNvPr id="463" name=""/>
              <p:cNvSpPr/>
              <p:nvPr/>
            </p:nvSpPr>
            <p:spPr>
              <a:xfrm rot="3876600">
                <a:off x="429408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3876600">
                <a:off x="56599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5156640" y="3529440"/>
              <a:ext cx="1088280" cy="1737360"/>
              <a:chOff x="5156640" y="3529440"/>
              <a:chExt cx="1088280" cy="1737360"/>
            </a:xfrm>
          </p:grpSpPr>
          <p:sp>
            <p:nvSpPr>
              <p:cNvPr id="466" name=""/>
              <p:cNvSpPr/>
              <p:nvPr/>
            </p:nvSpPr>
            <p:spPr>
              <a:xfrm flipV="1" rot="3876600">
                <a:off x="482832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 rot="3876600">
                <a:off x="586116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</p:grpSp>
      <p:grpSp>
        <p:nvGrpSpPr>
          <p:cNvPr id="468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469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397040" y="277092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397040" y="277380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451760" y="2828880"/>
              <a:ext cx="99252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4466880" y="2844360"/>
              <a:ext cx="961920" cy="992160"/>
              <a:chOff x="4466880" y="2844360"/>
              <a:chExt cx="961920" cy="992160"/>
            </a:xfrm>
          </p:grpSpPr>
          <p:sp>
            <p:nvSpPr>
              <p:cNvPr id="475" name=""/>
              <p:cNvSpPr/>
              <p:nvPr/>
            </p:nvSpPr>
            <p:spPr>
              <a:xfrm>
                <a:off x="4466880" y="2844360"/>
                <a:ext cx="96192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79120" y="2849760"/>
                <a:ext cx="93888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488840" y="2859120"/>
                <a:ext cx="89280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541400" y="2884680"/>
                <a:ext cx="79344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</p:grpSp>
      <p:grpSp>
        <p:nvGrpSpPr>
          <p:cNvPr id="479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480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481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3876600">
                <a:off x="762732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484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 rot="3876600">
                <a:off x="7828560" y="49564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492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29028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2916720" y="3529440"/>
            <a:ext cx="1523160" cy="2421720"/>
            <a:chOff x="2916720" y="3529440"/>
            <a:chExt cx="1523160" cy="2421720"/>
          </a:xfrm>
        </p:grpSpPr>
        <p:grpSp>
          <p:nvGrpSpPr>
            <p:cNvPr id="497" name=""/>
            <p:cNvGrpSpPr/>
            <p:nvPr/>
          </p:nvGrpSpPr>
          <p:grpSpPr>
            <a:xfrm>
              <a:off x="2916720" y="3686760"/>
              <a:ext cx="1418400" cy="2264400"/>
              <a:chOff x="2916720" y="3686760"/>
              <a:chExt cx="1418400" cy="2264400"/>
            </a:xfrm>
          </p:grpSpPr>
          <p:sp>
            <p:nvSpPr>
              <p:cNvPr id="498" name=""/>
              <p:cNvSpPr/>
              <p:nvPr/>
            </p:nvSpPr>
            <p:spPr>
              <a:xfrm rot="3876600">
                <a:off x="248904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3876600">
                <a:off x="3854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3351600" y="3529440"/>
              <a:ext cx="1088280" cy="1737360"/>
              <a:chOff x="3351600" y="3529440"/>
              <a:chExt cx="1088280" cy="1737360"/>
            </a:xfrm>
          </p:grpSpPr>
          <p:sp>
            <p:nvSpPr>
              <p:cNvPr id="501" name=""/>
              <p:cNvSpPr/>
              <p:nvPr/>
            </p:nvSpPr>
            <p:spPr>
              <a:xfrm flipV="1" rot="3876600">
                <a:off x="302328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 rot="3876600">
                <a:off x="405612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</p:grpSp>
      <p:grpSp>
        <p:nvGrpSpPr>
          <p:cNvPr id="503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504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5938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5938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6481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2663640" y="2844360"/>
              <a:ext cx="960480" cy="992160"/>
              <a:chOff x="2663640" y="2844360"/>
              <a:chExt cx="960480" cy="992160"/>
            </a:xfrm>
          </p:grpSpPr>
          <p:sp>
            <p:nvSpPr>
              <p:cNvPr id="510" name=""/>
              <p:cNvSpPr/>
              <p:nvPr/>
            </p:nvSpPr>
            <p:spPr>
              <a:xfrm>
                <a:off x="26636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6758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6856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7378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</p:grpSp>
      <p:grpSp>
        <p:nvGrpSpPr>
          <p:cNvPr id="514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515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516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rot="3876600">
                <a:off x="210924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519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 rot="3876600">
                <a:off x="2310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</p:grpSp>
      <p:grpSp>
        <p:nvGrpSpPr>
          <p:cNvPr id="521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522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460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460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9003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915840" y="2844360"/>
              <a:ext cx="960480" cy="992160"/>
              <a:chOff x="915840" y="2844360"/>
              <a:chExt cx="960480" cy="992160"/>
            </a:xfrm>
          </p:grpSpPr>
          <p:sp>
            <p:nvSpPr>
              <p:cNvPr id="528" name=""/>
              <p:cNvSpPr/>
              <p:nvPr/>
            </p:nvSpPr>
            <p:spPr>
              <a:xfrm>
                <a:off x="9158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9280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9378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9900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</p:grpSp>
      <p:sp>
        <p:nvSpPr>
          <p:cNvPr id="532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38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38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38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387d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1101600" y="1828800"/>
            <a:ext cx="6056640" cy="407880"/>
            <a:chOff x="1101600" y="1828800"/>
            <a:chExt cx="6056640" cy="407880"/>
          </a:xfrm>
        </p:grpSpPr>
        <p:sp>
          <p:nvSpPr>
            <p:cNvPr id="541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3d97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3d97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01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3d97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39216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a3d97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23387d"/>
                </a:solidFill>
                <a:latin typeface="Arial"/>
              </a:endParaRPr>
            </a:p>
          </p:txBody>
        </p:sp>
        <p:cxnSp>
          <p:nvCxnSpPr>
            <p:cNvPr id="545" name=""/>
            <p:cNvCxnSpPr>
              <a:stCxn id="541" idx="3"/>
              <a:endCxn id="542" idx="1"/>
            </p:cNvCxnSpPr>
            <p:nvPr/>
          </p:nvCxnSpPr>
          <p:spPr>
            <a:xfrm>
              <a:off x="1837800" y="2052360"/>
              <a:ext cx="986760" cy="1080"/>
            </a:xfrm>
            <a:prstGeom prst="straightConnector1">
              <a:avLst/>
            </a:prstGeom>
            <a:ln w="9360">
              <a:solidFill>
                <a:srgbClr val="1a3d97"/>
              </a:solidFill>
              <a:miter/>
              <a:tailEnd len="med" type="triangle" w="med"/>
            </a:ln>
          </p:spPr>
        </p:cxnSp>
        <p:cxnSp>
          <p:nvCxnSpPr>
            <p:cNvPr id="546" name=""/>
            <p:cNvCxnSpPr>
              <a:stCxn id="542" idx="3"/>
              <a:endCxn id="543" idx="1"/>
            </p:cNvCxnSpPr>
            <p:nvPr/>
          </p:nvCxnSpPr>
          <p:spPr>
            <a:xfrm>
              <a:off x="3592440" y="2052360"/>
              <a:ext cx="978480" cy="1080"/>
            </a:xfrm>
            <a:prstGeom prst="straightConnector1">
              <a:avLst/>
            </a:prstGeom>
            <a:ln w="9360">
              <a:solidFill>
                <a:srgbClr val="1a3d97"/>
              </a:solidFill>
              <a:miter/>
              <a:tailEnd len="med" type="triangle" w="med"/>
            </a:ln>
          </p:spPr>
        </p:cxnSp>
        <p:cxnSp>
          <p:nvCxnSpPr>
            <p:cNvPr id="547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1a3d97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"/>
          <p:cNvGrpSpPr/>
          <p:nvPr/>
        </p:nvGrpSpPr>
        <p:grpSpPr>
          <a:xfrm>
            <a:off x="512280" y="563400"/>
            <a:ext cx="7379280" cy="5581080"/>
            <a:chOff x="512280" y="563400"/>
            <a:chExt cx="7379280" cy="5581080"/>
          </a:xfrm>
        </p:grpSpPr>
        <p:sp>
          <p:nvSpPr>
            <p:cNvPr id="549" name=""/>
            <p:cNvSpPr/>
            <p:nvPr/>
          </p:nvSpPr>
          <p:spPr>
            <a:xfrm>
              <a:off x="2138400" y="4465800"/>
              <a:ext cx="5562720" cy="13255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2b2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20601600">
              <a:off x="1413000" y="2352240"/>
              <a:ext cx="576252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0601600">
              <a:off x="1469520" y="2190600"/>
              <a:ext cx="556272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20601600">
              <a:off x="1385640" y="21762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96b1e6"/>
                </a:gs>
                <a:gs pos="100000">
                  <a:srgbClr val="bbccee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 rot="20602200">
              <a:off x="1434960" y="2176200"/>
              <a:ext cx="564336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4972bb"/>
                </a:gs>
                <a:gs pos="100000">
                  <a:srgbClr val="324f82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20601600">
              <a:off x="1392840" y="218736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d1ddf3"/>
                </a:gs>
                <a:gs pos="100000">
                  <a:srgbClr val="96b1e6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 rot="20602200">
              <a:off x="1403280" y="2185920"/>
              <a:ext cx="5702040" cy="293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304663"/>
                </a:gs>
                <a:gs pos="100000">
                  <a:srgbClr val="6a99d8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20601600">
              <a:off x="2930400" y="2904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213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26440" y="236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6552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1406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394160" y="4178520"/>
              <a:ext cx="863640" cy="107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96b1e6">
                    <a:alpha val="19215"/>
                  </a:srgbClr>
                </a:gs>
                <a:gs pos="100000">
                  <a:srgbClr val="b8ca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56080" y="3506760"/>
              <a:ext cx="1773360" cy="1776600"/>
            </a:xfrm>
            <a:custGeom>
              <a:avLst/>
              <a:gdLst/>
              <a:ahLst/>
              <a:rect l="l" t="t" r="r" b="b"/>
              <a:pathLst>
                <a:path w="1117" h="1119">
                  <a:moveTo>
                    <a:pt x="21" y="888"/>
                  </a:moveTo>
                  <a:lnTo>
                    <a:pt x="1117" y="0"/>
                  </a:lnTo>
                  <a:lnTo>
                    <a:pt x="1093" y="256"/>
                  </a:lnTo>
                  <a:cubicBezTo>
                    <a:pt x="1026" y="373"/>
                    <a:pt x="896" y="560"/>
                    <a:pt x="717" y="704"/>
                  </a:cubicBezTo>
                  <a:cubicBezTo>
                    <a:pt x="538" y="848"/>
                    <a:pt x="133" y="1088"/>
                    <a:pt x="17" y="1119"/>
                  </a:cubicBezTo>
                  <a:cubicBezTo>
                    <a:pt x="0" y="1037"/>
                    <a:pt x="21" y="888"/>
                    <a:pt x="21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25c"/>
                </a:gs>
                <a:gs pos="100000">
                  <a:srgbClr val="b4d1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20539200">
              <a:off x="930600" y="1467360"/>
              <a:ext cx="6542640" cy="377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576f34"/>
                </a:gs>
                <a:gs pos="100000">
                  <a:srgbClr val="99c25c"/>
                </a:gs>
              </a:gsLst>
              <a:lin ang="118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491000" y="3983040"/>
              <a:ext cx="924120" cy="1311480"/>
            </a:xfrm>
            <a:custGeom>
              <a:avLst/>
              <a:gdLst/>
              <a:ahLst/>
              <a:rect l="l" t="t" r="r" b="b"/>
              <a:pathLst>
                <a:path w="582" h="826">
                  <a:moveTo>
                    <a:pt x="582" y="572"/>
                  </a:moveTo>
                  <a:lnTo>
                    <a:pt x="562" y="826"/>
                  </a:lnTo>
                  <a:lnTo>
                    <a:pt x="0" y="42"/>
                  </a:lnTo>
                  <a:lnTo>
                    <a:pt x="90" y="0"/>
                  </a:lnTo>
                  <a:lnTo>
                    <a:pt x="582" y="572"/>
                  </a:lnTo>
                  <a:close/>
                </a:path>
              </a:pathLst>
            </a:custGeom>
            <a:gradFill rotWithShape="0">
              <a:gsLst>
                <a:gs pos="0">
                  <a:srgbClr val="bdd796"/>
                </a:gs>
                <a:gs pos="100000">
                  <a:srgbClr val="99c25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20601600">
              <a:off x="3032280" y="3157560"/>
              <a:ext cx="2585880" cy="109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383800" y="3900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4972bb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a3d97"/>
              </a:gs>
              <a:gs pos="50000">
                <a:srgbClr val="6b81bb"/>
              </a:gs>
              <a:gs pos="100000">
                <a:srgbClr val="1a3d97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3387d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23387d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914400" y="4235400"/>
            <a:ext cx="1579680" cy="2070000"/>
            <a:chOff x="914400" y="4235400"/>
            <a:chExt cx="1579680" cy="2070000"/>
          </a:xfrm>
        </p:grpSpPr>
        <p:grpSp>
          <p:nvGrpSpPr>
            <p:cNvPr id="573" name=""/>
            <p:cNvGrpSpPr/>
            <p:nvPr/>
          </p:nvGrpSpPr>
          <p:grpSpPr>
            <a:xfrm>
              <a:off x="914400" y="4235400"/>
              <a:ext cx="1486080" cy="1514520"/>
              <a:chOff x="914400" y="4235400"/>
              <a:chExt cx="1486080" cy="1514520"/>
            </a:xfrm>
          </p:grpSpPr>
          <p:grpSp>
            <p:nvGrpSpPr>
              <p:cNvPr id="574" name=""/>
              <p:cNvGrpSpPr/>
              <p:nvPr/>
            </p:nvGrpSpPr>
            <p:grpSpPr>
              <a:xfrm>
                <a:off x="914400" y="4235400"/>
                <a:ext cx="1486080" cy="1514520"/>
                <a:chOff x="914400" y="4235400"/>
                <a:chExt cx="1486080" cy="151452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914400" y="423540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99d8"/>
                    </a:gs>
                    <a:gs pos="100000">
                      <a:srgbClr val="43608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1084320" y="426024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a99d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7" name=""/>
              <p:cNvSpPr/>
              <p:nvPr/>
            </p:nvSpPr>
            <p:spPr>
              <a:xfrm>
                <a:off x="1072440" y="500652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578" name=""/>
            <p:cNvSpPr/>
            <p:nvPr/>
          </p:nvSpPr>
          <p:spPr>
            <a:xfrm>
              <a:off x="914400" y="586728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2819520" y="4235400"/>
            <a:ext cx="1617120" cy="2070000"/>
            <a:chOff x="2819520" y="4235400"/>
            <a:chExt cx="1617120" cy="2070000"/>
          </a:xfrm>
        </p:grpSpPr>
        <p:grpSp>
          <p:nvGrpSpPr>
            <p:cNvPr id="580" name=""/>
            <p:cNvGrpSpPr/>
            <p:nvPr/>
          </p:nvGrpSpPr>
          <p:grpSpPr>
            <a:xfrm>
              <a:off x="2819520" y="4235400"/>
              <a:ext cx="1523520" cy="1521000"/>
              <a:chOff x="2819520" y="4235400"/>
              <a:chExt cx="1523520" cy="1521000"/>
            </a:xfrm>
          </p:grpSpPr>
          <p:sp>
            <p:nvSpPr>
              <p:cNvPr id="581" name=""/>
              <p:cNvSpPr/>
              <p:nvPr/>
            </p:nvSpPr>
            <p:spPr>
              <a:xfrm>
                <a:off x="2819520" y="4235400"/>
                <a:ext cx="1523520" cy="1521000"/>
              </a:xfrm>
              <a:prstGeom prst="ellipse">
                <a:avLst/>
              </a:prstGeom>
              <a:gradFill rotWithShape="0">
                <a:gsLst>
                  <a:gs pos="0">
                    <a:srgbClr val="96b1e6"/>
                  </a:gs>
                  <a:gs pos="100000">
                    <a:srgbClr val="4c5a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993400" y="426060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6b1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2895480" y="496548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857320" y="586728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4876920" y="4191120"/>
            <a:ext cx="1631880" cy="2113920"/>
            <a:chOff x="4876920" y="4191120"/>
            <a:chExt cx="1631880" cy="2113920"/>
          </a:xfrm>
        </p:grpSpPr>
        <p:grpSp>
          <p:nvGrpSpPr>
            <p:cNvPr id="586" name=""/>
            <p:cNvGrpSpPr/>
            <p:nvPr/>
          </p:nvGrpSpPr>
          <p:grpSpPr>
            <a:xfrm>
              <a:off x="4876920" y="4191120"/>
              <a:ext cx="1523880" cy="1520640"/>
              <a:chOff x="4876920" y="4191120"/>
              <a:chExt cx="1523880" cy="1520640"/>
            </a:xfrm>
          </p:grpSpPr>
          <p:sp>
            <p:nvSpPr>
              <p:cNvPr id="587" name=""/>
              <p:cNvSpPr/>
              <p:nvPr/>
            </p:nvSpPr>
            <p:spPr>
              <a:xfrm>
                <a:off x="4876920" y="4191120"/>
                <a:ext cx="1523880" cy="1520640"/>
              </a:xfrm>
              <a:prstGeom prst="ellipse">
                <a:avLst/>
              </a:prstGeom>
              <a:gradFill rotWithShape="0">
                <a:gsLst>
                  <a:gs pos="0">
                    <a:srgbClr val="4972bb"/>
                  </a:gs>
                  <a:gs pos="100000">
                    <a:srgbClr val="253a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051160" y="421632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4972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4953240" y="49208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929480" y="5867280"/>
              <a:ext cx="157932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6781680" y="4191120"/>
            <a:ext cx="1579680" cy="2113920"/>
            <a:chOff x="6781680" y="4191120"/>
            <a:chExt cx="1579680" cy="2113920"/>
          </a:xfrm>
        </p:grpSpPr>
        <p:grpSp>
          <p:nvGrpSpPr>
            <p:cNvPr id="592" name=""/>
            <p:cNvGrpSpPr/>
            <p:nvPr/>
          </p:nvGrpSpPr>
          <p:grpSpPr>
            <a:xfrm>
              <a:off x="6781680" y="4191120"/>
              <a:ext cx="1523880" cy="1531440"/>
              <a:chOff x="6781680" y="4191120"/>
              <a:chExt cx="1523880" cy="1531440"/>
            </a:xfrm>
          </p:grpSpPr>
          <p:grpSp>
            <p:nvGrpSpPr>
              <p:cNvPr id="593" name=""/>
              <p:cNvGrpSpPr/>
              <p:nvPr/>
            </p:nvGrpSpPr>
            <p:grpSpPr>
              <a:xfrm>
                <a:off x="6781680" y="4191120"/>
                <a:ext cx="1523880" cy="1531440"/>
                <a:chOff x="6781680" y="4191120"/>
                <a:chExt cx="1523880" cy="153144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6781680" y="4191120"/>
                  <a:ext cx="1523880" cy="153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25c"/>
                    </a:gs>
                    <a:gs pos="100000">
                      <a:srgbClr val="252e1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6955920" y="4216320"/>
                  <a:ext cx="1175400" cy="5778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25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6" name=""/>
              <p:cNvSpPr/>
              <p:nvPr/>
            </p:nvSpPr>
            <p:spPr>
              <a:xfrm>
                <a:off x="6924600" y="490500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597" name=""/>
            <p:cNvSpPr/>
            <p:nvPr/>
          </p:nvSpPr>
          <p:spPr>
            <a:xfrm>
              <a:off x="6781680" y="5867280"/>
              <a:ext cx="1579680" cy="437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 txBox="1"/>
          <p:nvPr/>
        </p:nvSpPr>
        <p:spPr>
          <a:xfrm>
            <a:off x="1600200" y="4386240"/>
            <a:ext cx="548640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4972bb"/>
                    </a:gs>
                    <a:gs pos="100000">
                      <a:srgbClr val="96b1e6"/>
                    </a:gs>
                  </a:gsLst>
                  <a:lin ang="10800000"/>
                </a:gradFill>
                <a:effectLst>
                  <a:outerShdw dist="89604" dir="2700000" blurRad="0" rotWithShape="0">
                    <a:srgbClr val="1a3d97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4972bb"/>
                  </a:gs>
                  <a:gs pos="100000">
                    <a:srgbClr val="96b1e6"/>
                  </a:gs>
                </a:gsLst>
                <a:lin ang="10800000"/>
              </a:gradFill>
              <a:effectLst>
                <a:outerShdw dist="89604" dir="2700000" blurRad="0" rotWithShape="0">
                  <a:srgbClr val="1a3d97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96b1e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3387d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3387d"/>
              </a:solidFill>
              <a:latin typeface="Verdana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3387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C0FEE-F226-458C-9C4A-332B3A3384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2359080"/>
            <a:ext cx="4800600" cy="0"/>
          </a:xfrm>
          <a:prstGeom prst="line">
            <a:avLst/>
          </a:prstGeom>
          <a:ln w="25560">
            <a:solidFill>
              <a:srgbClr val="5f5f5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928880" y="2214720"/>
            <a:ext cx="258480" cy="258480"/>
            <a:chOff x="1928880" y="2214720"/>
            <a:chExt cx="258480" cy="258480"/>
          </a:xfrm>
        </p:grpSpPr>
        <p:sp>
          <p:nvSpPr>
            <p:cNvPr id="96" name=""/>
            <p:cNvSpPr/>
            <p:nvPr/>
          </p:nvSpPr>
          <p:spPr>
            <a:xfrm rot="2700000">
              <a:off x="1966680" y="2252520"/>
              <a:ext cx="182520" cy="182520"/>
            </a:xfrm>
            <a:prstGeom prst="rtTriangl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18900000">
              <a:off x="1966680" y="2252520"/>
              <a:ext cx="182880" cy="182520"/>
            </a:xfrm>
            <a:prstGeom prst="rtTriangle">
              <a:avLst/>
            </a:prstGeom>
            <a:solidFill>
              <a:srgbClr val="96b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017160" y="19051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lick to add Title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928880" y="2819520"/>
            <a:ext cx="5081040" cy="568080"/>
            <a:chOff x="1928880" y="2819520"/>
            <a:chExt cx="5081040" cy="568080"/>
          </a:xfrm>
        </p:grpSpPr>
        <p:sp>
          <p:nvSpPr>
            <p:cNvPr id="100" name=""/>
            <p:cNvSpPr/>
            <p:nvPr/>
          </p:nvSpPr>
          <p:spPr>
            <a:xfrm>
              <a:off x="2209680" y="3273480"/>
              <a:ext cx="4800240" cy="0"/>
            </a:xfrm>
            <a:prstGeom prst="line">
              <a:avLst/>
            </a:prstGeom>
            <a:ln w="25560">
              <a:solidFill>
                <a:srgbClr val="5f5f5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1928880" y="3129480"/>
              <a:ext cx="258480" cy="258120"/>
              <a:chOff x="1928880" y="3129480"/>
              <a:chExt cx="258480" cy="258120"/>
            </a:xfrm>
          </p:grpSpPr>
          <p:sp>
            <p:nvSpPr>
              <p:cNvPr id="102" name=""/>
              <p:cNvSpPr/>
              <p:nvPr/>
            </p:nvSpPr>
            <p:spPr>
              <a:xfrm rot="2700000">
                <a:off x="1966680" y="3167280"/>
                <a:ext cx="182520" cy="18216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 rot="18900000">
                <a:off x="1965960" y="3167280"/>
                <a:ext cx="182880" cy="182160"/>
              </a:xfrm>
              <a:prstGeom prst="rtTriangle">
                <a:avLst/>
              </a:prstGeom>
              <a:solidFill>
                <a:srgbClr val="6a99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3016440" y="281952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. Click to add Title</a:t>
              </a:r>
              <a:endParaRPr b="0" lang="en-US" sz="24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928880" y="3736800"/>
            <a:ext cx="5081040" cy="568080"/>
            <a:chOff x="1928880" y="3736800"/>
            <a:chExt cx="5081040" cy="568080"/>
          </a:xfrm>
        </p:grpSpPr>
        <p:sp>
          <p:nvSpPr>
            <p:cNvPr id="106" name=""/>
            <p:cNvSpPr/>
            <p:nvPr/>
          </p:nvSpPr>
          <p:spPr>
            <a:xfrm>
              <a:off x="2209680" y="4190760"/>
              <a:ext cx="4800240" cy="0"/>
            </a:xfrm>
            <a:prstGeom prst="line">
              <a:avLst/>
            </a:prstGeom>
            <a:ln w="25560">
              <a:solidFill>
                <a:srgbClr val="5f5f5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1928880" y="4046760"/>
              <a:ext cx="258480" cy="258120"/>
              <a:chOff x="1928880" y="4046760"/>
              <a:chExt cx="258480" cy="258120"/>
            </a:xfrm>
          </p:grpSpPr>
          <p:sp>
            <p:nvSpPr>
              <p:cNvPr id="108" name=""/>
              <p:cNvSpPr/>
              <p:nvPr/>
            </p:nvSpPr>
            <p:spPr>
              <a:xfrm rot="2700000">
                <a:off x="1966680" y="4084560"/>
                <a:ext cx="182520" cy="18216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 rot="18900000">
                <a:off x="1965960" y="4084560"/>
                <a:ext cx="182880" cy="182160"/>
              </a:xfrm>
              <a:prstGeom prst="rtTriangle">
                <a:avLst/>
              </a:prstGeom>
              <a:solidFill>
                <a:srgbClr val="4972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3016440" y="373680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. Click to add Title</a:t>
              </a:r>
              <a:endParaRPr b="0" lang="en-US" sz="24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28880" y="4648320"/>
            <a:ext cx="5081040" cy="568080"/>
            <a:chOff x="1928880" y="4648320"/>
            <a:chExt cx="5081040" cy="568080"/>
          </a:xfrm>
        </p:grpSpPr>
        <p:sp>
          <p:nvSpPr>
            <p:cNvPr id="112" name=""/>
            <p:cNvSpPr/>
            <p:nvPr/>
          </p:nvSpPr>
          <p:spPr>
            <a:xfrm>
              <a:off x="2209680" y="5102280"/>
              <a:ext cx="4800240" cy="0"/>
            </a:xfrm>
            <a:prstGeom prst="line">
              <a:avLst/>
            </a:prstGeom>
            <a:ln w="25560">
              <a:solidFill>
                <a:srgbClr val="5f5f5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1928880" y="4958280"/>
              <a:ext cx="258480" cy="258120"/>
              <a:chOff x="1928880" y="4958280"/>
              <a:chExt cx="258480" cy="258120"/>
            </a:xfrm>
          </p:grpSpPr>
          <p:sp>
            <p:nvSpPr>
              <p:cNvPr id="114" name=""/>
              <p:cNvSpPr/>
              <p:nvPr/>
            </p:nvSpPr>
            <p:spPr>
              <a:xfrm rot="2700000">
                <a:off x="1966680" y="4996080"/>
                <a:ext cx="182520" cy="182160"/>
              </a:xfrm>
              <a:prstGeom prst="rtTriangl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8900000">
                <a:off x="1965960" y="4996080"/>
                <a:ext cx="182880" cy="182160"/>
              </a:xfrm>
              <a:prstGeom prst="rtTriangle">
                <a:avLst/>
              </a:prstGeom>
              <a:solidFill>
                <a:srgbClr val="99c2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3016440" y="4648320"/>
              <a:ext cx="277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. Click to add Title</a:t>
              </a:r>
              <a:endParaRPr b="0" lang="en-US" sz="24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23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352680"/>
            <a:ext cx="2286000" cy="266724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7240"/>
              <a:gd name="textAreaBottom" fmla="*/ 2555640 h 2667240"/>
            </a:gdLst>
            <a:ahLst/>
            <a:rect l="textAreaLeft" t="textAreaTop" r="textAreaRight" b="textAreaBottom"/>
            <a:pathLst>
              <a:path w="21600" h="25202">
                <a:moveTo>
                  <a:pt x="3600" y="0"/>
                </a:moveTo>
                <a:arcTo wR="3600" hR="3600" stAng="16200000" swAng="-5400000"/>
                <a:lnTo>
                  <a:pt x="0" y="21602"/>
                </a:lnTo>
                <a:arcTo wR="3600" hR="3600" stAng="10800000" swAng="-5400000"/>
                <a:lnTo>
                  <a:pt x="18000" y="252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23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38400" y="35528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2272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9fbde5"/>
              </a:gs>
              <a:gs pos="100000">
                <a:srgbClr val="6a99d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874400" y="3255840"/>
            <a:ext cx="903240" cy="12416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ce5f6"/>
              </a:gs>
              <a:gs pos="100000">
                <a:srgbClr val="96b1e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048120" y="1600200"/>
            <a:ext cx="2998440" cy="1601280"/>
            <a:chOff x="3048120" y="1600200"/>
            <a:chExt cx="2998440" cy="1601280"/>
          </a:xfrm>
        </p:grpSpPr>
        <p:grpSp>
          <p:nvGrpSpPr>
            <p:cNvPr id="124" name=""/>
            <p:cNvGrpSpPr/>
            <p:nvPr/>
          </p:nvGrpSpPr>
          <p:grpSpPr>
            <a:xfrm>
              <a:off x="3048120" y="1743120"/>
              <a:ext cx="2998440" cy="1458360"/>
              <a:chOff x="3048120" y="1743120"/>
              <a:chExt cx="2998440" cy="1458360"/>
            </a:xfrm>
          </p:grpSpPr>
          <p:sp>
            <p:nvSpPr>
              <p:cNvPr id="125" name=""/>
              <p:cNvSpPr/>
              <p:nvPr/>
            </p:nvSpPr>
            <p:spPr>
              <a:xfrm>
                <a:off x="3080880" y="178956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48556f"/>
                  </a:gs>
                  <a:gs pos="100000">
                    <a:srgbClr val="96b1e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8120" y="174312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96b1e6"/>
                  </a:gs>
                  <a:gs pos="100000">
                    <a:srgbClr val="cfdbf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3189240" y="16002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99c25c"/>
                </a:gs>
                <a:gs pos="100000">
                  <a:srgbClr val="46592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24160" y="160812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dae8c5"/>
                </a:gs>
                <a:gs pos="100000">
                  <a:srgbClr val="99c25c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51160" y="162072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99c25c">
                    <a:alpha val="48235"/>
                  </a:srgbClr>
                </a:gs>
                <a:gs pos="100000">
                  <a:srgbClr val="78994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82920" y="164772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99c25c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882960" y="182880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358128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62120" y="1645920"/>
            <a:ext cx="7328520" cy="4583520"/>
            <a:chOff x="762120" y="1645920"/>
            <a:chExt cx="7328520" cy="4583520"/>
          </a:xfrm>
        </p:grpSpPr>
        <p:sp>
          <p:nvSpPr>
            <p:cNvPr id="135" name=""/>
            <p:cNvSpPr/>
            <p:nvPr/>
          </p:nvSpPr>
          <p:spPr>
            <a:xfrm rot="20241600">
              <a:off x="1392120" y="272556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20056200">
              <a:off x="4343040" y="2666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20056200">
              <a:off x="7010280" y="281880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20056200">
              <a:off x="2895480" y="548604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056200">
              <a:off x="5486040" y="487620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0056200">
              <a:off x="2057040" y="40381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21400" y="198108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96b1e6"/>
                </a:gs>
                <a:gs pos="100000">
                  <a:srgbClr val="333c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86160" y="329868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4972bb"/>
                </a:gs>
                <a:gs pos="100000">
                  <a:srgbClr val="16233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70240" y="476568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6a99d8"/>
                </a:gs>
                <a:gs pos="100000">
                  <a:srgbClr val="25364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38760" y="4221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64520" y="217800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9c25c"/>
                </a:gs>
                <a:gs pos="100000">
                  <a:srgbClr val="34421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23400" y="36939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27040" y="2376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36680" y="26161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44400" y="4616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34480" y="51544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429000" y="358128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3387d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02080" y="2376360"/>
              <a:ext cx="1627200" cy="1251000"/>
            </a:xfrm>
            <a:prstGeom prst="line">
              <a:avLst/>
            </a:prstGeom>
            <a:ln w="9360">
              <a:solidFill>
                <a:srgbClr val="2338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cxnSp>
          <p:nvCxnSpPr>
            <p:cNvPr id="153" name=""/>
            <p:cNvCxnSpPr/>
            <p:nvPr/>
          </p:nvCxnSpPr>
          <p:spPr>
            <a:xfrm flipH="1">
              <a:off x="887040" y="2376000"/>
              <a:ext cx="1726560" cy="1080"/>
            </a:xfrm>
            <a:prstGeom prst="straightConnector1">
              <a:avLst/>
            </a:prstGeom>
            <a:ln w="9360">
              <a:solidFill>
                <a:srgbClr val="23387d"/>
              </a:solidFill>
              <a:miter/>
            </a:ln>
          </p:spPr>
        </p:cxnSp>
        <p:sp>
          <p:nvSpPr>
            <p:cNvPr id="154" name=""/>
            <p:cNvSpPr/>
            <p:nvPr/>
          </p:nvSpPr>
          <p:spPr>
            <a:xfrm>
              <a:off x="762120" y="198108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3387d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57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92a"/>
                </a:gs>
                <a:gs pos="50000">
                  <a:srgbClr val="99c25c"/>
                </a:gs>
                <a:gs pos="100000">
                  <a:srgbClr val="4659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92a"/>
                </a:gs>
                <a:gs pos="50000">
                  <a:srgbClr val="99c25c"/>
                </a:gs>
                <a:gs pos="100000">
                  <a:srgbClr val="4659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92a"/>
                </a:gs>
                <a:gs pos="50000">
                  <a:srgbClr val="99c25c"/>
                </a:gs>
                <a:gs pos="100000">
                  <a:srgbClr val="4659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338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2338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23387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213456"/>
                </a:gs>
                <a:gs pos="50000">
                  <a:srgbClr val="4972bb"/>
                </a:gs>
                <a:gs pos="100000">
                  <a:srgbClr val="2134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45516a"/>
                </a:gs>
                <a:gs pos="50000">
                  <a:srgbClr val="96b1e6"/>
                </a:gs>
                <a:gs pos="100000">
                  <a:srgbClr val="45516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77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78" name="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4b2d5"/>
                  </a:gs>
                  <a:gs pos="100000">
                    <a:srgbClr val="1a3d9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4b2d5"/>
                  </a:gs>
                  <a:gs pos="100000">
                    <a:srgbClr val="1a3d97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4b2d5"/>
                  </a:gs>
                  <a:gs pos="100000">
                    <a:srgbClr val="1a3d9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96b1e6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505f7b"/>
                  </a:gs>
                  <a:gs pos="50000">
                    <a:srgbClr val="96b1e6"/>
                  </a:gs>
                  <a:gs pos="100000">
                    <a:srgbClr val="505f7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92a"/>
                </a:gs>
                <a:gs pos="50000">
                  <a:srgbClr val="99c25c"/>
                </a:gs>
                <a:gs pos="100000">
                  <a:srgbClr val="4659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92a"/>
                </a:gs>
                <a:gs pos="50000">
                  <a:srgbClr val="99c25c"/>
                </a:gs>
                <a:gs pos="100000">
                  <a:srgbClr val="4659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6592a"/>
                </a:gs>
                <a:gs pos="50000">
                  <a:srgbClr val="99c25c"/>
                </a:gs>
                <a:gs pos="100000">
                  <a:srgbClr val="46592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3456"/>
                </a:gs>
                <a:gs pos="50000">
                  <a:srgbClr val="4972bb"/>
                </a:gs>
                <a:gs pos="100000">
                  <a:srgbClr val="2134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3456"/>
                </a:gs>
                <a:gs pos="50000">
                  <a:srgbClr val="4972bb"/>
                </a:gs>
                <a:gs pos="100000">
                  <a:srgbClr val="2134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13456"/>
                </a:gs>
                <a:gs pos="50000">
                  <a:srgbClr val="4972bb"/>
                </a:gs>
                <a:gs pos="100000">
                  <a:srgbClr val="2134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2338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3387d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23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23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23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23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2338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2338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2338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2338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23387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24720" y="2600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387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224720" y="34275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387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24720" y="42908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387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24720" y="50976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3387d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216" name=""/>
            <p:cNvSpPr/>
            <p:nvPr/>
          </p:nvSpPr>
          <p:spPr>
            <a:xfrm>
              <a:off x="7833960" y="2286000"/>
              <a:ext cx="5760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304663"/>
                </a:gs>
                <a:gs pos="50000">
                  <a:srgbClr val="6a99d8"/>
                </a:gs>
                <a:gs pos="100000">
                  <a:srgbClr val="30466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6a9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254720" y="3117960"/>
              <a:ext cx="57564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45516a"/>
                </a:gs>
                <a:gs pos="50000">
                  <a:srgbClr val="96b1e6"/>
                </a:gs>
                <a:gs pos="100000">
                  <a:srgbClr val="4551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96b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73680" y="394956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6592a"/>
                </a:gs>
                <a:gs pos="50000">
                  <a:srgbClr val="99c25c"/>
                </a:gs>
                <a:gs pos="100000">
                  <a:srgbClr val="46592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95880" y="4782960"/>
              <a:ext cx="5774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b1c45"/>
                </a:gs>
                <a:gs pos="50000">
                  <a:srgbClr val="1a3d97"/>
                </a:gs>
                <a:gs pos="100000">
                  <a:srgbClr val="0b1c4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92000" y="478800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1a3d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8420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7960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4c6e9c"/>
                </a:gs>
                <a:gs pos="50000">
                  <a:srgbClr val="6a99d8"/>
                </a:gs>
                <a:gs pos="100000">
                  <a:srgbClr val="4c6e9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44760" y="3657600"/>
              <a:ext cx="3015720" cy="298440"/>
            </a:xfrm>
            <a:prstGeom prst="rect">
              <a:avLst/>
            </a:prstGeom>
            <a:gradFill rotWithShape="0">
              <a:gsLst>
                <a:gs pos="0">
                  <a:srgbClr val="6c7fa6"/>
                </a:gs>
                <a:gs pos="50000">
                  <a:srgbClr val="96b1e6"/>
                </a:gs>
                <a:gs pos="100000">
                  <a:srgbClr val="6c7fa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419280" y="3949560"/>
              <a:ext cx="383328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9c2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e8c42"/>
                </a:gs>
                <a:gs pos="50000">
                  <a:srgbClr val="99c25c"/>
                </a:gs>
                <a:gs pos="100000">
                  <a:srgbClr val="6e8c4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590920" y="5329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122c6d"/>
                </a:gs>
                <a:gs pos="50000">
                  <a:srgbClr val="1a3d97"/>
                </a:gs>
                <a:gs pos="100000">
                  <a:srgbClr val="122c6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505320" y="1752480"/>
            <a:ext cx="2361600" cy="2438280"/>
            <a:chOff x="3505320" y="1752480"/>
            <a:chExt cx="2361600" cy="2438280"/>
          </a:xfrm>
        </p:grpSpPr>
        <p:sp>
          <p:nvSpPr>
            <p:cNvPr id="231" name=""/>
            <p:cNvSpPr/>
            <p:nvPr/>
          </p:nvSpPr>
          <p:spPr>
            <a:xfrm>
              <a:off x="3505320" y="1752480"/>
              <a:ext cx="2357640" cy="24184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d8755a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509640" y="1772640"/>
              <a:ext cx="2357280" cy="24181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d8755a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35280" y="1910160"/>
              <a:ext cx="2045880" cy="2100600"/>
            </a:xfrm>
            <a:prstGeom prst="ellipse">
              <a:avLst/>
            </a:prstGeom>
            <a:gradFill rotWithShape="0">
              <a:gsLst>
                <a:gs pos="0">
                  <a:srgbClr val="743f30"/>
                </a:gs>
                <a:gs pos="50000">
                  <a:srgbClr val="d8755a"/>
                </a:gs>
                <a:gs pos="100000">
                  <a:srgbClr val="743f3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28080" y="1899000"/>
              <a:ext cx="2046240" cy="210060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0"/>
                  </a:srgbClr>
                </a:gs>
                <a:gs pos="100000">
                  <a:srgbClr val="884a3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36800" y="2017080"/>
              <a:ext cx="1842840" cy="188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3777840" y="2045880"/>
              <a:ext cx="1786320" cy="1833840"/>
              <a:chOff x="3777840" y="2045880"/>
              <a:chExt cx="1786320" cy="1833840"/>
            </a:xfrm>
          </p:grpSpPr>
          <p:sp>
            <p:nvSpPr>
              <p:cNvPr id="237" name=""/>
              <p:cNvSpPr/>
              <p:nvPr/>
            </p:nvSpPr>
            <p:spPr>
              <a:xfrm>
                <a:off x="3777840" y="2045880"/>
                <a:ext cx="1786320" cy="183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800520" y="2055960"/>
                <a:ext cx="1743120" cy="17881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819240" y="2073600"/>
                <a:ext cx="1657800" cy="16707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916080" y="2120400"/>
                <a:ext cx="1473480" cy="13561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2895480" y="2743200"/>
            <a:ext cx="3580920" cy="1904040"/>
            <a:chOff x="2895480" y="2743200"/>
            <a:chExt cx="3580920" cy="1904040"/>
          </a:xfrm>
        </p:grpSpPr>
        <p:sp>
          <p:nvSpPr>
            <p:cNvPr id="242" name=""/>
            <p:cNvSpPr/>
            <p:nvPr/>
          </p:nvSpPr>
          <p:spPr>
            <a:xfrm rot="10800000">
              <a:off x="5866920" y="274320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7914800">
              <a:off x="358164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144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95480" y="274320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3815000">
              <a:off x="5181480" y="4038120"/>
              <a:ext cx="609480" cy="457200"/>
            </a:xfrm>
            <a:prstGeom prst="leftArrow">
              <a:avLst>
                <a:gd name="adj1" fmla="val 31250"/>
                <a:gd name="adj2" fmla="val 71517"/>
              </a:avLst>
            </a:prstGeom>
            <a:gradFill rotWithShape="0">
              <a:gsLst>
                <a:gs pos="0">
                  <a:srgbClr val="bdbdd2"/>
                </a:gs>
                <a:gs pos="100000">
                  <a:srgbClr val="666699"/>
                </a:gs>
              </a:gsLst>
              <a:lin ang="1858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962520" y="2514600"/>
            <a:ext cx="143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Title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6637320" y="2286000"/>
            <a:ext cx="1440000" cy="1440000"/>
            <a:chOff x="6637320" y="2286000"/>
            <a:chExt cx="1440000" cy="1440000"/>
          </a:xfrm>
        </p:grpSpPr>
        <p:sp>
          <p:nvSpPr>
            <p:cNvPr id="248" name=""/>
            <p:cNvSpPr/>
            <p:nvPr/>
          </p:nvSpPr>
          <p:spPr>
            <a:xfrm>
              <a:off x="6637320" y="22860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37320" y="22860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732720" y="23796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32720" y="23828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794640" y="2443320"/>
              <a:ext cx="1125360" cy="11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6811920" y="2460600"/>
              <a:ext cx="1090800" cy="1092240"/>
              <a:chOff x="6811920" y="2460600"/>
              <a:chExt cx="1090800" cy="1092240"/>
            </a:xfrm>
          </p:grpSpPr>
          <p:sp>
            <p:nvSpPr>
              <p:cNvPr id="254" name=""/>
              <p:cNvSpPr/>
              <p:nvPr/>
            </p:nvSpPr>
            <p:spPr>
              <a:xfrm>
                <a:off x="6811920" y="2460600"/>
                <a:ext cx="109080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825600" y="24667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37120" y="2477160"/>
                <a:ext cx="101232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896160" y="2504880"/>
                <a:ext cx="90000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</p:grpSp>
      </p:grpSp>
      <p:sp>
        <p:nvSpPr>
          <p:cNvPr id="258" name=""/>
          <p:cNvSpPr/>
          <p:nvPr/>
        </p:nvSpPr>
        <p:spPr>
          <a:xfrm>
            <a:off x="6993720" y="281952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23387d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257800" y="4495680"/>
            <a:ext cx="1444680" cy="1523880"/>
            <a:chOff x="5257800" y="4495680"/>
            <a:chExt cx="1444680" cy="1523880"/>
          </a:xfrm>
        </p:grpSpPr>
        <p:sp>
          <p:nvSpPr>
            <p:cNvPr id="260" name=""/>
            <p:cNvSpPr/>
            <p:nvPr/>
          </p:nvSpPr>
          <p:spPr>
            <a:xfrm>
              <a:off x="5257800" y="4495680"/>
              <a:ext cx="1444680" cy="15238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ff6699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4495680"/>
              <a:ext cx="1444680" cy="15238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f6699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51400" y="4593960"/>
              <a:ext cx="1257480" cy="1327320"/>
            </a:xfrm>
            <a:prstGeom prst="ellipse">
              <a:avLst/>
            </a:prstGeom>
            <a:gradFill rotWithShape="0">
              <a:gsLst>
                <a:gs pos="0">
                  <a:srgbClr val="893652"/>
                </a:gs>
                <a:gs pos="50000">
                  <a:srgbClr val="ff6699"/>
                </a:gs>
                <a:gs pos="100000">
                  <a:srgbClr val="89365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334120" y="4572000"/>
              <a:ext cx="1255680" cy="132696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0"/>
                  </a:srgbClr>
                </a:gs>
                <a:gs pos="100000">
                  <a:srgbClr val="a14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19800" y="4662360"/>
              <a:ext cx="1130400" cy="119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10080" y="4647960"/>
              <a:ext cx="1094040" cy="115416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51480" y="4687920"/>
              <a:ext cx="1068480" cy="112536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64080" y="4698720"/>
              <a:ext cx="1015920" cy="105264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22760" y="4728960"/>
              <a:ext cx="903600" cy="8542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639400" y="50893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295280" y="2286000"/>
            <a:ext cx="1446120" cy="1523520"/>
            <a:chOff x="1295280" y="2286000"/>
            <a:chExt cx="1446120" cy="1523520"/>
          </a:xfrm>
        </p:grpSpPr>
        <p:sp>
          <p:nvSpPr>
            <p:cNvPr id="271" name="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cc66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95280" y="2286000"/>
              <a:ext cx="1446120" cy="15235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cc66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89240" y="2385000"/>
              <a:ext cx="1258200" cy="1325520"/>
            </a:xfrm>
            <a:prstGeom prst="ellipse">
              <a:avLst/>
            </a:prstGeom>
            <a:gradFill rotWithShape="0">
              <a:gsLst>
                <a:gs pos="0">
                  <a:srgbClr val="006d36"/>
                </a:gs>
                <a:gs pos="50000">
                  <a:srgbClr val="00cc66"/>
                </a:gs>
                <a:gs pos="100000">
                  <a:srgbClr val="006d3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390680" y="2385000"/>
              <a:ext cx="1256760" cy="132552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0"/>
                  </a:srgbClr>
                </a:gs>
                <a:gs pos="100000">
                  <a:srgbClr val="00814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458000" y="2452320"/>
              <a:ext cx="1130760" cy="1191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76360" y="2471400"/>
              <a:ext cx="1095840" cy="115452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90040" y="2478600"/>
              <a:ext cx="1068840" cy="112392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8e8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01200" y="2489040"/>
              <a:ext cx="1017000" cy="1051920"/>
            </a:xfrm>
            <a:prstGeom prst="ellipse">
              <a:avLst/>
            </a:prstGeom>
            <a:gradFill rotWithShape="0">
              <a:gsLst>
                <a:gs pos="0">
                  <a:srgbClr val="979797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60240" y="2519280"/>
              <a:ext cx="904320" cy="85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677240" y="28796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23387d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598840" y="4495680"/>
            <a:ext cx="1439640" cy="1440000"/>
            <a:chOff x="2598840" y="4495680"/>
            <a:chExt cx="1439640" cy="1440000"/>
          </a:xfrm>
        </p:grpSpPr>
        <p:grpSp>
          <p:nvGrpSpPr>
            <p:cNvPr id="282" name=""/>
            <p:cNvGrpSpPr/>
            <p:nvPr/>
          </p:nvGrpSpPr>
          <p:grpSpPr>
            <a:xfrm>
              <a:off x="2598840" y="4495680"/>
              <a:ext cx="1439640" cy="1440000"/>
              <a:chOff x="2598840" y="4495680"/>
              <a:chExt cx="1439640" cy="1440000"/>
            </a:xfrm>
          </p:grpSpPr>
          <p:sp>
            <p:nvSpPr>
              <p:cNvPr id="283" name="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965e1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598840" y="4495680"/>
                <a:ext cx="1439640" cy="144000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965e1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688840" y="4591080"/>
                <a:ext cx="1249200" cy="1250640"/>
              </a:xfrm>
              <a:prstGeom prst="ellipse">
                <a:avLst/>
              </a:prstGeom>
              <a:gradFill rotWithShape="0">
                <a:gsLst>
                  <a:gs pos="0">
                    <a:srgbClr val="1e3679"/>
                  </a:gs>
                  <a:gs pos="50000">
                    <a:srgbClr val="3965e1"/>
                  </a:gs>
                  <a:gs pos="100000">
                    <a:srgbClr val="1e367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688840" y="4600440"/>
                <a:ext cx="1249200" cy="125100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0"/>
                    </a:srgbClr>
                  </a:gs>
                  <a:gs pos="100000">
                    <a:srgbClr val="25439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750760" y="4662360"/>
                <a:ext cx="1125360" cy="112572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5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23387d"/>
                  </a:solidFill>
                  <a:latin typeface="Arial"/>
                </a:endParaRPr>
              </a:p>
            </p:txBody>
          </p:sp>
          <p:grpSp>
            <p:nvGrpSpPr>
              <p:cNvPr id="288" name=""/>
              <p:cNvGrpSpPr/>
              <p:nvPr/>
            </p:nvGrpSpPr>
            <p:grpSpPr>
              <a:xfrm>
                <a:off x="2779560" y="4676760"/>
                <a:ext cx="1090080" cy="1092240"/>
                <a:chOff x="2779560" y="4676760"/>
                <a:chExt cx="1090080" cy="109224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779560" y="4676760"/>
                  <a:ext cx="1090080" cy="109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793240" y="4682880"/>
                  <a:ext cx="1063800" cy="1065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804760" y="4693320"/>
                  <a:ext cx="1011600" cy="9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2863800" y="4721040"/>
                  <a:ext cx="899280" cy="80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23387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3" name=""/>
            <p:cNvSpPr/>
            <p:nvPr/>
          </p:nvSpPr>
          <p:spPr>
            <a:xfrm>
              <a:off x="2951280" y="502128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0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372276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a3d97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219320" y="3657600"/>
            <a:ext cx="1828800" cy="228600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286000"/>
              <a:gd name="textAreaBottom" fmla="*/ 2212560 h 2286000"/>
            </a:gdLst>
            <a:ahLst/>
            <a:rect l="textAreaLeft" t="textAreaTop" r="textAreaRight" b="textAreaBottom"/>
            <a:pathLst>
              <a:path w="21600" h="26999">
                <a:moveTo>
                  <a:pt x="2969" y="0"/>
                </a:moveTo>
                <a:arcTo wR="2969" hR="2969" stAng="16200000" swAng="-5400000"/>
                <a:lnTo>
                  <a:pt x="0" y="24030"/>
                </a:lnTo>
                <a:arcTo wR="2969" hR="2969" stAng="10800000" swAng="-5400000"/>
                <a:lnTo>
                  <a:pt x="18631" y="2699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a3d97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248520" y="3657600"/>
            <a:ext cx="1752480" cy="2286000"/>
          </a:xfrm>
          <a:custGeom>
            <a:avLst/>
            <a:gdLst>
              <a:gd name="textAreaLeft" fmla="*/ 70560 w 1752480"/>
              <a:gd name="textAreaRight" fmla="*/ 1681920 w 175248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74">
                <a:moveTo>
                  <a:pt x="2969" y="0"/>
                </a:moveTo>
                <a:arcTo wR="2969" hR="2969" stAng="16200000" swAng="-5400000"/>
                <a:lnTo>
                  <a:pt x="0" y="25205"/>
                </a:lnTo>
                <a:arcTo wR="2969" hR="2969" stAng="10800000" swAng="-5400000"/>
                <a:lnTo>
                  <a:pt x="18631" y="2817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a3d97"/>
                </a:solidFill>
                <a:latin typeface="Verdana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47200" y="318960"/>
            <a:ext cx="7162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>
            <a:off x="3151080" y="2452680"/>
            <a:ext cx="400320" cy="449280"/>
          </a:xfrm>
          <a:custGeom>
            <a:avLst/>
            <a:gdLst>
              <a:gd name="textAreaLeft" fmla="*/ 0 w 400320"/>
              <a:gd name="textAreaRight" fmla="*/ 400680 w 4003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4972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61348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96b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6b1e6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221520" y="1833480"/>
            <a:ext cx="170316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6b1e6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332400" y="1944720"/>
            <a:ext cx="1481400" cy="1466640"/>
          </a:xfrm>
          <a:prstGeom prst="ellipse">
            <a:avLst/>
          </a:prstGeom>
          <a:gradFill rotWithShape="0">
            <a:gsLst>
              <a:gs pos="0">
                <a:srgbClr val="505f7b"/>
              </a:gs>
              <a:gs pos="50000">
                <a:srgbClr val="96b1e6"/>
              </a:gs>
              <a:gs pos="100000">
                <a:srgbClr val="505f7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35796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96b1e6">
                  <a:alpha val="0"/>
                </a:srgbClr>
              </a:gs>
              <a:gs pos="100000">
                <a:srgbClr val="5e709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1196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99c25c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29528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9c25c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40652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26831"/>
              </a:gs>
              <a:gs pos="50000">
                <a:srgbClr val="99c25c"/>
              </a:gs>
              <a:gs pos="100000">
                <a:srgbClr val="52683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07960" y="194148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99c25c">
                  <a:alpha val="0"/>
                </a:srgbClr>
              </a:gs>
              <a:gs pos="100000">
                <a:srgbClr val="607a3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8104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1501920" y="2031840"/>
            <a:ext cx="1290600" cy="1278000"/>
            <a:chOff x="1501920" y="2031840"/>
            <a:chExt cx="1290600" cy="1278000"/>
          </a:xfrm>
        </p:grpSpPr>
        <p:sp>
          <p:nvSpPr>
            <p:cNvPr id="311" name=""/>
            <p:cNvSpPr/>
            <p:nvPr/>
          </p:nvSpPr>
          <p:spPr>
            <a:xfrm>
              <a:off x="15019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518480" y="2038680"/>
              <a:ext cx="12592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318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016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4972bb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75912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213456"/>
              </a:gs>
              <a:gs pos="100000">
                <a:srgbClr val="4972bb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7036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273d64"/>
              </a:gs>
              <a:gs pos="50000">
                <a:srgbClr val="4972bb"/>
              </a:gs>
              <a:gs pos="100000">
                <a:srgbClr val="273d6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871800" y="1946160"/>
            <a:ext cx="1481400" cy="1467000"/>
          </a:xfrm>
          <a:prstGeom prst="ellipse">
            <a:avLst/>
          </a:prstGeom>
          <a:gradFill rotWithShape="0">
            <a:gsLst>
              <a:gs pos="0">
                <a:srgbClr val="4972bb">
                  <a:alpha val="0"/>
                </a:srgbClr>
              </a:gs>
              <a:gs pos="100000">
                <a:srgbClr val="2e487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943440" y="2016000"/>
            <a:ext cx="133344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23387d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3965400" y="2031840"/>
            <a:ext cx="1290960" cy="1278000"/>
            <a:chOff x="3965400" y="2031840"/>
            <a:chExt cx="1290960" cy="1278000"/>
          </a:xfrm>
        </p:grpSpPr>
        <p:sp>
          <p:nvSpPr>
            <p:cNvPr id="321" name=""/>
            <p:cNvSpPr/>
            <p:nvPr/>
          </p:nvSpPr>
          <p:spPr>
            <a:xfrm>
              <a:off x="3965400" y="2031840"/>
              <a:ext cx="129096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98196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95280" y="2051280"/>
              <a:ext cx="119808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6548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6435720" y="2031840"/>
            <a:ext cx="1292400" cy="1278000"/>
            <a:chOff x="6435720" y="2031840"/>
            <a:chExt cx="1292400" cy="1278000"/>
          </a:xfrm>
        </p:grpSpPr>
        <p:sp>
          <p:nvSpPr>
            <p:cNvPr id="326" name=""/>
            <p:cNvSpPr/>
            <p:nvPr/>
          </p:nvSpPr>
          <p:spPr>
            <a:xfrm>
              <a:off x="6435720" y="2031840"/>
              <a:ext cx="1292400" cy="127800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5228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465600" y="2051280"/>
              <a:ext cx="1199520" cy="1164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35800" y="2083680"/>
              <a:ext cx="1066320" cy="945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23387d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176508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3360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700320" y="25052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2338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3T07:52:38Z</dcterms:created>
  <dc:creator/>
  <dc:description/>
  <cp:keywords>幻灯片之家 http:/www.eeppt.com</cp:keywords>
  <dc:language>en-US</dc:language>
  <cp:lastModifiedBy/>
  <dcterms:modified xsi:type="dcterms:W3CDTF">2015-07-12T09:33:37Z</dcterms:modified>
  <cp:revision>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