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78963-7EA2-46C6-898E-869ACB664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6160" y="499968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1153E-9A7B-4B5F-BF33-D1FFFEDE8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387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FDCBB-B9E9-4AD4-BBC8-4ACD59F8B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63080" y="4800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50000" y="4800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76160" y="499968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63080" y="499968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50000" y="499968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D9D11-5AE4-4A68-9387-CA61ABF1C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72388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039F4-B192-4A8C-932B-A3386525F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8387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676160" y="499968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676160" y="499968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6761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8387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763080" y="4800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850000" y="4800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676160" y="499968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763080" y="499968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850000" y="499968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7E10A-C905-49C8-BA41-8AE393E89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1FFE4-483A-4AC0-94B4-7E2C3345B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747FE-A57B-4086-90BE-0E72E68C3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72388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50B46-0D09-4DB5-9263-C18613831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761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793EB-9CA4-4A2F-8D22-2CE836B74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87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3C482-2719-49CE-8E5D-55415D1AE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76160" y="499968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3F6A1-69D1-477A-8A49-2586A7CE8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60958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5281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6572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528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1707-C843-4140-B5EE-EE2E6170D48E}" type="slidenum">
              <a:rPr b="0" lang="en-US" sz="1400" spc="-1" strike="noStrike">
                <a:solidFill>
                  <a:srgbClr val="1f528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5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50920" y="260280"/>
            <a:ext cx="8642160" cy="4824360"/>
            <a:chOff x="250920" y="260280"/>
            <a:chExt cx="8642160" cy="4824360"/>
          </a:xfrm>
        </p:grpSpPr>
        <p:sp>
          <p:nvSpPr>
            <p:cNvPr id="45" name=""/>
            <p:cNvSpPr/>
            <p:nvPr/>
          </p:nvSpPr>
          <p:spPr>
            <a:xfrm>
              <a:off x="250920" y="260280"/>
              <a:ext cx="8642160" cy="474804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74840" y="2122560"/>
              <a:ext cx="56880" cy="29340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48880" y="2531880"/>
              <a:ext cx="1080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34840" y="2525760"/>
              <a:ext cx="7560" cy="61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48880" y="2550960"/>
              <a:ext cx="1080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68040" y="249552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3600" y="2333520"/>
              <a:ext cx="1080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72960" y="2320920"/>
              <a:ext cx="1080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39480" y="236376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77720" y="2340000"/>
              <a:ext cx="1080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87160" y="2309760"/>
              <a:ext cx="154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69880" y="24001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0800" y="2316240"/>
              <a:ext cx="18720" cy="108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17320" y="2344680"/>
              <a:ext cx="1080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56920" y="2538360"/>
              <a:ext cx="468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87160" y="241596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33240" y="2430360"/>
              <a:ext cx="1080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63520" y="2381040"/>
              <a:ext cx="4068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47320" y="215100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47320" y="217800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17440" y="2249280"/>
              <a:ext cx="7560" cy="176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30040" y="2206440"/>
              <a:ext cx="16920" cy="19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52360" y="2333520"/>
              <a:ext cx="2160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30040" y="2430360"/>
              <a:ext cx="1080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41200" y="2442960"/>
              <a:ext cx="21960" cy="478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04560" y="24303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6720" y="2435040"/>
              <a:ext cx="61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71240" y="2344680"/>
              <a:ext cx="612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56920" y="2568600"/>
              <a:ext cx="468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95160" y="2435040"/>
              <a:ext cx="34560" cy="190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65000" y="1585800"/>
              <a:ext cx="43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58520" y="150660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69680" y="1338120"/>
              <a:ext cx="612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58520" y="1350720"/>
              <a:ext cx="61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33240" y="1454040"/>
              <a:ext cx="43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2960" y="1827000"/>
              <a:ext cx="1692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55400" y="1506600"/>
              <a:ext cx="26640" cy="378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04720" y="1398600"/>
              <a:ext cx="1872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34960" y="1350720"/>
              <a:ext cx="3456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76000" y="1387440"/>
              <a:ext cx="2196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09480" y="1428840"/>
              <a:ext cx="1692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77880" y="1338120"/>
              <a:ext cx="1224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95160" y="13078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62200" y="2273400"/>
              <a:ext cx="2340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06520" y="308772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74760" y="2538360"/>
              <a:ext cx="11376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4360" y="2977920"/>
              <a:ext cx="23400" cy="558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93760" y="2967120"/>
              <a:ext cx="2340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54160" y="2941560"/>
              <a:ext cx="2808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01600" y="2967120"/>
              <a:ext cx="612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96920" y="2990880"/>
              <a:ext cx="43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85920" y="2977920"/>
              <a:ext cx="10800" cy="241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97080" y="2967120"/>
              <a:ext cx="576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26960" y="310500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12760" y="2284200"/>
              <a:ext cx="45720" cy="8424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55520" y="2327040"/>
              <a:ext cx="33120" cy="129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84080" y="2784240"/>
              <a:ext cx="4104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34920" y="2803320"/>
              <a:ext cx="1080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30240" y="283536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25480" y="27082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92160" y="2381040"/>
              <a:ext cx="3312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34920" y="2442960"/>
              <a:ext cx="3924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11160" y="2477880"/>
              <a:ext cx="23400" cy="129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53920" y="2585880"/>
              <a:ext cx="2340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57080" y="2712960"/>
              <a:ext cx="154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96800" y="2682720"/>
              <a:ext cx="22500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3680" y="2604960"/>
              <a:ext cx="3780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31680" y="2797200"/>
              <a:ext cx="28080" cy="489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73080" y="2725560"/>
              <a:ext cx="43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73080" y="27493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88920" y="2682720"/>
              <a:ext cx="1692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41120" y="2628720"/>
              <a:ext cx="1080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29960" y="2609640"/>
              <a:ext cx="1080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17360" y="2598840"/>
              <a:ext cx="1224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00080" y="2585880"/>
              <a:ext cx="1080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79480" y="2719440"/>
              <a:ext cx="576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68320" y="2816280"/>
              <a:ext cx="1692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68120" y="3298680"/>
              <a:ext cx="1872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17600" y="3073320"/>
              <a:ext cx="1080" cy="1908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0120" y="3111480"/>
              <a:ext cx="871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2520" y="3182760"/>
              <a:ext cx="14724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7200" y="27925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16000" y="2381040"/>
              <a:ext cx="188280" cy="33192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27040" y="2984400"/>
              <a:ext cx="154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63480" y="3033720"/>
              <a:ext cx="1224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11000" y="2917800"/>
              <a:ext cx="3312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79400" y="2859120"/>
              <a:ext cx="2196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14320" y="283536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31960" y="2797200"/>
              <a:ext cx="3456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82720" y="2773440"/>
              <a:ext cx="576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84320" y="2967120"/>
              <a:ext cx="4320" cy="2988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93760" y="3092400"/>
              <a:ext cx="1224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6360" y="3062160"/>
              <a:ext cx="2196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44520" y="3021120"/>
              <a:ext cx="612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63600" y="3008160"/>
              <a:ext cx="154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41440" y="3286080"/>
              <a:ext cx="1692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74920" y="3298680"/>
              <a:ext cx="1836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09840" y="3322440"/>
              <a:ext cx="576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93640" y="3238560"/>
              <a:ext cx="1080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17680" y="2381040"/>
              <a:ext cx="420120" cy="18108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78120" y="2151000"/>
              <a:ext cx="21204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43080" y="2290680"/>
              <a:ext cx="432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11320" y="2792520"/>
              <a:ext cx="6300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33640" y="2568600"/>
              <a:ext cx="24552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63880" y="2779560"/>
              <a:ext cx="4392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35240" y="2435040"/>
              <a:ext cx="131400" cy="10800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49040" y="2609640"/>
              <a:ext cx="2340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8280" y="2657520"/>
              <a:ext cx="676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82600" y="2562120"/>
              <a:ext cx="3276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87280" y="2502000"/>
              <a:ext cx="2808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1760" y="2055600"/>
              <a:ext cx="124920" cy="15732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65080" y="1911240"/>
              <a:ext cx="18360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80840" y="2808360"/>
              <a:ext cx="8208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23840" y="3906720"/>
              <a:ext cx="1486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38200" y="4732200"/>
              <a:ext cx="9828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60480" y="3394080"/>
              <a:ext cx="172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97120" y="3182760"/>
              <a:ext cx="63000" cy="17460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46360" y="3365280"/>
              <a:ext cx="50400" cy="590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38160" y="3352680"/>
              <a:ext cx="28440" cy="4752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44640" y="3413160"/>
              <a:ext cx="109080" cy="8388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68520" y="3460680"/>
              <a:ext cx="21708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63680" y="3690720"/>
              <a:ext cx="223560" cy="19224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55600" y="3635280"/>
              <a:ext cx="21240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65360" y="3960720"/>
              <a:ext cx="87408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93800" y="3816360"/>
              <a:ext cx="3456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51040" y="3822480"/>
              <a:ext cx="3456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85960" y="3840120"/>
              <a:ext cx="2340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97120" y="3809880"/>
              <a:ext cx="694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51000" y="3503520"/>
              <a:ext cx="234360" cy="26496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81040" y="3773520"/>
              <a:ext cx="1951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71640" y="3816360"/>
              <a:ext cx="104400" cy="4896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24560" y="3152880"/>
              <a:ext cx="34560" cy="1872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97560" y="3182760"/>
              <a:ext cx="13140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56000" y="3100320"/>
              <a:ext cx="24588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45160" y="3219480"/>
              <a:ext cx="5184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56200" y="1989000"/>
              <a:ext cx="1692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30680" y="1995480"/>
              <a:ext cx="2808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2600" y="720720"/>
              <a:ext cx="407484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86080" y="1216080"/>
              <a:ext cx="279828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9fb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6022800" y="549360"/>
              <a:ext cx="1861200" cy="1240920"/>
              <a:chOff x="6022800" y="549360"/>
              <a:chExt cx="1861200" cy="1240920"/>
            </a:xfrm>
          </p:grpSpPr>
          <p:sp>
            <p:nvSpPr>
              <p:cNvPr id="185" name=""/>
              <p:cNvSpPr/>
              <p:nvPr/>
            </p:nvSpPr>
            <p:spPr>
              <a:xfrm>
                <a:off x="7824600" y="1012320"/>
                <a:ext cx="38160" cy="2808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176960" y="704160"/>
                <a:ext cx="707040" cy="108612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841520" y="9687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803360" y="1045440"/>
                <a:ext cx="20880" cy="3240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813800" y="1110960"/>
                <a:ext cx="59400" cy="7812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70600" y="1182960"/>
                <a:ext cx="447120" cy="52884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62240" y="1574280"/>
                <a:ext cx="129960" cy="10044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697800" y="726120"/>
                <a:ext cx="48600" cy="1548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438960" y="1040760"/>
                <a:ext cx="135000" cy="20304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70080" y="1062360"/>
                <a:ext cx="108360" cy="17532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022800" y="1018800"/>
                <a:ext cx="168120" cy="18612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114600" y="1106640"/>
                <a:ext cx="371520" cy="30816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125040" y="752400"/>
                <a:ext cx="189720" cy="1504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309000" y="686880"/>
                <a:ext cx="38160" cy="4392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351840" y="625680"/>
                <a:ext cx="108360" cy="6732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347160" y="714960"/>
                <a:ext cx="96480" cy="5472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34120" y="890280"/>
                <a:ext cx="27360" cy="453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227640" y="924840"/>
                <a:ext cx="183600" cy="14868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519960" y="704160"/>
                <a:ext cx="32040" cy="824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38960" y="820080"/>
                <a:ext cx="117720" cy="14868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563160" y="913680"/>
                <a:ext cx="64080" cy="7668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644160" y="885600"/>
                <a:ext cx="269280" cy="15948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498720" y="549360"/>
                <a:ext cx="139320" cy="17064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65760" y="621360"/>
                <a:ext cx="64080" cy="8748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70600" y="636840"/>
                <a:ext cx="113040" cy="24228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486480" y="132732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535440" y="664920"/>
                <a:ext cx="53640" cy="3276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471000" y="780840"/>
                <a:ext cx="27360" cy="2772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514200" y="79812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557040" y="714960"/>
                <a:ext cx="2124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19440" y="824760"/>
                <a:ext cx="27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92200" y="1056240"/>
                <a:ext cx="96480" cy="7200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60960" y="1398960"/>
                <a:ext cx="38160" cy="4860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832440" y="169020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896880" y="1722960"/>
                <a:ext cx="16560" cy="453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960960" y="1657440"/>
                <a:ext cx="27720" cy="3276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945840" y="599400"/>
                <a:ext cx="371880" cy="44136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610920" y="2601720"/>
              <a:ext cx="1420560" cy="167184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2080" y="3608280"/>
              <a:ext cx="936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025880" y="586728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24000" y="12682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5f5f5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f5281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f5281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f5281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f528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f528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5281"/>
                </a:solidFill>
                <a:latin typeface="Verdana"/>
              </a:rPr>
              <a:t>国外商务</a:t>
            </a:r>
            <a:r>
              <a:rPr b="1" i="1" lang="zh-CN" sz="3600" spc="-1" strike="noStrike">
                <a:solidFill>
                  <a:srgbClr val="1f5281"/>
                </a:solidFill>
                <a:latin typeface="Verdana"/>
                <a:ea typeface="宋体"/>
              </a:rPr>
              <a:t>PPT</a:t>
            </a:r>
            <a:r>
              <a:rPr b="1" i="1" lang="en-US" sz="3600" spc="-1" strike="noStrike">
                <a:solidFill>
                  <a:srgbClr val="1f5281"/>
                </a:solidFill>
                <a:latin typeface="Verdana"/>
              </a:rPr>
              <a:t>模板</a:t>
            </a: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54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61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69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83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88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52280" y="3238560"/>
            <a:ext cx="8839440" cy="113760"/>
            <a:chOff x="152280" y="3238560"/>
            <a:chExt cx="8839440" cy="113760"/>
          </a:xfrm>
        </p:grpSpPr>
        <p:sp>
          <p:nvSpPr>
            <p:cNvPr id="499" name=""/>
            <p:cNvSpPr/>
            <p:nvPr/>
          </p:nvSpPr>
          <p:spPr>
            <a:xfrm>
              <a:off x="152280" y="3238560"/>
              <a:ext cx="8839440" cy="44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2280" y="3282120"/>
              <a:ext cx="8839440" cy="7020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502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503" name="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506" name="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08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09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515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520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521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524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32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537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538" name="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541" name="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43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44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550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55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56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59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61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62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568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572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581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585" name=""/>
            <p:cNvCxnSpPr>
              <a:stCxn id="581" idx="3"/>
              <a:endCxn id="582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6" name=""/>
            <p:cNvCxnSpPr>
              <a:stCxn id="582" idx="3"/>
              <a:endCxn id="583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7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698920" y="1785600"/>
            <a:ext cx="4013640" cy="4254120"/>
            <a:chOff x="2698920" y="1785600"/>
            <a:chExt cx="4013640" cy="4254120"/>
          </a:xfrm>
        </p:grpSpPr>
        <p:sp>
          <p:nvSpPr>
            <p:cNvPr id="590" name=""/>
            <p:cNvSpPr/>
            <p:nvPr/>
          </p:nvSpPr>
          <p:spPr>
            <a:xfrm>
              <a:off x="2706840" y="3122640"/>
              <a:ext cx="1447920" cy="1954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92156"/>
                  </a:srgbClr>
                </a:gs>
                <a:gs pos="100000">
                  <a:srgbClr val="093b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7200000">
              <a:off x="4396320" y="2040840"/>
              <a:ext cx="136548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172f25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2734920" y="1785600"/>
              <a:ext cx="2482920" cy="2629800"/>
              <a:chOff x="2734920" y="1785600"/>
              <a:chExt cx="2482920" cy="2629800"/>
            </a:xfrm>
          </p:grpSpPr>
          <p:sp>
            <p:nvSpPr>
              <p:cNvPr id="593" name=""/>
              <p:cNvSpPr/>
              <p:nvPr/>
            </p:nvSpPr>
            <p:spPr>
              <a:xfrm rot="12600000">
                <a:off x="2788920" y="349236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7200000">
                <a:off x="3184200" y="2697120"/>
                <a:ext cx="150516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7200000">
                <a:off x="4257360" y="1770120"/>
                <a:ext cx="62244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 rot="14400000">
              <a:off x="4510800" y="389484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ce88"/>
                </a:gs>
                <a:gs pos="100000">
                  <a:srgbClr val="465e3e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4539960" y="2665800"/>
              <a:ext cx="2172600" cy="2758320"/>
              <a:chOff x="4539960" y="2665800"/>
              <a:chExt cx="2172600" cy="2758320"/>
            </a:xfrm>
          </p:grpSpPr>
          <p:sp>
            <p:nvSpPr>
              <p:cNvPr id="598" name=""/>
              <p:cNvSpPr/>
              <p:nvPr/>
            </p:nvSpPr>
            <p:spPr>
              <a:xfrm rot="19800000">
                <a:off x="4594320" y="2984760"/>
                <a:ext cx="1438200" cy="603000"/>
              </a:xfrm>
              <a:prstGeom prst="triangle">
                <a:avLst>
                  <a:gd name="adj" fmla="val 50000"/>
                </a:avLst>
              </a:pr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4400000">
                <a:off x="4985640" y="3578760"/>
                <a:ext cx="150480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4400000">
                <a:off x="5807160" y="4331520"/>
                <a:ext cx="54900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602" name=""/>
              <p:cNvSpPr/>
              <p:nvPr/>
            </p:nvSpPr>
            <p:spPr>
              <a:xfrm>
                <a:off x="2698920" y="4327560"/>
                <a:ext cx="581400" cy="109980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400000">
                <a:off x="4179600" y="4709520"/>
                <a:ext cx="1385640" cy="640080"/>
              </a:xfrm>
              <a:prstGeom prst="triangle">
                <a:avLst>
                  <a:gd name="adj" fmla="val 50000"/>
                </a:avLst>
              </a:pr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23080" y="4649760"/>
                <a:ext cx="1596600" cy="77724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05" name="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81b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e8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6652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116000" y="537516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1481b8"/>
                </a:solidFill>
                <a:uFillTx/>
                <a:latin typeface="Arial"/>
                <a:hlinkClick r:id="rId1"/>
              </a:rPr>
              <a:t>外国ppt模板</a:t>
            </a: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9ce88"/>
              </a:gs>
              <a:gs pos="100000">
                <a:srgbClr val="465e3e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326652"/>
              </a:gs>
              <a:gs pos="100000">
                <a:srgbClr val="172f2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baaa12"/>
              </a:gs>
              <a:gs pos="100000">
                <a:srgbClr val="554e0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1481b8"/>
              </a:gs>
              <a:gs pos="100000">
                <a:srgbClr val="093b54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81304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7932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838080" y="223524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0920"/>
                <a:gridCol w="1150920"/>
                <a:gridCol w="1157400"/>
                <a:gridCol w="1149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f5281"/>
                      </a:solidFill>
                    </a:lnR>
                    <a:lnT>
                      <a:noFill/>
                    </a:lnT>
                    <a:lnB w="5760">
                      <a:solidFill>
                        <a:srgbClr val="1f52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29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accc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81b8"/>
              </a:gs>
              <a:gs pos="50000">
                <a:srgbClr val="67add0"/>
              </a:gs>
              <a:gs pos="100000">
                <a:srgbClr val="1481b8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914400" y="4311720"/>
            <a:ext cx="1579680" cy="2070000"/>
            <a:chOff x="914400" y="4311720"/>
            <a:chExt cx="1579680" cy="2070000"/>
          </a:xfrm>
        </p:grpSpPr>
        <p:grpSp>
          <p:nvGrpSpPr>
            <p:cNvPr id="633" name=""/>
            <p:cNvGrpSpPr/>
            <p:nvPr/>
          </p:nvGrpSpPr>
          <p:grpSpPr>
            <a:xfrm>
              <a:off x="914400" y="4311720"/>
              <a:ext cx="1486080" cy="1514520"/>
              <a:chOff x="914400" y="4311720"/>
              <a:chExt cx="1486080" cy="1514520"/>
            </a:xfrm>
          </p:grpSpPr>
          <p:grpSp>
            <p:nvGrpSpPr>
              <p:cNvPr id="634" name=""/>
              <p:cNvGrpSpPr/>
              <p:nvPr/>
            </p:nvGrpSpPr>
            <p:grpSpPr>
              <a:xfrm>
                <a:off x="914400" y="4311720"/>
                <a:ext cx="1486080" cy="1514520"/>
                <a:chOff x="914400" y="4311720"/>
                <a:chExt cx="1486080" cy="151452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914400" y="43117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756b0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084320" y="43365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1072440" y="50828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>
              <a:off x="91440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ccc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819520" y="4311720"/>
            <a:ext cx="1617120" cy="2070000"/>
            <a:chOff x="2819520" y="4311720"/>
            <a:chExt cx="1617120" cy="2070000"/>
          </a:xfrm>
        </p:grpSpPr>
        <p:grpSp>
          <p:nvGrpSpPr>
            <p:cNvPr id="640" name=""/>
            <p:cNvGrpSpPr/>
            <p:nvPr/>
          </p:nvGrpSpPr>
          <p:grpSpPr>
            <a:xfrm>
              <a:off x="2819520" y="4311720"/>
              <a:ext cx="1523520" cy="1521000"/>
              <a:chOff x="2819520" y="4311720"/>
              <a:chExt cx="1523520" cy="1521000"/>
            </a:xfrm>
          </p:grpSpPr>
          <p:sp>
            <p:nvSpPr>
              <p:cNvPr id="641" name=""/>
              <p:cNvSpPr/>
              <p:nvPr/>
            </p:nvSpPr>
            <p:spPr>
              <a:xfrm>
                <a:off x="2819520" y="4311720"/>
                <a:ext cx="1523520" cy="152100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42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99340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1481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>
              <a:off x="2895480" y="50418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5732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ccc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646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647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9342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266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649" name=""/>
            <p:cNvSpPr/>
            <p:nvPr/>
          </p:nvSpPr>
          <p:spPr>
            <a:xfrm>
              <a:off x="495324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92948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ccc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652" name=""/>
            <p:cNvGrpSpPr/>
            <p:nvPr/>
          </p:nvGrpSpPr>
          <p:grpSpPr>
            <a:xfrm>
              <a:off x="6781680" y="4267080"/>
              <a:ext cx="1523880" cy="1531800"/>
              <a:chOff x="6781680" y="4267080"/>
              <a:chExt cx="1523880" cy="1531800"/>
            </a:xfrm>
          </p:grpSpPr>
          <p:grpSp>
            <p:nvGrpSpPr>
              <p:cNvPr id="653" name=""/>
              <p:cNvGrpSpPr/>
              <p:nvPr/>
            </p:nvGrpSpPr>
            <p:grpSpPr>
              <a:xfrm>
                <a:off x="6781680" y="4267080"/>
                <a:ext cx="1523880" cy="1531800"/>
                <a:chOff x="6781680" y="4267080"/>
                <a:chExt cx="1523880" cy="153180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781680" y="4267080"/>
                  <a:ext cx="152388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12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955920" y="4292280"/>
                  <a:ext cx="117540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>
                <a:off x="692460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ccc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48800" y="679320"/>
            <a:ext cx="7379280" cy="5581080"/>
            <a:chOff x="748800" y="679320"/>
            <a:chExt cx="7379280" cy="5581080"/>
          </a:xfrm>
        </p:grpSpPr>
        <p:sp>
          <p:nvSpPr>
            <p:cNvPr id="660" name=""/>
            <p:cNvSpPr/>
            <p:nvPr/>
          </p:nvSpPr>
          <p:spPr>
            <a:xfrm>
              <a:off x="22860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bacc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20601600">
              <a:off x="15606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20601600">
              <a:off x="1617120" y="21906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20601600">
              <a:off x="1533240" y="21762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69ae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rot="20602200">
              <a:off x="15825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22463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20601600">
              <a:off x="15404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9ac8e0"/>
                </a:gs>
                <a:gs pos="100000">
                  <a:srgbClr val="1481b8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rot="20602200">
              <a:off x="1550880" y="2185920"/>
              <a:ext cx="5702040" cy="29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554e08"/>
                </a:gs>
                <a:gs pos="100000">
                  <a:srgbClr val="baaa12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116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e88"/>
                </a:gs>
                <a:gs pos="100000">
                  <a:srgbClr val="cfe7c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20539200">
              <a:off x="1167120" y="1583280"/>
              <a:ext cx="654264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9ce88"/>
                </a:gs>
                <a:gs pos="100000">
                  <a:srgbClr val="465e3e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6227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9ce88"/>
                </a:gs>
                <a:gs pos="100000">
                  <a:srgbClr val="cfe7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20601600">
              <a:off x="30780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0689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740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028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4979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882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541760" y="417852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19215"/>
                  </a:srgbClr>
                </a:gs>
                <a:gs pos="100000">
                  <a:srgbClr val="61aa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0601600">
              <a:off x="3179880" y="315756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2133360" y="485748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61928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f5281"/>
                    </a:gs>
                    <a:gs pos="100000">
                      <a:srgbClr val="326652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f5281"/>
                  </a:gs>
                  <a:gs pos="100000">
                    <a:srgbClr val="326652"/>
                  </a:gs>
                </a:gsLst>
                <a:lin ang="108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2514600" y="18716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a12"/>
              </a:gs>
              <a:gs pos="100000">
                <a:srgbClr val="efeccc"/>
              </a:gs>
            </a:gsLst>
            <a:lin ang="1080000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927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263376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e88"/>
              </a:gs>
              <a:gs pos="100000">
                <a:srgbClr val="e8f3e4"/>
              </a:gs>
            </a:gsLst>
            <a:lin ang="1080000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2689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14600" y="33955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ccce"/>
              </a:gs>
              <a:gs pos="100000">
                <a:srgbClr val="eff3f3"/>
              </a:gs>
            </a:gsLst>
            <a:lin ang="10800000"/>
          </a:gradFill>
          <a:ln w="12600">
            <a:solidFill>
              <a:srgbClr val="baccce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345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41911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a12"/>
              </a:gs>
              <a:gs pos="100000">
                <a:srgbClr val="efeccc"/>
              </a:gs>
            </a:gsLst>
            <a:lin ang="1080000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4246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14600" y="49528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e88"/>
              </a:gs>
              <a:gs pos="100000">
                <a:srgbClr val="e8f3e4"/>
              </a:gs>
            </a:gsLst>
            <a:lin ang="1080000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5008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280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1481b8"/>
                </a:gs>
                <a:gs pos="100000">
                  <a:srgbClr val="062c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326652"/>
                </a:gs>
                <a:gs pos="100000">
                  <a:srgbClr val="0f1f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aaa12"/>
                </a:gs>
                <a:gs pos="100000">
                  <a:srgbClr val="423c0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4248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9ce88"/>
                </a:gs>
                <a:gs pos="100000">
                  <a:srgbClr val="34462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5281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f52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298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f5281"/>
              </a:solidFill>
              <a:miter/>
            </a:ln>
          </p:spPr>
        </p:cxnSp>
        <p:sp>
          <p:nvSpPr>
            <p:cNvPr id="299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302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3e"/>
                </a:gs>
                <a:gs pos="50000">
                  <a:srgbClr val="99ce88"/>
                </a:gs>
                <a:gs pos="100000">
                  <a:srgbClr val="465e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3e"/>
                </a:gs>
                <a:gs pos="50000">
                  <a:srgbClr val="99ce88"/>
                </a:gs>
                <a:gs pos="100000">
                  <a:srgbClr val="465e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3e"/>
                </a:gs>
                <a:gs pos="50000">
                  <a:srgbClr val="99ce88"/>
                </a:gs>
                <a:gs pos="100000">
                  <a:srgbClr val="465e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55e5e">
                    <a:alpha val="12156"/>
                  </a:srgbClr>
                </a:gs>
                <a:gs pos="100000">
                  <a:srgbClr val="bacc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555e5e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72f25"/>
                </a:gs>
                <a:gs pos="50000">
                  <a:srgbClr val="326652"/>
                </a:gs>
                <a:gs pos="100000">
                  <a:srgbClr val="172f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d2ddd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93b54"/>
                </a:gs>
                <a:gs pos="50000">
                  <a:srgbClr val="1481b8"/>
                </a:gs>
                <a:gs pos="100000">
                  <a:srgbClr val="093b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2ddde">
                    <a:alpha val="12156"/>
                  </a:srgbClr>
                </a:gs>
                <a:gs pos="100000">
                  <a:srgbClr val="bacc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322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323" name=""/>
              <p:cNvSpPr/>
              <p:nvPr/>
            </p:nvSpPr>
            <p:spPr>
              <a:xfrm flipH="1" rot="16200000">
                <a:off x="2927880" y="325800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rot="5400000">
                <a:off x="5531040" y="320724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rot="10800000">
                <a:off x="4236840" y="4609800"/>
                <a:ext cx="44388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305880" y="2209680"/>
                <a:ext cx="23270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438360" y="2344680"/>
                <a:ext cx="206028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1481b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0a4563"/>
                  </a:gs>
                  <a:gs pos="50000">
                    <a:srgbClr val="1481b8"/>
                  </a:gs>
                  <a:gs pos="100000">
                    <a:srgbClr val="0a45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3e"/>
                </a:gs>
                <a:gs pos="50000">
                  <a:srgbClr val="99ce88"/>
                </a:gs>
                <a:gs pos="100000">
                  <a:srgbClr val="465e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3e"/>
                </a:gs>
                <a:gs pos="50000">
                  <a:srgbClr val="99ce88"/>
                </a:gs>
                <a:gs pos="100000">
                  <a:srgbClr val="465e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3e"/>
                </a:gs>
                <a:gs pos="50000">
                  <a:srgbClr val="99ce88"/>
                </a:gs>
                <a:gs pos="100000">
                  <a:srgbClr val="465e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5"/>
                </a:gs>
                <a:gs pos="50000">
                  <a:srgbClr val="326652"/>
                </a:gs>
                <a:gs pos="100000">
                  <a:srgbClr val="172f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5"/>
                </a:gs>
                <a:gs pos="50000">
                  <a:srgbClr val="326652"/>
                </a:gs>
                <a:gs pos="100000">
                  <a:srgbClr val="172f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5"/>
                </a:gs>
                <a:gs pos="50000">
                  <a:srgbClr val="326652"/>
                </a:gs>
                <a:gs pos="100000">
                  <a:srgbClr val="172f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5281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32665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aaa12"/>
              </a:gs>
              <a:gs pos="100000">
                <a:srgbClr val="cec25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481b8"/>
              </a:gs>
              <a:gs pos="100000">
                <a:srgbClr val="5aa6c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354" name="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804680" y="1869120"/>
              <a:ext cx="1130760" cy="1064520"/>
              <a:chOff x="1804680" y="1869120"/>
              <a:chExt cx="1130760" cy="1064520"/>
            </a:xfrm>
          </p:grpSpPr>
          <p:sp>
            <p:nvSpPr>
              <p:cNvPr id="356" name=""/>
              <p:cNvSpPr/>
              <p:nvPr/>
            </p:nvSpPr>
            <p:spPr>
              <a:xfrm>
                <a:off x="1804680" y="18691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26652"/>
                  </a:gs>
                  <a:gs pos="100000">
                    <a:srgbClr val="22463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875240" y="193752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aa0"/>
                  </a:gs>
                  <a:gs pos="50000">
                    <a:srgbClr val="326652">
                      <a:alpha val="0"/>
                    </a:srgbClr>
                  </a:gs>
                  <a:gs pos="100000">
                    <a:srgbClr val="8eaaa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930680" y="21585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361" name="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1804680" y="3399120"/>
              <a:ext cx="1130760" cy="1064520"/>
              <a:chOff x="1804680" y="3399120"/>
              <a:chExt cx="1130760" cy="1064520"/>
            </a:xfrm>
          </p:grpSpPr>
          <p:sp>
            <p:nvSpPr>
              <p:cNvPr id="363" name=""/>
              <p:cNvSpPr/>
              <p:nvPr/>
            </p:nvSpPr>
            <p:spPr>
              <a:xfrm>
                <a:off x="1804680" y="33991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4a2ca"/>
                  </a:gs>
                  <a:gs pos="100000">
                    <a:srgbClr val="1481b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875240" y="346752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481b8">
                      <a:alpha val="0"/>
                    </a:srgbClr>
                  </a:gs>
                  <a:gs pos="100000">
                    <a:srgbClr val="9ac8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30680" y="3690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1f528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368" name="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1804680" y="4939200"/>
              <a:ext cx="1130760" cy="1064520"/>
              <a:chOff x="1804680" y="4939200"/>
              <a:chExt cx="1130760" cy="1064520"/>
            </a:xfrm>
          </p:grpSpPr>
          <p:sp>
            <p:nvSpPr>
              <p:cNvPr id="370" name=""/>
              <p:cNvSpPr/>
              <p:nvPr/>
            </p:nvSpPr>
            <p:spPr>
              <a:xfrm>
                <a:off x="1804680" y="49392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c868"/>
                  </a:gs>
                  <a:gs pos="100000">
                    <a:srgbClr val="baaa1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875240" y="50076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aa12">
                      <a:alpha val="0"/>
                    </a:srgbClr>
                  </a:gs>
                  <a:gs pos="100000">
                    <a:srgbClr val="dcd4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930680" y="52300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32665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37339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20876400">
            <a:off x="324000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7196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9248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0976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30192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8956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20826600">
            <a:off x="139716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320840" y="3371760"/>
            <a:ext cx="1371240" cy="1441080"/>
            <a:chOff x="1320840" y="3371760"/>
            <a:chExt cx="1371240" cy="1441080"/>
          </a:xfrm>
        </p:grpSpPr>
        <p:sp>
          <p:nvSpPr>
            <p:cNvPr id="385" name=""/>
            <p:cNvSpPr/>
            <p:nvPr/>
          </p:nvSpPr>
          <p:spPr>
            <a:xfrm>
              <a:off x="132084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38840" y="33800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51800" y="33933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23440" y="34300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0128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2193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200016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3082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1904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7304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4925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8616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60820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17920" y="154620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624040" y="1552680"/>
            <a:ext cx="63360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660760" y="15717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67876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57200" y="1386000"/>
            <a:ext cx="8381880" cy="4709520"/>
            <a:chOff x="457200" y="1386000"/>
            <a:chExt cx="8381880" cy="4709520"/>
          </a:xfrm>
        </p:grpSpPr>
        <p:sp>
          <p:nvSpPr>
            <p:cNvPr id="404" name=""/>
            <p:cNvSpPr/>
            <p:nvPr/>
          </p:nvSpPr>
          <p:spPr>
            <a:xfrm>
              <a:off x="2590920" y="213336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3266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3581280" y="3124080"/>
              <a:ext cx="2057400" cy="2133000"/>
              <a:chOff x="3581280" y="3124080"/>
              <a:chExt cx="2057400" cy="2133000"/>
            </a:xfrm>
          </p:grpSpPr>
          <p:sp>
            <p:nvSpPr>
              <p:cNvPr id="406" name=""/>
              <p:cNvSpPr/>
              <p:nvPr/>
            </p:nvSpPr>
            <p:spPr>
              <a:xfrm>
                <a:off x="3581280" y="3124080"/>
                <a:ext cx="2057400" cy="21330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1f52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816360" y="3159360"/>
                <a:ext cx="1587240" cy="804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3952080" y="3962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4191120" y="1752480"/>
              <a:ext cx="685800" cy="658440"/>
              <a:chOff x="4191120" y="1752480"/>
              <a:chExt cx="685800" cy="65844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4191120" y="1752480"/>
                <a:ext cx="685800" cy="658440"/>
                <a:chOff x="4191120" y="1752480"/>
                <a:chExt cx="685800" cy="6584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4191120" y="1752480"/>
                  <a:ext cx="685800" cy="65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4e470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4356000" y="185364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3525120" y="5037840"/>
              <a:ext cx="367920" cy="333720"/>
              <a:chOff x="3525120" y="5037840"/>
              <a:chExt cx="367920" cy="333720"/>
            </a:xfrm>
          </p:grpSpPr>
          <p:sp>
            <p:nvSpPr>
              <p:cNvPr id="415" name=""/>
              <p:cNvSpPr/>
              <p:nvPr/>
            </p:nvSpPr>
            <p:spPr>
              <a:xfrm rot="18226800">
                <a:off x="3553560" y="5209200"/>
                <a:ext cx="13068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5885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8226800">
                <a:off x="3733560" y="5061240"/>
                <a:ext cx="13068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5885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2895480" y="5329080"/>
              <a:ext cx="685800" cy="685440"/>
              <a:chOff x="2895480" y="5329080"/>
              <a:chExt cx="685800" cy="685440"/>
            </a:xfrm>
          </p:grpSpPr>
          <p:grpSp>
            <p:nvGrpSpPr>
              <p:cNvPr id="418" name=""/>
              <p:cNvGrpSpPr/>
              <p:nvPr/>
            </p:nvGrpSpPr>
            <p:grpSpPr>
              <a:xfrm>
                <a:off x="2895480" y="5329080"/>
                <a:ext cx="685800" cy="685440"/>
                <a:chOff x="2895480" y="5329080"/>
                <a:chExt cx="685800" cy="6854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2895480" y="5329080"/>
                  <a:ext cx="68580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12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973600" y="5340240"/>
                  <a:ext cx="529200" cy="258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3053880" y="5457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251400" y="3124080"/>
              <a:ext cx="682560" cy="693360"/>
              <a:chOff x="6251400" y="3124080"/>
              <a:chExt cx="682560" cy="69336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6251400" y="3124080"/>
                <a:ext cx="682560" cy="693360"/>
                <a:chOff x="6251400" y="3124080"/>
                <a:chExt cx="682560" cy="69336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251400" y="3124080"/>
                  <a:ext cx="682560" cy="69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481b8"/>
                    </a:gs>
                    <a:gs pos="100000">
                      <a:srgbClr val="77b5d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329160" y="3135240"/>
                  <a:ext cx="52668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481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6396840" y="321912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5638680" y="5333760"/>
              <a:ext cx="654120" cy="622080"/>
              <a:chOff x="5638680" y="5333760"/>
              <a:chExt cx="654120" cy="62208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5638680" y="5333760"/>
                <a:ext cx="654120" cy="622080"/>
                <a:chOff x="5638680" y="5333760"/>
                <a:chExt cx="654120" cy="6220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5638680" y="533376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ccce"/>
                    </a:gs>
                    <a:gs pos="100000">
                      <a:srgbClr val="545c5d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713200" y="534384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cc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5794920" y="536688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2362320" y="3124080"/>
              <a:ext cx="685800" cy="685440"/>
              <a:chOff x="2362320" y="3124080"/>
              <a:chExt cx="685800" cy="68544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2362320" y="3124080"/>
                <a:ext cx="685800" cy="685440"/>
                <a:chOff x="2362320" y="3124080"/>
                <a:chExt cx="685800" cy="6854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2362320" y="3124080"/>
                  <a:ext cx="68580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26652"/>
                    </a:gs>
                    <a:gs pos="100000">
                      <a:srgbClr val="162e2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440440" y="3135240"/>
                  <a:ext cx="529200" cy="258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266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2523240" y="320004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 rot="18226800">
              <a:off x="5564880" y="51750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b87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8226800">
              <a:off x="5412600" y="502272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b87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099600" y="3553560"/>
              <a:ext cx="415800" cy="260640"/>
              <a:chOff x="3099600" y="3553560"/>
              <a:chExt cx="415800" cy="260640"/>
            </a:xfrm>
          </p:grpSpPr>
          <p:sp>
            <p:nvSpPr>
              <p:cNvPr id="440" name=""/>
              <p:cNvSpPr/>
              <p:nvPr/>
            </p:nvSpPr>
            <p:spPr>
              <a:xfrm rot="18226800">
                <a:off x="3128040" y="3576960"/>
                <a:ext cx="130680" cy="1386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c3a2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8226800">
                <a:off x="3356280" y="3651840"/>
                <a:ext cx="130680" cy="13824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8312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471200" y="2531520"/>
              <a:ext cx="187200" cy="466560"/>
              <a:chOff x="4471200" y="2531520"/>
              <a:chExt cx="187200" cy="466560"/>
            </a:xfrm>
          </p:grpSpPr>
          <p:sp>
            <p:nvSpPr>
              <p:cNvPr id="443" name=""/>
              <p:cNvSpPr/>
              <p:nvPr/>
            </p:nvSpPr>
            <p:spPr>
              <a:xfrm rot="18226800">
                <a:off x="4499640" y="25549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44d0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8226800">
                <a:off x="4499640" y="283608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a520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 rot="18226800">
              <a:off x="5965200" y="3603960"/>
              <a:ext cx="129600" cy="137880"/>
            </a:xfrm>
            <a:prstGeom prst="ellipse">
              <a:avLst/>
            </a:prstGeom>
            <a:gradFill rotWithShape="0">
              <a:gsLst>
                <a:gs pos="0">
                  <a:srgbClr val="4c9fc8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8226800">
              <a:off x="5717520" y="3727800"/>
              <a:ext cx="129600" cy="137880"/>
            </a:xfrm>
            <a:prstGeom prst="ellipse">
              <a:avLst/>
            </a:prstGeom>
            <a:gradFill rotWithShape="0">
              <a:gsLst>
                <a:gs pos="0">
                  <a:srgbClr val="4c9fc8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7200" y="3276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8080" y="5562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24480" y="5562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/>
  <dc:description/>
  <cp:keywords>幻灯片之家 http:/www.eeppt.com</cp:keywords>
  <dc:language>en-US</dc:language>
  <cp:lastModifiedBy/>
  <dcterms:modified xsi:type="dcterms:W3CDTF">2015-07-05T03:00:33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