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37B39-DB49-42D9-BFFD-E2389EFBE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133360" y="343116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EDFBA-0598-463D-A2C5-68EA07392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5220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5F0D3-A67A-43F8-A1E1-E7FCC4B6E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2324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276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13336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2324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276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15898-3A6F-4AB3-AD6F-191165AB5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C8DE3-CC91-4D0A-8A0F-C0233C12EF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CAD1E-2C7B-4FCB-837A-5E2E2E11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A5FD1-0EE7-43E3-BD6D-1DAF807E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0A2F8-1F80-46FB-A8E4-BFE102E9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1081D-7D2B-4A15-A557-A64D1BED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286000" y="4114440"/>
            <a:ext cx="6400800" cy="70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65F99-3C00-4D98-969E-39C8978A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6A3E3-E693-493A-87F7-0FBF7159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76B05-76D7-4C22-9EAA-38D3324C92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5220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8C1CB-6B09-4F52-8F9A-B3183D97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A2014-2960-46DE-80B2-AD852599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133360" y="343116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D1B28-2F0C-4015-98EF-8E03CD16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5220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6DF29-20A0-4772-9A69-4F9D95D8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32324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1276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13336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32324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1276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F2A8C-0F8E-4D6D-9F22-0839141663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5C94B-B364-48D6-885B-CACD9FF6B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9AA80-B2D3-4075-8EED-B9A512B7D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05A05-1986-4508-A02F-C76F6C828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0" y="4114440"/>
            <a:ext cx="6400800" cy="70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6ABD5-DE7E-4B63-8917-6547DB6B0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1DC83-F703-4BC4-A90F-2A9B91CC3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5220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96A75-08C7-458A-8AF4-4DE115E7F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3DB73-7C44-4D1F-BBFA-E68A2B36F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6800"/>
          </a:xfrm>
          <a:prstGeom prst="rect">
            <a:avLst/>
          </a:pr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33200" y="6380280"/>
            <a:ext cx="304920" cy="334800"/>
          </a:xfrm>
          <a:prstGeom prst="diamond">
            <a:avLst/>
          </a:prstGeom>
          <a:solidFill>
            <a:srgbClr val="328c8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3657240" y="655164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DD5A-BB17-40CB-ADBE-5DB809E86D8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c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7603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"/>
          <p:cNvSpPr/>
          <p:nvPr/>
        </p:nvSpPr>
        <p:spPr>
          <a:xfrm>
            <a:off x="7772400" y="762120"/>
            <a:ext cx="1371600" cy="4800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28c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114640" y="0"/>
            <a:ext cx="7029360" cy="327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2133720" cy="3200400"/>
          </a:xfrm>
          <a:prstGeom prst="rect">
            <a:avLst/>
          </a:pr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004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352680"/>
            <a:ext cx="2133720" cy="350532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b4e63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3"/>
          </p:nvPr>
        </p:nvSpPr>
        <p:spPr>
          <a:xfrm>
            <a:off x="3580920" y="650844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6412-F5CD-4288-B375-C756DA833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5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0" y="3809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1" lang="en-US" sz="18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国外优秀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欣赏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 rot="17973000">
            <a:off x="4615560" y="2406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3465600">
            <a:off x="4615200" y="45712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4368800">
            <a:off x="3396240" y="24832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7534800">
            <a:off x="3358080" y="45378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94440" y="35352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784240" y="35290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05240" y="1778040"/>
            <a:ext cx="3743280" cy="3744720"/>
          </a:xfrm>
          <a:prstGeom prst="ellipse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267000" y="1825560"/>
            <a:ext cx="360360" cy="360360"/>
            <a:chOff x="3267000" y="1825560"/>
            <a:chExt cx="360360" cy="360360"/>
          </a:xfrm>
        </p:grpSpPr>
        <p:sp>
          <p:nvSpPr>
            <p:cNvPr id="257" name=""/>
            <p:cNvSpPr/>
            <p:nvPr/>
          </p:nvSpPr>
          <p:spPr>
            <a:xfrm>
              <a:off x="3267000" y="1825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82840" y="1855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322360" y="3481560"/>
            <a:ext cx="360360" cy="360360"/>
            <a:chOff x="2322360" y="3481560"/>
            <a:chExt cx="360360" cy="360360"/>
          </a:xfrm>
        </p:grpSpPr>
        <p:sp>
          <p:nvSpPr>
            <p:cNvPr id="260" name=""/>
            <p:cNvSpPr/>
            <p:nvPr/>
          </p:nvSpPr>
          <p:spPr>
            <a:xfrm>
              <a:off x="232236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3820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186000" y="5024520"/>
            <a:ext cx="360360" cy="360360"/>
            <a:chOff x="3186000" y="5024520"/>
            <a:chExt cx="360360" cy="360360"/>
          </a:xfrm>
        </p:grpSpPr>
        <p:sp>
          <p:nvSpPr>
            <p:cNvPr id="263" name=""/>
            <p:cNvSpPr/>
            <p:nvPr/>
          </p:nvSpPr>
          <p:spPr>
            <a:xfrm>
              <a:off x="3186000" y="5024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1840" y="5054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116680" y="1805040"/>
            <a:ext cx="360360" cy="360360"/>
            <a:chOff x="5116680" y="1805040"/>
            <a:chExt cx="360360" cy="360360"/>
          </a:xfrm>
        </p:grpSpPr>
        <p:sp>
          <p:nvSpPr>
            <p:cNvPr id="266" name=""/>
            <p:cNvSpPr/>
            <p:nvPr/>
          </p:nvSpPr>
          <p:spPr>
            <a:xfrm>
              <a:off x="5116680" y="18050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32520" y="18352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066000" y="3481560"/>
            <a:ext cx="360360" cy="360360"/>
            <a:chOff x="6066000" y="3481560"/>
            <a:chExt cx="360360" cy="360360"/>
          </a:xfrm>
        </p:grpSpPr>
        <p:sp>
          <p:nvSpPr>
            <p:cNvPr id="269" name=""/>
            <p:cNvSpPr/>
            <p:nvPr/>
          </p:nvSpPr>
          <p:spPr>
            <a:xfrm>
              <a:off x="606600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8184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172120" y="5081760"/>
            <a:ext cx="360360" cy="360360"/>
            <a:chOff x="5172120" y="5081760"/>
            <a:chExt cx="360360" cy="360360"/>
          </a:xfrm>
        </p:grpSpPr>
        <p:sp>
          <p:nvSpPr>
            <p:cNvPr id="272" name=""/>
            <p:cNvSpPr/>
            <p:nvPr/>
          </p:nvSpPr>
          <p:spPr>
            <a:xfrm>
              <a:off x="5172120" y="5081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87960" y="5112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462480" y="2719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dc03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56000" y="27036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48581b"/>
              </a:gs>
              <a:gs pos="100000">
                <a:srgbClr val="9dc03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89200" y="28465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546720"/>
              </a:gs>
              <a:gs pos="50000">
                <a:srgbClr val="9dc03c"/>
              </a:gs>
              <a:gs pos="100000">
                <a:srgbClr val="54672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71920" y="2819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9dc03c">
                  <a:alpha val="0"/>
                </a:srgbClr>
              </a:gs>
              <a:gs pos="100000">
                <a:srgbClr val="63792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673440" y="293040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95760" y="294948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3040" y="29592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28880" y="2973240"/>
            <a:ext cx="1366920" cy="13417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9880" y="300996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02840" y="34196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56600" y="175248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67160" y="175248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71000" y="35053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56600" y="5105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2760" y="35053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90840" y="50436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292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299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07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21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26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37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340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341" name="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344" name="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47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353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358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359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362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370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375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376" name="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379" name="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382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388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2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393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394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397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00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06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419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b4e63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b4e63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b4e63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4e63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3" name=""/>
            <p:cNvCxnSpPr>
              <a:stCxn id="419" idx="3"/>
              <a:endCxn id="420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1b4e63"/>
              </a:solidFill>
              <a:miter/>
              <a:tailEnd len="med" type="triangle" w="med"/>
            </a:ln>
          </p:spPr>
        </p:cxnSp>
        <p:cxnSp>
          <p:nvCxnSpPr>
            <p:cNvPr id="424" name=""/>
            <p:cNvCxnSpPr>
              <a:stCxn id="420" idx="3"/>
              <a:endCxn id="421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1b4e63"/>
              </a:solidFill>
              <a:miter/>
              <a:tailEnd len="med" type="triangle" w="med"/>
            </a:ln>
          </p:spPr>
        </p:cxnSp>
        <p:cxnSp>
          <p:nvCxnSpPr>
            <p:cNvPr id="425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1b4e63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28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430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28c83"/>
                  </a:gs>
                  <a:gs pos="100000">
                    <a:srgbClr val="226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bfba"/>
                  </a:gs>
                  <a:gs pos="50000">
                    <a:srgbClr val="328c83">
                      <a:alpha val="0"/>
                    </a:srgbClr>
                  </a:gs>
                  <a:gs pos="100000">
                    <a:srgbClr val="8ebf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435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437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7d071"/>
                  </a:gs>
                  <a:gs pos="100000">
                    <a:srgbClr val="9dc03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c03c">
                      <a:alpha val="0"/>
                    </a:srgbClr>
                  </a:gs>
                  <a:gs pos="100000">
                    <a:srgbClr val="d4e3a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442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ab2e4"/>
                  </a:gs>
                  <a:gs pos="100000">
                    <a:srgbClr val="2f87d7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f87d7">
                      <a:alpha val="0"/>
                    </a:srgbClr>
                  </a:gs>
                  <a:gs pos="100000">
                    <a:srgbClr val="99c3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615168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31291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9" y="0"/>
                </a:moveTo>
                <a:arcTo wR="2969" hR="2969" stAng="16200000" swAng="-5400000"/>
                <a:lnTo>
                  <a:pt x="0" y="33732"/>
                </a:lnTo>
                <a:arcTo wR="2969" hR="2969" stAng="10800000" swAng="-5400000"/>
                <a:lnTo>
                  <a:pt x="18631" y="367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773440" y="3129120"/>
            <a:ext cx="1563480" cy="273816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25">
                <a:moveTo>
                  <a:pt x="2969" y="0"/>
                </a:moveTo>
                <a:arcTo wR="2969" hR="2969" stAng="16200000" swAng="-5400000"/>
                <a:lnTo>
                  <a:pt x="0" y="34856"/>
                </a:lnTo>
                <a:arcTo wR="2969" hR="2969" stAng="10800000" swAng="-5400000"/>
                <a:lnTo>
                  <a:pt x="18631" y="3782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066680" y="3129120"/>
            <a:ext cx="1621080" cy="273816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1">
                <a:moveTo>
                  <a:pt x="2969" y="0"/>
                </a:moveTo>
                <a:arcTo wR="2969" hR="2969" stAng="16200000" swAng="-5400000"/>
                <a:lnTo>
                  <a:pt x="0" y="33512"/>
                </a:lnTo>
                <a:arcTo wR="2969" hR="2969" stAng="10800000" swAng="-5400000"/>
                <a:lnTo>
                  <a:pt x="18631" y="3648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127520" y="1558440"/>
            <a:ext cx="6215400" cy="1324800"/>
            <a:chOff x="1127520" y="1558440"/>
            <a:chExt cx="6215400" cy="1324800"/>
          </a:xfrm>
        </p:grpSpPr>
        <p:sp>
          <p:nvSpPr>
            <p:cNvPr id="454" name=""/>
            <p:cNvSpPr/>
            <p:nvPr/>
          </p:nvSpPr>
          <p:spPr>
            <a:xfrm rot="3418800">
              <a:off x="1335240" y="17665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dc03c"/>
                </a:gs>
                <a:gs pos="100000">
                  <a:srgbClr val="4858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2258280" y="1939680"/>
              <a:ext cx="901080" cy="124200"/>
              <a:chOff x="2258280" y="1939680"/>
              <a:chExt cx="901080" cy="124200"/>
            </a:xfrm>
          </p:grpSpPr>
          <p:sp>
            <p:nvSpPr>
              <p:cNvPr id="456" name=""/>
              <p:cNvSpPr/>
              <p:nvPr/>
            </p:nvSpPr>
            <p:spPr>
              <a:xfrm>
                <a:off x="225828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344680" y="194040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2292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09600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 rot="3418800">
              <a:off x="2999880" y="1704240"/>
              <a:ext cx="874080" cy="970920"/>
            </a:xfrm>
            <a:prstGeom prst="rect">
              <a:avLst/>
            </a:prstGeom>
            <a:solidFill>
              <a:srgbClr val="328c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3922920" y="1939680"/>
              <a:ext cx="901080" cy="124200"/>
              <a:chOff x="3922920" y="1939680"/>
              <a:chExt cx="901080" cy="124200"/>
            </a:xfrm>
          </p:grpSpPr>
          <p:sp>
            <p:nvSpPr>
              <p:cNvPr id="462" name=""/>
              <p:cNvSpPr/>
              <p:nvPr/>
            </p:nvSpPr>
            <p:spPr>
              <a:xfrm>
                <a:off x="392292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009320" y="194040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68756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76064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 rot="3418800">
              <a:off x="4595760" y="170388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9dc03c"/>
                </a:gs>
                <a:gs pos="100000">
                  <a:srgbClr val="4858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587560" y="1939680"/>
              <a:ext cx="1178640" cy="124200"/>
              <a:chOff x="5587560" y="1939680"/>
              <a:chExt cx="1178640" cy="124200"/>
            </a:xfrm>
          </p:grpSpPr>
          <p:sp>
            <p:nvSpPr>
              <p:cNvPr id="468" name=""/>
              <p:cNvSpPr/>
              <p:nvPr/>
            </p:nvSpPr>
            <p:spPr>
              <a:xfrm>
                <a:off x="5587560" y="19396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700600" y="194040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587640" y="194148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683040" y="198036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 rot="3418800">
              <a:off x="6260400" y="1703880"/>
              <a:ext cx="874080" cy="971280"/>
            </a:xfrm>
            <a:prstGeom prst="rect">
              <a:avLst/>
            </a:prstGeom>
            <a:solidFill>
              <a:srgbClr val="328c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44252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13812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68432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7956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4900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4280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83804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3364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838080" y="216540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4e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4e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4e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4e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4e63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83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dc03c"/>
                </a:solidFill>
                <a:uFillTx/>
                <a:latin typeface="Arial"/>
                <a:hlinkClick r:id="rId1"/>
              </a:rPr>
              <a:t>国外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9dc03c"/>
                </a:solidFill>
                <a:uFillTx/>
                <a:latin typeface="Arial"/>
                <a:hlinkClick r:id="rId2"/>
              </a:rPr>
              <a:t>http://www.eeppt.com/moban/guow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596520" y="657000"/>
            <a:ext cx="7378560" cy="5581080"/>
            <a:chOff x="596520" y="657000"/>
            <a:chExt cx="7378560" cy="5581080"/>
          </a:xfrm>
        </p:grpSpPr>
        <p:sp>
          <p:nvSpPr>
            <p:cNvPr id="485" name=""/>
            <p:cNvSpPr/>
            <p:nvPr/>
          </p:nvSpPr>
          <p:spPr>
            <a:xfrm>
              <a:off x="2133360" y="444348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20601600">
              <a:off x="1407960" y="232992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601600">
              <a:off x="1464480" y="216828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601600">
              <a:off x="1380960" y="2153880"/>
              <a:ext cx="569772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dc03c"/>
                </a:gs>
                <a:gs pos="100000">
                  <a:srgbClr val="bfd68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rot="20602200">
              <a:off x="1429920" y="2154240"/>
              <a:ext cx="564264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328c83"/>
                </a:gs>
                <a:gs pos="100000">
                  <a:srgbClr val="22615b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20601600">
              <a:off x="1387800" y="2165040"/>
              <a:ext cx="56808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d4e3ab"/>
                </a:gs>
                <a:gs pos="100000">
                  <a:srgbClr val="9dc03c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rot="20602200">
              <a:off x="1397880" y="2163600"/>
              <a:ext cx="5701320" cy="293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53c00"/>
                </a:gs>
                <a:gs pos="100000">
                  <a:srgbClr val="dc83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59040" y="360036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2f87d7"/>
                </a:gs>
                <a:gs pos="100000">
                  <a:srgbClr val="9fc7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20539200">
              <a:off x="1014840" y="1561320"/>
              <a:ext cx="654192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2f87d7"/>
                </a:gs>
                <a:gs pos="100000">
                  <a:srgbClr val="153e6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70120" y="394020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2f87d7"/>
                </a:gs>
                <a:gs pos="100000">
                  <a:srgbClr val="9fc7e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0601600">
              <a:off x="2925360" y="288288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15920" y="3562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21040" y="2343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49840" y="2647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44920" y="3867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35240" y="4552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89120" y="4156200"/>
              <a:ext cx="86328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dc03c">
                    <a:alpha val="19215"/>
                  </a:srgbClr>
                </a:gs>
                <a:gs pos="100000">
                  <a:srgbClr val="bcd4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0601600">
              <a:off x="3027240" y="3135240"/>
              <a:ext cx="258552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8c83"/>
              </a:gs>
              <a:gs pos="50000">
                <a:srgbClr val="7ab4ae"/>
              </a:gs>
              <a:gs pos="100000">
                <a:srgbClr val="328c8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914400" y="4311720"/>
            <a:ext cx="1579680" cy="2070000"/>
            <a:chOff x="914400" y="4311720"/>
            <a:chExt cx="1579680" cy="2070000"/>
          </a:xfrm>
        </p:grpSpPr>
        <p:grpSp>
          <p:nvGrpSpPr>
            <p:cNvPr id="509" name=""/>
            <p:cNvGrpSpPr/>
            <p:nvPr/>
          </p:nvGrpSpPr>
          <p:grpSpPr>
            <a:xfrm>
              <a:off x="914400" y="4311720"/>
              <a:ext cx="1486080" cy="1514520"/>
              <a:chOff x="914400" y="4311720"/>
              <a:chExt cx="1486080" cy="151452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914400" y="4311720"/>
                <a:ext cx="1486080" cy="1514520"/>
                <a:chOff x="914400" y="4311720"/>
                <a:chExt cx="1486080" cy="151452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914400" y="43117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c8300"/>
                    </a:gs>
                    <a:gs pos="100000">
                      <a:srgbClr val="8b52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084320" y="43365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c8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1072440" y="50828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91440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2819520" y="4311720"/>
            <a:ext cx="1617120" cy="2070000"/>
            <a:chOff x="2819520" y="4311720"/>
            <a:chExt cx="1617120" cy="2070000"/>
          </a:xfrm>
        </p:grpSpPr>
        <p:grpSp>
          <p:nvGrpSpPr>
            <p:cNvPr id="516" name=""/>
            <p:cNvGrpSpPr/>
            <p:nvPr/>
          </p:nvGrpSpPr>
          <p:grpSpPr>
            <a:xfrm>
              <a:off x="2819520" y="4311720"/>
              <a:ext cx="1523520" cy="1521000"/>
              <a:chOff x="2819520" y="4311720"/>
              <a:chExt cx="1523520" cy="1521000"/>
            </a:xfrm>
          </p:grpSpPr>
          <p:sp>
            <p:nvSpPr>
              <p:cNvPr id="517" name=""/>
              <p:cNvSpPr/>
              <p:nvPr/>
            </p:nvSpPr>
            <p:spPr>
              <a:xfrm>
                <a:off x="2819520" y="4311720"/>
                <a:ext cx="1523520" cy="1521000"/>
              </a:xfrm>
              <a:prstGeom prst="ellipse">
                <a:avLst/>
              </a:prstGeom>
              <a:gradFill rotWithShape="0">
                <a:gsLst>
                  <a:gs pos="0">
                    <a:srgbClr val="9dc03c"/>
                  </a:gs>
                  <a:gs pos="100000">
                    <a:srgbClr val="5062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99340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dc0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2895480" y="50418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5732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522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523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28c83"/>
                  </a:gs>
                  <a:gs pos="100000">
                    <a:srgbClr val="1947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28c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95324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2948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528" name=""/>
            <p:cNvGrpSpPr/>
            <p:nvPr/>
          </p:nvGrpSpPr>
          <p:grpSpPr>
            <a:xfrm>
              <a:off x="6781680" y="4267080"/>
              <a:ext cx="1523880" cy="1531800"/>
              <a:chOff x="6781680" y="4267080"/>
              <a:chExt cx="1523880" cy="153180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6781680" y="4267080"/>
                <a:ext cx="1523880" cy="1531800"/>
                <a:chOff x="6781680" y="4267080"/>
                <a:chExt cx="1523880" cy="153180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6781680" y="4267080"/>
                  <a:ext cx="152388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87d7"/>
                    </a:gs>
                    <a:gs pos="100000">
                      <a:srgbClr val="0b20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955920" y="4292280"/>
                  <a:ext cx="117540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f87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692460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2819160" y="495252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company slogan 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286000" y="388620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8c83"/>
                    </a:gs>
                    <a:gs pos="100000">
                      <a:srgbClr val="1b4e63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8c83"/>
                  </a:gs>
                  <a:gs pos="100000">
                    <a:srgbClr val="1b4e63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6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dc8300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c83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1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328c8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28c8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6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9dc03c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9dc03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1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2f87d7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2f87d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8840" y="139176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28c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28c83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28c83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28c83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28c83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b4e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b4e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7af5c"/>
              </a:gs>
              <a:gs pos="100000">
                <a:srgbClr val="dc8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eeac0"/>
              </a:gs>
              <a:gs pos="100000">
                <a:srgbClr val="9dc03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124" name=""/>
            <p:cNvGrpSpPr/>
            <p:nvPr/>
          </p:nvGrpSpPr>
          <p:grpSpPr>
            <a:xfrm>
              <a:off x="3048120" y="1514520"/>
              <a:ext cx="2998440" cy="1458360"/>
              <a:chOff x="3048120" y="1514520"/>
              <a:chExt cx="2998440" cy="1458360"/>
            </a:xfrm>
          </p:grpSpPr>
          <p:sp>
            <p:nvSpPr>
              <p:cNvPr id="125" name=""/>
              <p:cNvSpPr/>
              <p:nvPr/>
            </p:nvSpPr>
            <p:spPr>
              <a:xfrm>
                <a:off x="3080880" y="15609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c5d1d"/>
                  </a:gs>
                  <a:gs pos="100000">
                    <a:srgbClr val="9dc03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8120" y="151452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9dc03c"/>
                  </a:gs>
                  <a:gs pos="100000">
                    <a:srgbClr val="d2e2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18924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28c83"/>
                </a:gs>
                <a:gs pos="100000">
                  <a:srgbClr val="17403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24160" y="137952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b6d6d2"/>
                </a:gs>
                <a:gs pos="100000">
                  <a:srgbClr val="328c8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51160" y="139212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328c83">
                    <a:alpha val="48235"/>
                  </a:srgbClr>
                </a:gs>
                <a:gs pos="100000">
                  <a:srgbClr val="276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82920" y="141912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328c83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34080" y="32767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0880" y="1493640"/>
            <a:ext cx="7328520" cy="4583520"/>
            <a:chOff x="380880" y="1493640"/>
            <a:chExt cx="7328520" cy="4583520"/>
          </a:xfrm>
        </p:grpSpPr>
        <p:sp>
          <p:nvSpPr>
            <p:cNvPr id="135" name=""/>
            <p:cNvSpPr/>
            <p:nvPr/>
          </p:nvSpPr>
          <p:spPr>
            <a:xfrm rot="20241600">
              <a:off x="1010880" y="25732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056200">
              <a:off x="3961800" y="25142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056200">
              <a:off x="6629040" y="2666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056200">
              <a:off x="2514240" y="53337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056200">
              <a:off x="5104800" y="47239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056200">
              <a:off x="1675800" y="3885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40160" y="18288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dc03c"/>
                </a:gs>
                <a:gs pos="100000">
                  <a:srgbClr val="35421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04920" y="31464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328c83"/>
                </a:gs>
                <a:gs pos="100000">
                  <a:srgbClr val="0f2b2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9000" y="46134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c8300"/>
                </a:gs>
                <a:gs pos="100000">
                  <a:srgbClr val="4e2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57520" y="40687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83280" y="20257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2f87d7"/>
                </a:gs>
                <a:gs pos="100000">
                  <a:srgbClr val="102e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2160" y="3541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45800" y="2224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55440" y="2463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63160" y="44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53240" y="50022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7760" y="34290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20840" y="22240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"/>
            <p:cNvCxnSpPr/>
            <p:nvPr/>
          </p:nvCxnSpPr>
          <p:spPr>
            <a:xfrm flipH="1">
              <a:off x="505800" y="22237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4" name=""/>
            <p:cNvSpPr/>
            <p:nvPr/>
          </p:nvSpPr>
          <p:spPr>
            <a:xfrm>
              <a:off x="380880" y="18288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7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e63"/>
                </a:gs>
                <a:gs pos="50000">
                  <a:srgbClr val="2f87d7"/>
                </a:gs>
                <a:gs pos="100000">
                  <a:srgbClr val="153e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e63"/>
                </a:gs>
                <a:gs pos="50000">
                  <a:srgbClr val="2f87d7"/>
                </a:gs>
                <a:gs pos="100000">
                  <a:srgbClr val="153e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e63"/>
                </a:gs>
                <a:gs pos="50000">
                  <a:srgbClr val="2f87d7"/>
                </a:gs>
                <a:gs pos="100000">
                  <a:srgbClr val="153e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7403c"/>
                </a:gs>
                <a:gs pos="50000">
                  <a:srgbClr val="328c83"/>
                </a:gs>
                <a:gs pos="100000">
                  <a:srgbClr val="1740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8581b"/>
                </a:gs>
                <a:gs pos="50000">
                  <a:srgbClr val="9dc03c"/>
                </a:gs>
                <a:gs pos="100000">
                  <a:srgbClr val="4858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328c8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c8300"/>
              </a:gs>
              <a:gs pos="100000">
                <a:srgbClr val="e5a74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dc03c"/>
              </a:gs>
              <a:gs pos="100000">
                <a:srgbClr val="b9d27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b4e63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b4e63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b4e63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dc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dc03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dc03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46720"/>
              </a:gs>
              <a:gs pos="50000">
                <a:srgbClr val="9dc03c"/>
              </a:gs>
              <a:gs pos="100000">
                <a:srgbClr val="54672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9dc03c">
                  <a:alpha val="0"/>
                </a:srgbClr>
              </a:gs>
              <a:gs pos="100000">
                <a:srgbClr val="63792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2f87d7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2f87d7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194873"/>
              </a:gs>
              <a:gs pos="50000">
                <a:srgbClr val="2f87d7"/>
              </a:gs>
              <a:gs pos="100000">
                <a:srgbClr val="1948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f87d7">
                  <a:alpha val="0"/>
                </a:srgbClr>
              </a:gs>
              <a:gs pos="100000">
                <a:srgbClr val="1d558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198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28c8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17403c"/>
              </a:gs>
              <a:gs pos="100000">
                <a:srgbClr val="328c8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a4b46"/>
              </a:gs>
              <a:gs pos="50000">
                <a:srgbClr val="328c83"/>
              </a:gs>
              <a:gs pos="100000">
                <a:srgbClr val="1a4b4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328c83">
                  <a:alpha val="0"/>
                </a:srgbClr>
              </a:gs>
              <a:gs pos="100000">
                <a:srgbClr val="1f585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08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13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dc03c"/>
              </a:gs>
              <a:gs pos="100000">
                <a:srgbClr val="328c8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3600" y="3595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e63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31" name="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15160" y="33800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28120" y="33933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99760" y="34300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200016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082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1904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7304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925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6068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7004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7652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1288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308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/>
  <dc:description/>
  <cp:keywords>幻灯片之家 http:/www.eeppt.com</cp:keywords>
  <dc:language>en-US</dc:language>
  <cp:lastModifiedBy/>
  <dcterms:modified xsi:type="dcterms:W3CDTF">2015-07-05T03:03:36Z</dcterms:modified>
  <cp:revision>5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