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761A-1823-4EEC-AE38-13C4292D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4000680"/>
            <a:ext cx="7391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025-9D83-4F61-AA85-D431C88C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400068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2840" y="400068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DB1-7C9D-4A49-B199-8A49A7E2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3799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4760" y="1676520"/>
            <a:ext cx="23799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3880" y="1676520"/>
            <a:ext cx="23799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4000680"/>
            <a:ext cx="23799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4760" y="4000680"/>
            <a:ext cx="23799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3880" y="4000680"/>
            <a:ext cx="23799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E9EA-FADC-4FED-8D8B-BBA08958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5A7F-E5BE-4033-84C4-DA10E6C2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39152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2ABF-B1C0-45A9-B4F3-641FA263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5C6E-F535-4E90-B373-66D32D9C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9B1D-39D7-4E90-86E9-AF73ACAF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124D-0573-49E6-86B8-80F91096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5280" y="685440"/>
            <a:ext cx="7391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EF26-7DB8-404D-9FF7-1194FD89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5280" y="400068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A1B8-9163-431D-A594-5FC0C4F0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39152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1955-6FD3-4210-A4BF-F66AB641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82840" y="400068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0CEF-98A6-4E47-9452-00BB1502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4000680"/>
            <a:ext cx="7391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7729-98FF-478E-912B-6ABDE04C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5280" y="4000680"/>
            <a:ext cx="7391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6169-E783-4407-B491-490A43E1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5280" y="400068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82840" y="400068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8C9C-8F25-40BF-BD54-866821CB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3799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4760" y="1676520"/>
            <a:ext cx="23799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93880" y="1676520"/>
            <a:ext cx="23799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5280" y="4000680"/>
            <a:ext cx="23799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4760" y="4000680"/>
            <a:ext cx="23799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93880" y="4000680"/>
            <a:ext cx="23799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93A5-CB89-4153-A656-0A1C7E0A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8ED1-C333-4465-9675-56405C19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A43F-0B4F-40A8-86C5-0DF012CD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A4BB-604E-430F-A04E-2359777F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5280" y="685440"/>
            <a:ext cx="7391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E003-FAE0-457A-8C1D-0ABCE5E0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400068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E364-F8C2-4093-8889-4CF479A3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2840" y="400068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10D9-C7CC-413D-9BE9-6BF5302F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4000680"/>
            <a:ext cx="7391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7F89-48C3-45DD-909E-4E243675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391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2372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372c"/>
                </a:solidFill>
                <a:latin typeface="Arial Black"/>
              </a:rPr>
              <a:t>Click to edit the outline text format</a:t>
            </a: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42372c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372c"/>
                </a:solidFill>
                <a:latin typeface="Arial Black"/>
              </a:rPr>
              <a:t>Second Outline Level</a:t>
            </a: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  <a:p>
            <a:pPr lvl="2" marL="1143000" indent="-228600">
              <a:spcBef>
                <a:spcPts val="451"/>
              </a:spcBef>
              <a:buClr>
                <a:srgbClr val="42372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372c"/>
                </a:solidFill>
                <a:latin typeface="Arial Black"/>
              </a:rPr>
              <a:t>Third Outline Level</a:t>
            </a: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42372c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372c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  <a:p>
            <a:pPr lvl="4" marL="2057400" indent="-228600">
              <a:spcBef>
                <a:spcPts val="451"/>
              </a:spcBef>
              <a:buClr>
                <a:srgbClr val="42372c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372c"/>
                </a:solidFill>
                <a:latin typeface="Arial Black"/>
              </a:rPr>
              <a:t>Fifth Outline Level</a:t>
            </a: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372c"/>
                </a:solidFill>
                <a:latin typeface="Arial Black"/>
              </a:rPr>
              <a:t>Sixth Outline Level</a:t>
            </a: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372c"/>
                </a:solidFill>
                <a:latin typeface="Arial Black"/>
              </a:rPr>
              <a:t>Seventh Outline Level</a:t>
            </a: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4481-0031-4D90-B224-C5178D9CC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8374-00E8-48C5-86DA-EAD659FE2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2372c"/>
                </a:solidFill>
                <a:latin typeface="Arial Black"/>
              </a:rPr>
              <a:t>Second Outline Level</a:t>
            </a:r>
            <a:endParaRPr b="0" lang="en-US" sz="1600" spc="-1" strike="noStrike">
              <a:solidFill>
                <a:srgbClr val="42372c"/>
              </a:solidFill>
              <a:latin typeface="Arial Black"/>
            </a:endParaRPr>
          </a:p>
          <a:p>
            <a:pPr lvl="2" marL="914400" algn="ctr">
              <a:spcBef>
                <a:spcPts val="349"/>
              </a:spcBef>
              <a:buClr>
                <a:srgbClr val="42372c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372c"/>
                </a:solidFill>
                <a:latin typeface="Arial Black"/>
              </a:rPr>
              <a:t>Third Outline Level</a:t>
            </a:r>
            <a:endParaRPr b="0" lang="en-US" sz="1400" spc="-1" strike="noStrike">
              <a:solidFill>
                <a:srgbClr val="42372c"/>
              </a:solidFill>
              <a:latin typeface="Arial Black"/>
            </a:endParaRPr>
          </a:p>
          <a:p>
            <a:pPr lvl="3" marL="1371600" algn="ctr">
              <a:spcBef>
                <a:spcPts val="300"/>
              </a:spcBef>
              <a:buClr>
                <a:srgbClr val="42372c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372c"/>
                </a:solidFill>
                <a:latin typeface="Arial Black"/>
              </a:rPr>
              <a:t>Fourth Outline Level</a:t>
            </a:r>
            <a:endParaRPr b="0" lang="en-US" sz="1200" spc="-1" strike="noStrike">
              <a:solidFill>
                <a:srgbClr val="42372c"/>
              </a:solidFill>
              <a:latin typeface="Arial Black"/>
            </a:endParaRPr>
          </a:p>
          <a:p>
            <a:pPr lvl="4" marL="1828800" algn="ctr">
              <a:spcBef>
                <a:spcPts val="300"/>
              </a:spcBef>
              <a:buClr>
                <a:srgbClr val="42372c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372c"/>
                </a:solidFill>
                <a:latin typeface="Arial Black"/>
              </a:rPr>
              <a:t>Fifth Outline Level</a:t>
            </a:r>
            <a:endParaRPr b="0" lang="en-US" sz="1200" spc="-1" strike="noStrike">
              <a:solidFill>
                <a:srgbClr val="42372c"/>
              </a:solidFill>
              <a:latin typeface="Arial Black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372c"/>
                </a:solidFill>
                <a:latin typeface="Arial Black"/>
              </a:rPr>
              <a:t>Sixth Outline Level</a:t>
            </a:r>
            <a:endParaRPr b="0" lang="en-US" sz="1200" spc="-1" strike="noStrike">
              <a:solidFill>
                <a:srgbClr val="42372c"/>
              </a:solidFill>
              <a:latin typeface="Arial Black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372c"/>
                </a:solidFill>
                <a:latin typeface="Arial Black"/>
              </a:rPr>
              <a:t>Seventh Outline Level</a:t>
            </a:r>
            <a:endParaRPr b="0" lang="en-US" sz="1200" spc="-1" strike="noStrike">
              <a:solidFill>
                <a:srgbClr val="42372c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gongye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宋体"/>
              </a:rPr>
              <a:t>工业产品设计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宋体"/>
              </a:rPr>
              <a:t>PPT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宋体"/>
              </a:rPr>
              <a:t>模板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434304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 Black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 Black"/>
              </a:rPr>
              <a:t>http://www.eeppt.com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2372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372c"/>
                </a:solidFill>
                <a:latin typeface="Arial Black"/>
                <a:ea typeface="宋体"/>
              </a:rPr>
              <a:t>YOUR SUBTOPICS GO HERE</a:t>
            </a: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宋体"/>
              </a:rPr>
              <a:t>YOUR SUBTOPICS GO HERE</a:t>
            </a: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041480" y="5721480"/>
            <a:ext cx="6843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工业制造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y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f1ec"/>
                </a:solidFill>
                <a:latin typeface="Times New Roman"/>
                <a:ea typeface="宋体"/>
              </a:rPr>
              <a:t>Transitional Pag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391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ero"/>
                <a:ea typeface="宋体"/>
              </a:rPr>
              <a:t>elem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257800" y="4286160"/>
            <a:ext cx="2819520" cy="211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43000" y="4286160"/>
            <a:ext cx="2819520" cy="211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257800" y="1695600"/>
            <a:ext cx="2819520" cy="211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143000" y="1695600"/>
            <a:ext cx="2819520" cy="211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2:23:04Z</dcterms:created>
  <dc:creator/>
  <dc:description/>
  <cp:keywords>幻灯片之家 http:/www.eeppt.com</cp:keywords>
  <dc:language>en-US</dc:language>
  <cp:lastModifiedBy/>
  <dcterms:modified xsi:type="dcterms:W3CDTF">2015-07-05T07:09:5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