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FB7-3E17-4F7D-ABA0-590E99AB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1D4-C062-4B2C-9265-6278A9E6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3DC-2971-4DF8-B29C-C23970C7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2C2-D5D5-4DA0-BCF1-774DC701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A130-63D6-4979-852F-82D0E1E9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F28A-2704-4B71-82DC-25E6A3EE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01B8-AFF9-4472-A2B0-99FF623F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1701-DA0D-43DF-8067-3CA519AD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C69B-603F-4384-8CF8-2B63720F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BA9B-A44E-4A3A-8435-C74F3E70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0FD5-194F-4F44-947F-CCD03666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741-67A2-44D0-A8C9-11D1E6E6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9DC5-443E-426E-81A4-26AB58F6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4690-8428-429C-9677-8A89754C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3DA0-4875-4657-84AD-8DEFE7DA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4604-6AFE-4D95-BF40-E38BAEF5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A9FB-E258-413D-BB59-85FB990B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95E-90CA-4B37-B45F-BF737C2E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031-49FD-421B-A3FE-33423C13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46E-F3EE-423D-9CF4-DEBFD0EE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353-FAB3-4AFC-9137-37465C0B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734-638F-4622-85B5-C736746B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2CD-A4AD-488E-B7A9-1A5D058C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C24-41C5-46F1-BB22-7CCB41FF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4E8C-FBBC-4F66-9EC5-0BA2298533F7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887B-C5E2-4D30-A74E-8CF06A1F9EF4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gongye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236232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工业设计</a:t>
            </a:r>
            <a:r>
              <a:rPr b="1" i="1" lang="zh-CN" sz="54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PPT</a:t>
            </a:r>
            <a:r>
              <a:rPr b="1" i="1" lang="zh-CN" sz="54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模板下载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2895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388620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1041480" y="5721480"/>
            <a:ext cx="6843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工业制造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6:04:03Z</dcterms:created>
  <dc:creator/>
  <dc:description/>
  <cp:keywords>幻灯片之家 http:/www.eeppt.com</cp:keywords>
  <dc:language>en-US</dc:language>
  <cp:lastModifiedBy/>
  <dcterms:modified xsi:type="dcterms:W3CDTF">2015-07-05T07:11:5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