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005-C929-4AC2-904F-FE2325AA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9E3-F734-4D13-B738-6B9AF0E9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518-3529-4283-BBD2-4C30FBF0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160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37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160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37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14E-1621-4FED-89C9-A6B6794A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259B-560F-42E4-B0C0-C19ABFB3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8C10-B09B-4F79-A808-12C68EC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0968-C29E-4A69-9346-F7E67DC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E37-0376-4EAD-BC15-03F987E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05D-A76C-4C6F-ABFF-3ADEFB22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57150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F62-D69D-4DBD-94BA-1462150F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3B53-2907-4834-9394-AFF8A89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F75-2188-467E-9B0B-481E1FD1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1BDA-A2F7-4DDD-B9FA-4EBD40A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BD45-5307-4E89-9690-3D436F3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24E9-8FBC-4D20-8E58-FC2859B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41D8-0661-4A8D-83E2-FAE200C6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4160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3720" y="228564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4160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73720" y="2683800"/>
            <a:ext cx="18399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95B9-F570-431C-99E9-D353EE5A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A00-7303-4946-9EBF-BD708806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10B-C0ED-4A77-927B-9CE8AE77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818-31E2-43A2-A2DD-E2DF092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571500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E54-4A2F-4AE6-A04C-BB97BA11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C83-3BDC-47F0-9504-9A16B08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7360" y="268380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D49-707F-4DB6-B63E-AE954FC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7360" y="2285640"/>
            <a:ext cx="27885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2683800"/>
            <a:ext cx="57150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D58-2FE2-43A9-A7B5-0C23B47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DCB9-F003-40AC-9E57-F41F1FAD5E53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6481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1B6-DC22-4F64-B146-48E3E441869E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05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2f6481"/>
                </a:solidFill>
                <a:latin typeface="Impact"/>
                <a:ea typeface="宋体"/>
              </a:rPr>
              <a:t>工业污染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与环保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PPT</a:t>
            </a:r>
            <a:r>
              <a:rPr b="1" lang="zh-CN" sz="4500" spc="-1" strike="noStrike">
                <a:solidFill>
                  <a:srgbClr val="2f6481"/>
                </a:solidFill>
                <a:latin typeface="Impact"/>
                <a:ea typeface="宋体"/>
              </a:rPr>
              <a:t>模板</a:t>
            </a:r>
            <a:endParaRPr b="0" lang="en-US" sz="45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Franklin Gothic Dem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Franklin Gothic Demi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6481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74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工业制造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gong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6481"/>
                </a:solidFill>
                <a:latin typeface="Impact"/>
                <a:ea typeface="宋体"/>
              </a:rPr>
              <a:t>Elements</a:t>
            </a:r>
            <a:endParaRPr b="0" lang="en-US" sz="6000" spc="-1" strike="noStrike">
              <a:solidFill>
                <a:srgbClr val="2f6481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1" name="windpower_prt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2" name="windpower_qx" descr=""/>
          <p:cNvPicPr/>
          <p:nvPr/>
        </p:nvPicPr>
        <p:blipFill>
          <a:blip r:embed="rId2"/>
          <a:stretch/>
        </p:blipFill>
        <p:spPr>
          <a:xfrm>
            <a:off x="0" y="2971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93" name="windpower_sld" descr=""/>
          <p:cNvPicPr/>
          <p:nvPr/>
        </p:nvPicPr>
        <p:blipFill>
          <a:blip r:embed="rId3"/>
          <a:stretch/>
        </p:blipFill>
        <p:spPr>
          <a:xfrm>
            <a:off x="3124080" y="297180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/>
  <dc:description/>
  <cp:keywords>幻灯片之家 http:/www.eeppt.com</cp:keywords>
  <dc:language>en-US</dc:language>
  <cp:lastModifiedBy/>
  <dcterms:modified xsi:type="dcterms:W3CDTF">2015-07-05T07:10:59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