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97D-8768-48CF-8E24-6BC4883A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375-BB3B-4CAE-A099-CE0B8AC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7BF-731E-40CF-8F3F-E053790C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2A7-ABD3-442C-AD97-3C82F6F2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0D24-D9BF-453A-A5CC-956F6AE0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23A-B90E-4E59-BAB9-9609128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1D9-A57D-4630-9CF1-71C2C2C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C43-6C56-4B47-8E0F-BAE2830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223A-900B-406E-9878-8F2A0D54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F399-6699-4536-AFA4-55E435D8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1F3-734F-49B3-85D7-7252F11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D4D-2F1D-4DD9-AAEF-E8828C0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9C60-70CC-49D3-B896-CF1DF485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EAD8-FE7B-45AB-A4C7-68398E7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3FB7-2E4F-4BE0-8510-07376B0B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3324-A7A3-4FC0-B173-EC247FB9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CA5-1560-44A3-8673-2A3C812E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8BF-03D3-4171-8CEB-5700E9C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7C9-2C5A-4AF3-BA2E-69C3EE6F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6B8-A359-4FEA-9C5B-8730F993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9C3-A45E-4BB0-A3CF-AD2FAD26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897-1B46-4B02-8618-0BC9215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1D5-AA35-4F08-B053-1ED4447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A2E-B3E2-4DED-9993-5897E04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0821-A183-419C-8AC4-51055D82B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53A-0BCC-4BA1-84F9-2F7CBC6C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6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626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26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626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26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3526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格子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0" y="426708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26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048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260"/>
                </a:solidFill>
                <a:latin typeface="Times New Roman"/>
                <a:ea typeface="宋体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00626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6728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43828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2:40:12Z</dcterms:created>
  <dc:creator/>
  <dc:description/>
  <cp:keywords>幻灯片之家 http:/www.eeppt.com</cp:keywords>
  <dc:language>en-US</dc:language>
  <cp:lastModifiedBy/>
  <dcterms:modified xsi:type="dcterms:W3CDTF">2015-07-05T07:31:2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