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8B24E9C0-1DB0-47C2-8E3C-62ECE72FBFF7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0B9B-7E25-44A7-9E89-338ABC18EE6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" TargetMode="External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5580000" y="66279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3960" y="119700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典情人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6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27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9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05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bc000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1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a0004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2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757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6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8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0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1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更多精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模板请登录第一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模板网，</a:t>
            </a:r>
            <a:r>
              <a:rPr b="1" lang="en-US" sz="1200" spc="-1" strike="noStrike" u="sng">
                <a:solidFill>
                  <a:srgbClr val="3a0004"/>
                </a:solidFill>
                <a:uFillTx/>
                <a:latin typeface="Arial"/>
                <a:hlinkClick r:id="rId1"/>
              </a:rPr>
              <a:t>www.1ppt.com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a0004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1479600" y="270828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56000"/>
          </a:bodyPr>
          <a:p>
            <a:pPr marL="191880" indent="-1918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谢谢观看！</a:t>
            </a:r>
            <a:endParaRPr b="1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>幻灯片之家 http:/www.eeppt.com</cp:keywords>
  <dc:language>en-US</dc:language>
  <cp:lastModifiedBy/>
  <dcterms:modified xsi:type="dcterms:W3CDTF">2015-07-09T07:33:21Z</dcterms:modified>
  <cp:revision>2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