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8D2-03BC-4D37-A2E9-A0E2784A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26B-215E-495E-BCEB-238F94BF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423-248C-4AB3-B6C6-170CEF78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67F-1AD6-4A1C-A508-10434F49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0A6-785F-4F8C-83B9-8DEC4485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7FF-5AAD-4545-A134-20D520FD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C30-DD31-4747-9076-573C12CF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692-F883-49AA-BF04-C3CA8F84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CDA-9A1A-43E8-B218-37072238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4B8-B18E-4EAD-8D5B-2A0D2BE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EC1-99B9-45A1-9923-A9CA7528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43D-E32B-4355-98B7-D2750C36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EB79-5AC2-468C-82DF-AA4CDABBF6E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5394-297D-4584-B578-A3A808064B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anjie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0"/>
          <p:cNvSpPr/>
          <p:nvPr/>
        </p:nvSpPr>
        <p:spPr>
          <a:xfrm>
            <a:off x="317520" y="4389480"/>
            <a:ext cx="6116760" cy="10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541600" y="1965240"/>
            <a:ext cx="1668600" cy="314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1"/>
          <p:cNvSpPr/>
          <p:nvPr/>
        </p:nvSpPr>
        <p:spPr>
          <a:xfrm>
            <a:off x="3375000" y="3598920"/>
            <a:ext cx="309600" cy="10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右箭头 1"/>
          <p:cNvSpPr/>
          <p:nvPr/>
        </p:nvSpPr>
        <p:spPr>
          <a:xfrm rot="20832600">
            <a:off x="917280" y="2534760"/>
            <a:ext cx="5221080" cy="2125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43"/>
          <p:cNvSpPr/>
          <p:nvPr/>
        </p:nvSpPr>
        <p:spPr>
          <a:xfrm rot="20832600">
            <a:off x="4343040" y="2119320"/>
            <a:ext cx="1838160" cy="106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44"/>
          <p:cNvSpPr/>
          <p:nvPr/>
        </p:nvSpPr>
        <p:spPr>
          <a:xfrm rot="20832600">
            <a:off x="4614840" y="3129120"/>
            <a:ext cx="1787400" cy="1076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45"/>
          <p:cNvSpPr/>
          <p:nvPr/>
        </p:nvSpPr>
        <p:spPr>
          <a:xfrm>
            <a:off x="2306520" y="1965240"/>
            <a:ext cx="258840" cy="3146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 flipH="1" rot="20856000">
            <a:off x="4136400" y="30636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7"/>
          <p:cNvSpPr/>
          <p:nvPr/>
        </p:nvSpPr>
        <p:spPr>
          <a:xfrm flipH="1">
            <a:off x="2585880" y="2092320"/>
            <a:ext cx="4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987880" y="4251240"/>
            <a:ext cx="2184480" cy="459000"/>
            <a:chOff x="5987880" y="4251240"/>
            <a:chExt cx="2184480" cy="459000"/>
          </a:xfrm>
        </p:grpSpPr>
        <p:sp>
          <p:nvSpPr>
            <p:cNvPr id="51" name="TextBox 11"/>
            <p:cNvSpPr/>
            <p:nvPr/>
          </p:nvSpPr>
          <p:spPr>
            <a:xfrm flipH="1">
              <a:off x="5987880" y="42512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1"/>
            <p:cNvSpPr/>
            <p:nvPr/>
          </p:nvSpPr>
          <p:spPr>
            <a:xfrm flipH="1">
              <a:off x="7026120" y="42512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11"/>
          <p:cNvSpPr/>
          <p:nvPr/>
        </p:nvSpPr>
        <p:spPr>
          <a:xfrm flipH="1">
            <a:off x="6010200" y="38336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3400" y="5800680"/>
            <a:ext cx="5756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38560" y="2075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520" y="104760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简洁箭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5DA-A1A2-4293-BF74-C3DE2A8C0B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21:37:00Z</dcterms:created>
  <dc:creator/>
  <dc:description/>
  <cp:keywords>幻灯片之家 http:/www.eeppt.com</cp:keywords>
  <dc:language>en-US</dc:language>
  <cp:lastModifiedBy/>
  <dcterms:modified xsi:type="dcterms:W3CDTF">2015-07-06T03:58:24Z</dcterms:modified>
  <cp:revision>8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