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B77F-7207-46D9-A859-0A80C62E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4892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8FBD-C678-490B-BB51-21F5760A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4892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C0A3-6D31-41BA-9589-1E09677F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4892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33F7-975A-4F09-B448-FBDD2780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F4BC-B54B-433A-AA63-12F29EC5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4892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7C6E-94B7-4B04-A7CA-4B12D042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4892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E8C5-AF0D-4EE9-88E1-157A207B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4892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62DD-97C3-4B81-9993-2854613D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4892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E0AB-288C-4C13-ACFE-F4721197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-360" y="566640"/>
            <a:ext cx="75438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9544-3BAE-4E72-975E-C9F4EC79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4892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6DFA-0F91-4987-ADC9-D4BC9906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4892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BAE0-76DC-4D49-A519-B1DD17BC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4892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204B-BD43-481E-BF66-EC4FB5FC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4892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3AEB-02AB-46F4-8C1A-BC4A59A4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4892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3214-1874-49DD-8F98-9A7D6609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4892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030A-95B0-49AC-83CC-2D2C21BF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4892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5EC2-B6AC-468E-ADF6-4F597FC9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4892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2E9D-03D9-4209-8EE1-AB3E029E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4892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8F63-A56E-4B19-ADA9-00B4FC89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4892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7BAC-FEE7-4B0A-BAE6-5BE57AAE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-360" y="566640"/>
            <a:ext cx="75438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23CD-5D12-4B59-99C0-957EBD12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4892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CDF6-067C-4074-852A-055B83B8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4892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569A-6490-4EBB-A3C6-09EA441D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4892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7F72-B568-4FBB-A05D-0F637AC3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59"/>
          <p:cNvSpPr/>
          <p:nvPr/>
        </p:nvSpPr>
        <p:spPr>
          <a:xfrm>
            <a:off x="-14400" y="6458040"/>
            <a:ext cx="9158400" cy="414360"/>
          </a:xfrm>
          <a:custGeom>
            <a:avLst/>
            <a:gdLst/>
            <a:ahLst/>
            <a:rect l="l" t="t" r="r" b="b"/>
            <a:pathLst>
              <a:path w="5769" h="301">
                <a:moveTo>
                  <a:pt x="9" y="301"/>
                </a:moveTo>
                <a:cubicBezTo>
                  <a:pt x="0" y="278"/>
                  <a:pt x="1590" y="0"/>
                  <a:pt x="2889" y="13"/>
                </a:cubicBezTo>
                <a:cubicBezTo>
                  <a:pt x="3849" y="13"/>
                  <a:pt x="5742" y="214"/>
                  <a:pt x="5769" y="301"/>
                </a:cubicBezTo>
                <a:lnTo>
                  <a:pt x="9" y="3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" name="Freeform 60"/>
          <p:cNvSpPr/>
          <p:nvPr/>
        </p:nvSpPr>
        <p:spPr>
          <a:xfrm>
            <a:off x="0" y="0"/>
            <a:ext cx="9144000" cy="457200"/>
          </a:xfrm>
          <a:custGeom>
            <a:avLst/>
            <a:gdLst/>
            <a:ahLst/>
            <a:rect l="l" t="t" r="r" b="b"/>
            <a:pathLst>
              <a:path w="5760" h="293">
                <a:moveTo>
                  <a:pt x="0" y="0"/>
                </a:moveTo>
                <a:cubicBezTo>
                  <a:pt x="27" y="46"/>
                  <a:pt x="1527" y="293"/>
                  <a:pt x="2871" y="293"/>
                </a:cubicBezTo>
                <a:cubicBezTo>
                  <a:pt x="4215" y="293"/>
                  <a:pt x="5714" y="64"/>
                  <a:pt x="576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b5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6c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b5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c1b5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b5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c1b5a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b5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c1b5a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b5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c1b5a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b5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c1b5a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b5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90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429000" y="6551280"/>
            <a:ext cx="22860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924320" y="6490800"/>
            <a:ext cx="8384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F4D6-85B5-4791-AFC0-2A85BEDA836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3"/>
          <p:cNvSpPr/>
          <p:nvPr/>
        </p:nvSpPr>
        <p:spPr>
          <a:xfrm>
            <a:off x="4114800" y="76320"/>
            <a:ext cx="9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-360" y="56664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1b5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8" name="Text Box 61"/>
          <p:cNvSpPr/>
          <p:nvPr/>
        </p:nvSpPr>
        <p:spPr>
          <a:xfrm>
            <a:off x="60480" y="1047600"/>
            <a:ext cx="748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1b5a"/>
                </a:solidFill>
                <a:latin typeface="Arial"/>
                <a:ea typeface="宋体"/>
              </a:rPr>
              <a:t>Click to edit Master text styles</a:t>
            </a:r>
            <a:endParaRPr b="0" lang="en-US" sz="1400" spc="-1" strike="noStrike">
              <a:solidFill>
                <a:srgbClr val="0c1b5a"/>
              </a:solidFill>
              <a:latin typeface="Arial"/>
            </a:endParaRPr>
          </a:p>
        </p:txBody>
      </p:sp>
      <p:pic>
        <p:nvPicPr>
          <p:cNvPr id="9" name="Picture 65" descr="7a"/>
          <p:cNvPicPr/>
          <p:nvPr/>
        </p:nvPicPr>
        <p:blipFill>
          <a:blip r:embed="rId3"/>
          <a:stretch/>
        </p:blipFill>
        <p:spPr>
          <a:xfrm>
            <a:off x="7572240" y="693720"/>
            <a:ext cx="1105200" cy="5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24"/>
          <p:cNvSpPr/>
          <p:nvPr/>
        </p:nvSpPr>
        <p:spPr>
          <a:xfrm>
            <a:off x="-14400" y="6380280"/>
            <a:ext cx="9158400" cy="477720"/>
          </a:xfrm>
          <a:custGeom>
            <a:avLst/>
            <a:gdLst/>
            <a:ahLst/>
            <a:rect l="l" t="t" r="r" b="b"/>
            <a:pathLst>
              <a:path w="5769" h="301">
                <a:moveTo>
                  <a:pt x="9" y="301"/>
                </a:moveTo>
                <a:cubicBezTo>
                  <a:pt x="0" y="278"/>
                  <a:pt x="1590" y="0"/>
                  <a:pt x="2889" y="13"/>
                </a:cubicBezTo>
                <a:cubicBezTo>
                  <a:pt x="3849" y="13"/>
                  <a:pt x="5742" y="214"/>
                  <a:pt x="5769" y="301"/>
                </a:cubicBezTo>
                <a:lnTo>
                  <a:pt x="9" y="3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7" name="Freeform 25"/>
          <p:cNvSpPr/>
          <p:nvPr/>
        </p:nvSpPr>
        <p:spPr>
          <a:xfrm>
            <a:off x="0" y="0"/>
            <a:ext cx="9144000" cy="465120"/>
          </a:xfrm>
          <a:custGeom>
            <a:avLst/>
            <a:gdLst/>
            <a:ahLst/>
            <a:rect l="l" t="t" r="r" b="b"/>
            <a:pathLst>
              <a:path w="5760" h="293">
                <a:moveTo>
                  <a:pt x="0" y="0"/>
                </a:moveTo>
                <a:cubicBezTo>
                  <a:pt x="27" y="46"/>
                  <a:pt x="1527" y="293"/>
                  <a:pt x="2871" y="293"/>
                </a:cubicBezTo>
                <a:cubicBezTo>
                  <a:pt x="4215" y="293"/>
                  <a:pt x="5714" y="64"/>
                  <a:pt x="576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5486400" y="3276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b5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6c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b5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c1b5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b5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c1b5a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b5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c1b5a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b5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c1b5a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b5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c1b5a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b5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-360" y="56664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1b5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41016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50844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c1b5a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1b5a"/>
                </a:solidFill>
                <a:latin typeface="Times New Roman"/>
                <a:ea typeface="宋体"/>
              </a:rPr>
              <a:t>www.1ppt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77120" y="6410160"/>
            <a:ext cx="213336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261B-1FB8-4611-9B06-C4DDAC93783B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jingpi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224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8244000" y="2076480"/>
            <a:ext cx="87120" cy="217440"/>
          </a:xfrm>
          <a:prstGeom prst="rect">
            <a:avLst/>
          </a:prstGeom>
          <a:solidFill>
            <a:srgbClr val="3b86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51280" y="6526080"/>
            <a:ext cx="337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1b5a"/>
                </a:solidFill>
                <a:latin typeface="微软雅黑"/>
                <a:ea typeface="微软雅黑"/>
              </a:rPr>
              <a:t>www.eeppt.com</a:t>
            </a:r>
            <a:endParaRPr b="0" lang="en-US" sz="14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24880" y="836640"/>
            <a:ext cx="250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精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E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拼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56664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1b5a"/>
                </a:solidFill>
                <a:latin typeface="Arial"/>
                <a:ea typeface="宋体"/>
              </a:rPr>
              <a:t>Contents</a:t>
            </a:r>
            <a:endParaRPr b="1" lang="en-US" sz="4000" spc="-1" strike="noStrike">
              <a:solidFill>
                <a:srgbClr val="0c1b5a"/>
              </a:solidFill>
              <a:latin typeface="Arial"/>
            </a:endParaRPr>
          </a:p>
        </p:txBody>
      </p:sp>
      <p:grpSp>
        <p:nvGrpSpPr>
          <p:cNvPr id="96" name="Group 32"/>
          <p:cNvGrpSpPr/>
          <p:nvPr/>
        </p:nvGrpSpPr>
        <p:grpSpPr>
          <a:xfrm>
            <a:off x="1828800" y="1871640"/>
            <a:ext cx="5410080" cy="665280"/>
            <a:chOff x="1828800" y="1871640"/>
            <a:chExt cx="5410080" cy="665280"/>
          </a:xfrm>
        </p:grpSpPr>
        <p:grpSp>
          <p:nvGrpSpPr>
            <p:cNvPr id="97" name="Group 3"/>
            <p:cNvGrpSpPr/>
            <p:nvPr/>
          </p:nvGrpSpPr>
          <p:grpSpPr>
            <a:xfrm>
              <a:off x="1828800" y="1871640"/>
              <a:ext cx="762120" cy="665280"/>
              <a:chOff x="1828800" y="1871640"/>
              <a:chExt cx="762120" cy="665280"/>
            </a:xfrm>
          </p:grpSpPr>
          <p:sp>
            <p:nvSpPr>
              <p:cNvPr id="98" name="AutoShape 4"/>
              <p:cNvSpPr/>
              <p:nvPr/>
            </p:nvSpPr>
            <p:spPr>
              <a:xfrm>
                <a:off x="1834920" y="18828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99" name="AutoShape 5"/>
              <p:cNvSpPr/>
              <p:nvPr/>
            </p:nvSpPr>
            <p:spPr>
              <a:xfrm>
                <a:off x="1828800" y="1871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100" name="AutoShape 6"/>
              <p:cNvSpPr/>
              <p:nvPr/>
            </p:nvSpPr>
            <p:spPr>
              <a:xfrm>
                <a:off x="1873080" y="19108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cc3300"/>
                  </a:gs>
                  <a:gs pos="100000">
                    <a:srgbClr val="5e1800"/>
                  </a:gs>
                </a:gsLst>
                <a:lin ang="8100000"/>
              </a:gradFill>
              <a:ln w="9360">
                <a:solidFill>
                  <a:srgbClr val="0c1b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</p:grpSp>
        <p:sp>
          <p:nvSpPr>
            <p:cNvPr id="101" name="Line 11"/>
            <p:cNvSpPr/>
            <p:nvPr/>
          </p:nvSpPr>
          <p:spPr>
            <a:xfrm>
              <a:off x="2438280" y="248112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02" name="Text Box 12"/>
            <p:cNvSpPr/>
            <p:nvPr/>
          </p:nvSpPr>
          <p:spPr>
            <a:xfrm>
              <a:off x="2666880" y="1947960"/>
              <a:ext cx="441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1b5a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2027520" y="196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  <p:grpSp>
        <p:nvGrpSpPr>
          <p:cNvPr id="104" name="Group 33"/>
          <p:cNvGrpSpPr/>
          <p:nvPr/>
        </p:nvGrpSpPr>
        <p:grpSpPr>
          <a:xfrm>
            <a:off x="1828800" y="2786040"/>
            <a:ext cx="5410080" cy="665280"/>
            <a:chOff x="1828800" y="2786040"/>
            <a:chExt cx="5410080" cy="665280"/>
          </a:xfrm>
        </p:grpSpPr>
        <p:grpSp>
          <p:nvGrpSpPr>
            <p:cNvPr id="105" name="Group 7"/>
            <p:cNvGrpSpPr/>
            <p:nvPr/>
          </p:nvGrpSpPr>
          <p:grpSpPr>
            <a:xfrm>
              <a:off x="1828800" y="2786040"/>
              <a:ext cx="762120" cy="665280"/>
              <a:chOff x="1828800" y="2786040"/>
              <a:chExt cx="762120" cy="665280"/>
            </a:xfrm>
          </p:grpSpPr>
          <p:sp>
            <p:nvSpPr>
              <p:cNvPr id="106" name="AutoShape 8"/>
              <p:cNvSpPr/>
              <p:nvPr/>
            </p:nvSpPr>
            <p:spPr>
              <a:xfrm>
                <a:off x="183492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107" name="AutoShape 9"/>
              <p:cNvSpPr/>
              <p:nvPr/>
            </p:nvSpPr>
            <p:spPr>
              <a:xfrm>
                <a:off x="182880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108" name="AutoShape 10"/>
              <p:cNvSpPr/>
              <p:nvPr/>
            </p:nvSpPr>
            <p:spPr>
              <a:xfrm>
                <a:off x="1873080" y="28252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3b86cb"/>
                  </a:gs>
                  <a:gs pos="100000">
                    <a:srgbClr val="1b3e5e"/>
                  </a:gs>
                </a:gsLst>
                <a:lin ang="8100000"/>
              </a:gradFill>
              <a:ln w="9360">
                <a:solidFill>
                  <a:srgbClr val="0c1b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</p:grpSp>
        <p:sp>
          <p:nvSpPr>
            <p:cNvPr id="109" name="Line 14"/>
            <p:cNvSpPr/>
            <p:nvPr/>
          </p:nvSpPr>
          <p:spPr>
            <a:xfrm>
              <a:off x="2438280" y="339552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10" name="Text Box 15"/>
            <p:cNvSpPr/>
            <p:nvPr/>
          </p:nvSpPr>
          <p:spPr>
            <a:xfrm>
              <a:off x="2666880" y="2862360"/>
              <a:ext cx="449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1b5a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11" name="Text Box 16"/>
            <p:cNvSpPr/>
            <p:nvPr/>
          </p:nvSpPr>
          <p:spPr>
            <a:xfrm>
              <a:off x="2027520" y="288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  <p:grpSp>
        <p:nvGrpSpPr>
          <p:cNvPr id="112" name="Group 34"/>
          <p:cNvGrpSpPr/>
          <p:nvPr/>
        </p:nvGrpSpPr>
        <p:grpSpPr>
          <a:xfrm>
            <a:off x="1828800" y="3678120"/>
            <a:ext cx="5410080" cy="665280"/>
            <a:chOff x="1828800" y="3678120"/>
            <a:chExt cx="5410080" cy="665280"/>
          </a:xfrm>
        </p:grpSpPr>
        <p:grpSp>
          <p:nvGrpSpPr>
            <p:cNvPr id="113" name="Group 17"/>
            <p:cNvGrpSpPr/>
            <p:nvPr/>
          </p:nvGrpSpPr>
          <p:grpSpPr>
            <a:xfrm>
              <a:off x="1828800" y="3678120"/>
              <a:ext cx="762120" cy="665280"/>
              <a:chOff x="1828800" y="3678120"/>
              <a:chExt cx="762120" cy="665280"/>
            </a:xfrm>
          </p:grpSpPr>
          <p:sp>
            <p:nvSpPr>
              <p:cNvPr id="114" name="AutoShape 18"/>
              <p:cNvSpPr/>
              <p:nvPr/>
            </p:nvSpPr>
            <p:spPr>
              <a:xfrm>
                <a:off x="1834920" y="3689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115" name="AutoShape 19"/>
              <p:cNvSpPr/>
              <p:nvPr/>
            </p:nvSpPr>
            <p:spPr>
              <a:xfrm>
                <a:off x="1828800" y="3678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116" name="AutoShape 20"/>
              <p:cNvSpPr/>
              <p:nvPr/>
            </p:nvSpPr>
            <p:spPr>
              <a:xfrm>
                <a:off x="1873080" y="37173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cc3300"/>
                  </a:gs>
                  <a:gs pos="100000">
                    <a:srgbClr val="5e1800"/>
                  </a:gs>
                </a:gsLst>
                <a:lin ang="8100000"/>
              </a:gradFill>
              <a:ln w="9360">
                <a:solidFill>
                  <a:srgbClr val="0c1b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</p:grpSp>
        <p:sp>
          <p:nvSpPr>
            <p:cNvPr id="117" name="Line 25"/>
            <p:cNvSpPr/>
            <p:nvPr/>
          </p:nvSpPr>
          <p:spPr>
            <a:xfrm>
              <a:off x="2438280" y="428760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18" name="Text Box 26"/>
            <p:cNvSpPr/>
            <p:nvPr/>
          </p:nvSpPr>
          <p:spPr>
            <a:xfrm>
              <a:off x="2666880" y="375444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1b5a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19" name="Text Box 27"/>
            <p:cNvSpPr/>
            <p:nvPr/>
          </p:nvSpPr>
          <p:spPr>
            <a:xfrm>
              <a:off x="2027520" y="377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  <p:grpSp>
        <p:nvGrpSpPr>
          <p:cNvPr id="120" name="Group 35"/>
          <p:cNvGrpSpPr/>
          <p:nvPr/>
        </p:nvGrpSpPr>
        <p:grpSpPr>
          <a:xfrm>
            <a:off x="1828800" y="4592520"/>
            <a:ext cx="5410080" cy="665280"/>
            <a:chOff x="1828800" y="4592520"/>
            <a:chExt cx="5410080" cy="665280"/>
          </a:xfrm>
        </p:grpSpPr>
        <p:grpSp>
          <p:nvGrpSpPr>
            <p:cNvPr id="121" name="Group 21"/>
            <p:cNvGrpSpPr/>
            <p:nvPr/>
          </p:nvGrpSpPr>
          <p:grpSpPr>
            <a:xfrm>
              <a:off x="1828800" y="4592520"/>
              <a:ext cx="762120" cy="665280"/>
              <a:chOff x="1828800" y="4592520"/>
              <a:chExt cx="762120" cy="665280"/>
            </a:xfrm>
          </p:grpSpPr>
          <p:sp>
            <p:nvSpPr>
              <p:cNvPr id="122" name="AutoShape 22"/>
              <p:cNvSpPr/>
              <p:nvPr/>
            </p:nvSpPr>
            <p:spPr>
              <a:xfrm>
                <a:off x="1834920" y="46036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123" name="AutoShape 23"/>
              <p:cNvSpPr/>
              <p:nvPr/>
            </p:nvSpPr>
            <p:spPr>
              <a:xfrm>
                <a:off x="1828800" y="45925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124" name="AutoShape 24"/>
              <p:cNvSpPr/>
              <p:nvPr/>
            </p:nvSpPr>
            <p:spPr>
              <a:xfrm>
                <a:off x="1873080" y="46317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3b86cb"/>
                  </a:gs>
                  <a:gs pos="100000">
                    <a:srgbClr val="1b3e5e"/>
                  </a:gs>
                </a:gsLst>
                <a:lin ang="8100000"/>
              </a:gradFill>
              <a:ln w="9360">
                <a:solidFill>
                  <a:srgbClr val="0c1b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</p:grpSp>
        <p:sp>
          <p:nvSpPr>
            <p:cNvPr id="125" name="Line 28"/>
            <p:cNvSpPr/>
            <p:nvPr/>
          </p:nvSpPr>
          <p:spPr>
            <a:xfrm>
              <a:off x="2438280" y="520200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26" name="Text Box 29"/>
            <p:cNvSpPr/>
            <p:nvPr/>
          </p:nvSpPr>
          <p:spPr>
            <a:xfrm>
              <a:off x="2666880" y="4668840"/>
              <a:ext cx="449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1b5a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27" name="Text Box 30"/>
            <p:cNvSpPr/>
            <p:nvPr/>
          </p:nvSpPr>
          <p:spPr>
            <a:xfrm>
              <a:off x="2027520" y="469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56664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1b5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c1b5a"/>
              </a:solidFill>
              <a:latin typeface="Arial"/>
            </a:endParaRPr>
          </a:p>
        </p:txBody>
      </p:sp>
      <p:grpSp>
        <p:nvGrpSpPr>
          <p:cNvPr id="129" name="Group 21"/>
          <p:cNvGrpSpPr/>
          <p:nvPr/>
        </p:nvGrpSpPr>
        <p:grpSpPr>
          <a:xfrm>
            <a:off x="1143000" y="3200400"/>
            <a:ext cx="2286000" cy="2666880"/>
            <a:chOff x="1143000" y="3200400"/>
            <a:chExt cx="2286000" cy="2666880"/>
          </a:xfrm>
        </p:grpSpPr>
        <p:sp>
          <p:nvSpPr>
            <p:cNvPr id="130" name="AutoShape 5"/>
            <p:cNvSpPr/>
            <p:nvPr/>
          </p:nvSpPr>
          <p:spPr>
            <a:xfrm>
              <a:off x="1143000" y="32004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c1b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31" name="Text Box 6"/>
            <p:cNvSpPr/>
            <p:nvPr/>
          </p:nvSpPr>
          <p:spPr>
            <a:xfrm>
              <a:off x="1238400" y="34005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  <p:sp>
        <p:nvSpPr>
          <p:cNvPr id="132" name="Freeform 8"/>
          <p:cNvSpPr/>
          <p:nvPr/>
        </p:nvSpPr>
        <p:spPr>
          <a:xfrm>
            <a:off x="322272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be8db"/>
              </a:gs>
              <a:gs pos="100000">
                <a:srgbClr val="5cb6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 flipH="1">
            <a:off x="4869000" y="310032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  <p:grpSp>
        <p:nvGrpSpPr>
          <p:cNvPr id="134" name="Group 23"/>
          <p:cNvGrpSpPr/>
          <p:nvPr/>
        </p:nvGrpSpPr>
        <p:grpSpPr>
          <a:xfrm>
            <a:off x="3048120" y="1476360"/>
            <a:ext cx="2998440" cy="1601280"/>
            <a:chOff x="3048120" y="1476360"/>
            <a:chExt cx="2998440" cy="1601280"/>
          </a:xfrm>
        </p:grpSpPr>
        <p:grpSp>
          <p:nvGrpSpPr>
            <p:cNvPr id="135" name="Group 11"/>
            <p:cNvGrpSpPr/>
            <p:nvPr/>
          </p:nvGrpSpPr>
          <p:grpSpPr>
            <a:xfrm>
              <a:off x="3048120" y="1476360"/>
              <a:ext cx="2998440" cy="1601280"/>
              <a:chOff x="3048120" y="1476360"/>
              <a:chExt cx="2998440" cy="1601280"/>
            </a:xfrm>
          </p:grpSpPr>
          <p:grpSp>
            <p:nvGrpSpPr>
              <p:cNvPr id="136" name="Group 12"/>
              <p:cNvGrpSpPr/>
              <p:nvPr/>
            </p:nvGrpSpPr>
            <p:grpSpPr>
              <a:xfrm>
                <a:off x="3048120" y="1619280"/>
                <a:ext cx="2998440" cy="1458360"/>
                <a:chOff x="3048120" y="1619280"/>
                <a:chExt cx="2998440" cy="1458360"/>
              </a:xfrm>
            </p:grpSpPr>
            <p:sp>
              <p:nvSpPr>
                <p:cNvPr id="137" name="Oval 13"/>
                <p:cNvSpPr/>
                <p:nvPr/>
              </p:nvSpPr>
              <p:spPr>
                <a:xfrm>
                  <a:off x="3080880" y="16657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1900"/>
                    </a:gs>
                    <a:gs pos="100000">
                      <a:srgbClr val="cc33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c1b5a"/>
                    </a:solidFill>
                    <a:latin typeface="Arial"/>
                  </a:endParaRPr>
                </a:p>
              </p:txBody>
            </p:sp>
            <p:sp>
              <p:nvSpPr>
                <p:cNvPr id="138" name="Oval 14"/>
                <p:cNvSpPr/>
                <p:nvPr/>
              </p:nvSpPr>
              <p:spPr>
                <a:xfrm>
                  <a:off x="3048120" y="161928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3300"/>
                    </a:gs>
                    <a:gs pos="100000">
                      <a:srgbClr val="e8a58e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c1b5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Oval 15"/>
              <p:cNvSpPr/>
              <p:nvPr/>
            </p:nvSpPr>
            <p:spPr>
              <a:xfrm>
                <a:off x="3189240" y="147636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3b86cb"/>
                  </a:gs>
                  <a:gs pos="100000">
                    <a:srgbClr val="1b3e5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140" name="Oval 16"/>
              <p:cNvSpPr/>
              <p:nvPr/>
            </p:nvSpPr>
            <p:spPr>
              <a:xfrm>
                <a:off x="3224160" y="148428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bd5ed"/>
                  </a:gs>
                  <a:gs pos="100000">
                    <a:srgbClr val="3b86cb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141" name="Oval 17"/>
              <p:cNvSpPr/>
              <p:nvPr/>
            </p:nvSpPr>
            <p:spPr>
              <a:xfrm>
                <a:off x="3251160" y="149688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3b86cb">
                      <a:alpha val="48235"/>
                    </a:srgbClr>
                  </a:gs>
                  <a:gs pos="100000">
                    <a:srgbClr val="2f6aa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142" name="Oval 18"/>
              <p:cNvSpPr/>
              <p:nvPr/>
            </p:nvSpPr>
            <p:spPr>
              <a:xfrm>
                <a:off x="3382920" y="152388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3b86cb">
                      <a:alpha val="38039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</p:grpSp>
        <p:sp>
          <p:nvSpPr>
            <p:cNvPr id="143" name="Text Box 19"/>
            <p:cNvSpPr/>
            <p:nvPr/>
          </p:nvSpPr>
          <p:spPr>
            <a:xfrm>
              <a:off x="3882960" y="16765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c1b5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  <p:grpSp>
        <p:nvGrpSpPr>
          <p:cNvPr id="144" name="Group 22"/>
          <p:cNvGrpSpPr/>
          <p:nvPr/>
        </p:nvGrpSpPr>
        <p:grpSpPr>
          <a:xfrm>
            <a:off x="5562720" y="3200400"/>
            <a:ext cx="2286000" cy="2666880"/>
            <a:chOff x="5562720" y="3200400"/>
            <a:chExt cx="2286000" cy="2666880"/>
          </a:xfrm>
        </p:grpSpPr>
        <p:sp>
          <p:nvSpPr>
            <p:cNvPr id="145" name="AutoShape 3"/>
            <p:cNvSpPr/>
            <p:nvPr/>
          </p:nvSpPr>
          <p:spPr>
            <a:xfrm>
              <a:off x="5562720" y="32004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c1b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46" name="Text Box 20"/>
            <p:cNvSpPr/>
            <p:nvPr/>
          </p:nvSpPr>
          <p:spPr>
            <a:xfrm>
              <a:off x="5810400" y="342900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  <p:sp>
        <p:nvSpPr>
          <p:cNvPr id="147" name="Freeform 10"/>
          <p:cNvSpPr/>
          <p:nvPr/>
        </p:nvSpPr>
        <p:spPr>
          <a:xfrm flipH="1">
            <a:off x="487440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1d9ee"/>
              </a:gs>
              <a:gs pos="100000">
                <a:srgbClr val="3b86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56664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1b5a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grpSp>
        <p:nvGrpSpPr>
          <p:cNvPr id="149" name="Group 21"/>
          <p:cNvGrpSpPr/>
          <p:nvPr/>
        </p:nvGrpSpPr>
        <p:grpSpPr>
          <a:xfrm>
            <a:off x="990720" y="1523880"/>
            <a:ext cx="7010280" cy="4343400"/>
            <a:chOff x="990720" y="1523880"/>
            <a:chExt cx="7010280" cy="4343400"/>
          </a:xfrm>
        </p:grpSpPr>
        <p:sp>
          <p:nvSpPr>
            <p:cNvPr id="150" name="AutoShape 3"/>
            <p:cNvSpPr/>
            <p:nvPr/>
          </p:nvSpPr>
          <p:spPr>
            <a:xfrm>
              <a:off x="3657600" y="3962160"/>
              <a:ext cx="16765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b86cb"/>
                </a:gs>
                <a:gs pos="50000">
                  <a:srgbClr val="1b3e5e"/>
                </a:gs>
                <a:gs pos="100000">
                  <a:srgbClr val="3b86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51" name="AutoShape 4"/>
            <p:cNvSpPr/>
            <p:nvPr/>
          </p:nvSpPr>
          <p:spPr>
            <a:xfrm>
              <a:off x="3657600" y="342900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b86cb"/>
                </a:gs>
                <a:gs pos="50000">
                  <a:srgbClr val="1b3e5e"/>
                </a:gs>
                <a:gs pos="100000">
                  <a:srgbClr val="3b86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52" name="AutoShape 5"/>
            <p:cNvSpPr/>
            <p:nvPr/>
          </p:nvSpPr>
          <p:spPr>
            <a:xfrm>
              <a:off x="3657600" y="289548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b86cb"/>
                </a:gs>
                <a:gs pos="50000">
                  <a:srgbClr val="1b3e5e"/>
                </a:gs>
                <a:gs pos="100000">
                  <a:srgbClr val="3b86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53" name="Text Box 6"/>
            <p:cNvSpPr/>
            <p:nvPr/>
          </p:nvSpPr>
          <p:spPr>
            <a:xfrm>
              <a:off x="4199040" y="3125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54" name="Text Box 7"/>
            <p:cNvSpPr/>
            <p:nvPr/>
          </p:nvSpPr>
          <p:spPr>
            <a:xfrm>
              <a:off x="4199040" y="36590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55" name="Text Box 8"/>
            <p:cNvSpPr/>
            <p:nvPr/>
          </p:nvSpPr>
          <p:spPr>
            <a:xfrm>
              <a:off x="4199040" y="419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56" name="AutoShape 9"/>
            <p:cNvSpPr/>
            <p:nvPr/>
          </p:nvSpPr>
          <p:spPr>
            <a:xfrm>
              <a:off x="2971800" y="2666880"/>
              <a:ext cx="533520" cy="20574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57" name="AutoShape 10"/>
            <p:cNvSpPr/>
            <p:nvPr/>
          </p:nvSpPr>
          <p:spPr>
            <a:xfrm>
              <a:off x="990720" y="213336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c1b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58" name="Text Box 11"/>
            <p:cNvSpPr/>
            <p:nvPr/>
          </p:nvSpPr>
          <p:spPr>
            <a:xfrm>
              <a:off x="1067040" y="2361960"/>
              <a:ext cx="16761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c1b5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c1b5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c1b5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c1b5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59" name="AutoShape 12"/>
            <p:cNvSpPr/>
            <p:nvPr/>
          </p:nvSpPr>
          <p:spPr>
            <a:xfrm>
              <a:off x="6172200" y="213336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c1b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60" name="Text Box 13"/>
            <p:cNvSpPr/>
            <p:nvPr/>
          </p:nvSpPr>
          <p:spPr>
            <a:xfrm>
              <a:off x="6248520" y="2361960"/>
              <a:ext cx="16765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c1b5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c1b5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c1b5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c1b5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61" name="AutoShape 14"/>
            <p:cNvSpPr/>
            <p:nvPr/>
          </p:nvSpPr>
          <p:spPr>
            <a:xfrm>
              <a:off x="5489640" y="2666880"/>
              <a:ext cx="530280" cy="20574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62" name="AutoShape 15"/>
            <p:cNvSpPr/>
            <p:nvPr/>
          </p:nvSpPr>
          <p:spPr>
            <a:xfrm>
              <a:off x="2895840" y="1523880"/>
              <a:ext cx="3047760" cy="6094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cc3300"/>
                </a:gs>
                <a:gs pos="50000">
                  <a:srgbClr val="5e18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63" name="AutoShape 16"/>
            <p:cNvSpPr/>
            <p:nvPr/>
          </p:nvSpPr>
          <p:spPr>
            <a:xfrm>
              <a:off x="3624480" y="2286000"/>
              <a:ext cx="1752480" cy="533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64" name="Text Box 17"/>
            <p:cNvSpPr/>
            <p:nvPr/>
          </p:nvSpPr>
          <p:spPr>
            <a:xfrm>
              <a:off x="4174920" y="1757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65" name="AutoShape 18"/>
            <p:cNvSpPr/>
            <p:nvPr/>
          </p:nvSpPr>
          <p:spPr>
            <a:xfrm>
              <a:off x="2971800" y="5257800"/>
              <a:ext cx="3048120" cy="6094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4bd41"/>
                </a:gs>
                <a:gs pos="50000">
                  <a:srgbClr val="1f571e"/>
                </a:gs>
                <a:gs pos="100000">
                  <a:srgbClr val="44bd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4174920" y="5491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67" name="AutoShape 20"/>
            <p:cNvSpPr/>
            <p:nvPr/>
          </p:nvSpPr>
          <p:spPr>
            <a:xfrm>
              <a:off x="3602160" y="4647960"/>
              <a:ext cx="1755720" cy="525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c1b5a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c1b5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1b5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c1b5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1b5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c1b5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c1b5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1b5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c1b5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c1b5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c1b5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c1b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c1b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c1b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c1b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c1b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c1b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c1b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c1b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c1b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c1b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c1b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c1b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1b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1b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1b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1b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1b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1b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1b5a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4556-E0C5-4872-BBE0-F5C330683C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56664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1b5a"/>
                </a:solidFill>
                <a:latin typeface="Arial"/>
                <a:ea typeface="宋体"/>
              </a:rPr>
              <a:t>Block Diagram</a:t>
            </a:r>
            <a:endParaRPr b="1" lang="en-US" sz="3600" spc="-1" strike="noStrike">
              <a:solidFill>
                <a:srgbClr val="0c1b5a"/>
              </a:solidFill>
              <a:latin typeface="Arial"/>
            </a:endParaRPr>
          </a:p>
        </p:txBody>
      </p:sp>
      <p:grpSp>
        <p:nvGrpSpPr>
          <p:cNvPr id="172" name="Group 33"/>
          <p:cNvGrpSpPr/>
          <p:nvPr/>
        </p:nvGrpSpPr>
        <p:grpSpPr>
          <a:xfrm>
            <a:off x="1066680" y="1600200"/>
            <a:ext cx="7010280" cy="4419720"/>
            <a:chOff x="1066680" y="1600200"/>
            <a:chExt cx="7010280" cy="4419720"/>
          </a:xfrm>
        </p:grpSpPr>
        <p:sp>
          <p:nvSpPr>
            <p:cNvPr id="173" name="AutoShape 4"/>
            <p:cNvSpPr/>
            <p:nvPr/>
          </p:nvSpPr>
          <p:spPr>
            <a:xfrm>
              <a:off x="1998720" y="2316240"/>
              <a:ext cx="5206680" cy="257652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3b86cb"/>
                </a:gs>
                <a:gs pos="100000">
                  <a:srgbClr val="c6d8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>
              <a:off x="1784160" y="1600200"/>
              <a:ext cx="5451480" cy="539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cb68d"/>
                </a:gs>
                <a:gs pos="50000">
                  <a:srgbClr val="407f62"/>
                </a:gs>
                <a:gs pos="100000">
                  <a:srgbClr val="5cb68d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c1b5a"/>
                </a:solidFill>
                <a:latin typeface="Arial"/>
              </a:endParaRPr>
            </a:p>
          </p:txBody>
        </p:sp>
        <p:sp>
          <p:nvSpPr>
            <p:cNvPr id="175" name="Text Box 6"/>
            <p:cNvSpPr/>
            <p:nvPr/>
          </p:nvSpPr>
          <p:spPr>
            <a:xfrm>
              <a:off x="3539160" y="288936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c1b5a"/>
                </a:solidFill>
                <a:latin typeface="Arial"/>
              </a:endParaRPr>
            </a:p>
          </p:txBody>
        </p:sp>
        <p:grpSp>
          <p:nvGrpSpPr>
            <p:cNvPr id="176" name="Group 7"/>
            <p:cNvGrpSpPr/>
            <p:nvPr/>
          </p:nvGrpSpPr>
          <p:grpSpPr>
            <a:xfrm>
              <a:off x="1066680" y="4075200"/>
              <a:ext cx="1487520" cy="1944360"/>
              <a:chOff x="1066680" y="4075200"/>
              <a:chExt cx="1487520" cy="1944360"/>
            </a:xfrm>
          </p:grpSpPr>
          <p:grpSp>
            <p:nvGrpSpPr>
              <p:cNvPr id="177" name="Group 8"/>
              <p:cNvGrpSpPr/>
              <p:nvPr/>
            </p:nvGrpSpPr>
            <p:grpSpPr>
              <a:xfrm>
                <a:off x="1066680" y="4075200"/>
                <a:ext cx="1399320" cy="1422720"/>
                <a:chOff x="1066680" y="4075200"/>
                <a:chExt cx="1399320" cy="1422720"/>
              </a:xfrm>
            </p:grpSpPr>
            <p:grpSp>
              <p:nvGrpSpPr>
                <p:cNvPr id="178" name="Group 9"/>
                <p:cNvGrpSpPr/>
                <p:nvPr/>
              </p:nvGrpSpPr>
              <p:grpSpPr>
                <a:xfrm>
                  <a:off x="1066680" y="4075200"/>
                  <a:ext cx="1399320" cy="1422720"/>
                  <a:chOff x="1066680" y="4075200"/>
                  <a:chExt cx="1399320" cy="1422720"/>
                </a:xfrm>
              </p:grpSpPr>
              <p:sp>
                <p:nvSpPr>
                  <p:cNvPr id="179" name="Oval 10"/>
                  <p:cNvSpPr/>
                  <p:nvPr/>
                </p:nvSpPr>
                <p:spPr>
                  <a:xfrm>
                    <a:off x="1066680" y="4075200"/>
                    <a:ext cx="1399320" cy="1422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699"/>
                      </a:gs>
                      <a:gs pos="100000">
                        <a:srgbClr val="004161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c1b5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Freeform 11"/>
                  <p:cNvSpPr/>
                  <p:nvPr/>
                </p:nvSpPr>
                <p:spPr>
                  <a:xfrm>
                    <a:off x="1226520" y="4098600"/>
                    <a:ext cx="1079640" cy="53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9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1b5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1" name="Text Box 12"/>
                <p:cNvSpPr/>
                <p:nvPr/>
              </p:nvSpPr>
              <p:spPr>
                <a:xfrm>
                  <a:off x="1182960" y="479952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c1b5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Oval 13"/>
              <p:cNvSpPr/>
              <p:nvPr/>
            </p:nvSpPr>
            <p:spPr>
              <a:xfrm>
                <a:off x="1066680" y="5608080"/>
                <a:ext cx="1487520" cy="4114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c6d8e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14"/>
            <p:cNvGrpSpPr/>
            <p:nvPr/>
          </p:nvGrpSpPr>
          <p:grpSpPr>
            <a:xfrm>
              <a:off x="2860560" y="4075200"/>
              <a:ext cx="1522080" cy="1944360"/>
              <a:chOff x="2860560" y="4075200"/>
              <a:chExt cx="1522080" cy="1944360"/>
            </a:xfrm>
          </p:grpSpPr>
          <p:grpSp>
            <p:nvGrpSpPr>
              <p:cNvPr id="184" name="Group 15"/>
              <p:cNvGrpSpPr/>
              <p:nvPr/>
            </p:nvGrpSpPr>
            <p:grpSpPr>
              <a:xfrm>
                <a:off x="2860560" y="4075200"/>
                <a:ext cx="1433880" cy="1428840"/>
                <a:chOff x="2860560" y="4075200"/>
                <a:chExt cx="1433880" cy="1428840"/>
              </a:xfrm>
            </p:grpSpPr>
            <p:sp>
              <p:nvSpPr>
                <p:cNvPr id="185" name="Oval 16"/>
                <p:cNvSpPr/>
                <p:nvPr/>
              </p:nvSpPr>
              <p:spPr>
                <a:xfrm>
                  <a:off x="2860560" y="4075200"/>
                  <a:ext cx="1433880" cy="142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3300"/>
                    </a:gs>
                    <a:gs pos="100000">
                      <a:srgbClr val="691a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c1b5a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17"/>
                <p:cNvSpPr/>
                <p:nvPr/>
              </p:nvSpPr>
              <p:spPr>
                <a:xfrm>
                  <a:off x="3024360" y="4098600"/>
                  <a:ext cx="1106280" cy="5392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c1b5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Text Box 18"/>
              <p:cNvSpPr/>
              <p:nvPr/>
            </p:nvSpPr>
            <p:spPr>
              <a:xfrm>
                <a:off x="2932200" y="4761000"/>
                <a:ext cx="129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188" name="Oval 19"/>
              <p:cNvSpPr/>
              <p:nvPr/>
            </p:nvSpPr>
            <p:spPr>
              <a:xfrm>
                <a:off x="2896200" y="5608080"/>
                <a:ext cx="1486440" cy="4114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c6d8e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20"/>
            <p:cNvGrpSpPr/>
            <p:nvPr/>
          </p:nvGrpSpPr>
          <p:grpSpPr>
            <a:xfrm>
              <a:off x="4797360" y="4033800"/>
              <a:ext cx="1534680" cy="1986120"/>
              <a:chOff x="4797360" y="4033800"/>
              <a:chExt cx="1534680" cy="1986120"/>
            </a:xfrm>
          </p:grpSpPr>
          <p:grpSp>
            <p:nvGrpSpPr>
              <p:cNvPr id="190" name="Group 21"/>
              <p:cNvGrpSpPr/>
              <p:nvPr/>
            </p:nvGrpSpPr>
            <p:grpSpPr>
              <a:xfrm>
                <a:off x="4797360" y="4033800"/>
                <a:ext cx="1433160" cy="1428480"/>
                <a:chOff x="4797360" y="4033800"/>
                <a:chExt cx="1433160" cy="1428480"/>
              </a:xfrm>
            </p:grpSpPr>
            <p:sp>
              <p:nvSpPr>
                <p:cNvPr id="191" name="Oval 22"/>
                <p:cNvSpPr/>
                <p:nvPr/>
              </p:nvSpPr>
              <p:spPr>
                <a:xfrm>
                  <a:off x="4797360" y="4033800"/>
                  <a:ext cx="1433160" cy="142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86cb"/>
                    </a:gs>
                    <a:gs pos="100000">
                      <a:srgbClr val="1e45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c1b5a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23"/>
                <p:cNvSpPr/>
                <p:nvPr/>
              </p:nvSpPr>
              <p:spPr>
                <a:xfrm>
                  <a:off x="4961160" y="4057200"/>
                  <a:ext cx="1105560" cy="538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86c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c1b5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Text Box 24"/>
              <p:cNvSpPr/>
              <p:nvPr/>
            </p:nvSpPr>
            <p:spPr>
              <a:xfrm>
                <a:off x="4869000" y="4719240"/>
                <a:ext cx="1289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  <p:sp>
            <p:nvSpPr>
              <p:cNvPr id="194" name="Oval 25"/>
              <p:cNvSpPr/>
              <p:nvPr/>
            </p:nvSpPr>
            <p:spPr>
              <a:xfrm>
                <a:off x="4846680" y="5608440"/>
                <a:ext cx="1485360" cy="4114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c6d8e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26"/>
            <p:cNvGrpSpPr/>
            <p:nvPr/>
          </p:nvGrpSpPr>
          <p:grpSpPr>
            <a:xfrm>
              <a:off x="6589440" y="4033800"/>
              <a:ext cx="1487520" cy="1986120"/>
              <a:chOff x="6589440" y="4033800"/>
              <a:chExt cx="1487520" cy="1986120"/>
            </a:xfrm>
          </p:grpSpPr>
          <p:grpSp>
            <p:nvGrpSpPr>
              <p:cNvPr id="196" name="Group 27"/>
              <p:cNvGrpSpPr/>
              <p:nvPr/>
            </p:nvGrpSpPr>
            <p:grpSpPr>
              <a:xfrm>
                <a:off x="6589440" y="4033800"/>
                <a:ext cx="1434960" cy="1438560"/>
                <a:chOff x="6589440" y="4033800"/>
                <a:chExt cx="1434960" cy="1438560"/>
              </a:xfrm>
            </p:grpSpPr>
            <p:grpSp>
              <p:nvGrpSpPr>
                <p:cNvPr id="197" name="Group 28"/>
                <p:cNvGrpSpPr/>
                <p:nvPr/>
              </p:nvGrpSpPr>
              <p:grpSpPr>
                <a:xfrm>
                  <a:off x="6589440" y="4033800"/>
                  <a:ext cx="1434960" cy="1438560"/>
                  <a:chOff x="6589440" y="4033800"/>
                  <a:chExt cx="1434960" cy="1438560"/>
                </a:xfrm>
              </p:grpSpPr>
              <p:sp>
                <p:nvSpPr>
                  <p:cNvPr id="198" name="Oval 29"/>
                  <p:cNvSpPr/>
                  <p:nvPr/>
                </p:nvSpPr>
                <p:spPr>
                  <a:xfrm>
                    <a:off x="6589440" y="4033800"/>
                    <a:ext cx="1434960" cy="1438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36fc5"/>
                      </a:gs>
                      <a:gs pos="100000">
                        <a:srgbClr val="1c1b3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c1b5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30"/>
                  <p:cNvSpPr/>
                  <p:nvPr/>
                </p:nvSpPr>
                <p:spPr>
                  <a:xfrm>
                    <a:off x="6753240" y="4057560"/>
                    <a:ext cx="1107000" cy="54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36fc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1b5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0" name="Text Box 31"/>
                <p:cNvSpPr/>
                <p:nvPr/>
              </p:nvSpPr>
              <p:spPr>
                <a:xfrm>
                  <a:off x="6689520" y="47041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c1b5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Oval 32"/>
              <p:cNvSpPr/>
              <p:nvPr/>
            </p:nvSpPr>
            <p:spPr>
              <a:xfrm>
                <a:off x="6589440" y="5608440"/>
                <a:ext cx="1487520" cy="4114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c6d8e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1b5a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"/>
          <p:cNvSpPr/>
          <p:nvPr/>
        </p:nvSpPr>
        <p:spPr>
          <a:xfrm>
            <a:off x="971640" y="631044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b5a"/>
                </a:solidFill>
                <a:latin typeface="Arial"/>
              </a:rPr>
              <a:t>精美</a:t>
            </a:r>
            <a:r>
              <a:rPr b="0" lang="en-US" sz="1800" spc="-1" strike="noStrike">
                <a:solidFill>
                  <a:srgbClr val="0c1b5a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0c1b5a"/>
                </a:solidFill>
                <a:latin typeface="Arial"/>
              </a:rPr>
              <a:t>模板</a:t>
            </a:r>
            <a:r>
              <a:rPr b="0" lang="zh-CN" sz="1800" spc="-1" strike="noStrike">
                <a:solidFill>
                  <a:srgbClr val="0c1b5a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http://www.eeppt.com/moban/jingpin/</a:t>
            </a: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876560" y="2057400"/>
            <a:ext cx="3276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  <a:ea typeface="宋体"/>
              </a:rPr>
              <a:t>Add your company slogan</a:t>
            </a:r>
            <a:endParaRPr b="0" lang="en-US" sz="2000" spc="-1" strike="noStrike">
              <a:solidFill>
                <a:srgbClr val="0c1b5a"/>
              </a:solidFill>
              <a:latin typeface="Arial"/>
            </a:endParaRPr>
          </a:p>
        </p:txBody>
      </p:sp>
      <p:sp>
        <p:nvSpPr>
          <p:cNvPr id="204" name="WordArt 3"/>
          <p:cNvSpPr txBox="1"/>
          <p:nvPr/>
        </p:nvSpPr>
        <p:spPr>
          <a:xfrm>
            <a:off x="3838680" y="1400040"/>
            <a:ext cx="4495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b86cb"/>
                    </a:gs>
                    <a:gs pos="100000">
                      <a:srgbClr val="accce9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b86cb"/>
                  </a:gs>
                  <a:gs pos="100000">
                    <a:srgbClr val="accce9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8258040" y="2133720"/>
            <a:ext cx="87480" cy="217440"/>
          </a:xfrm>
          <a:prstGeom prst="rect">
            <a:avLst/>
          </a:prstGeom>
          <a:solidFill>
            <a:srgbClr val="3b86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1b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1:11:57Z</dcterms:created>
  <dc:creator/>
  <dc:description/>
  <cp:keywords>幻灯片之家 http:/www.eeppt.com</cp:keywords>
  <dc:language>en-US</dc:language>
  <cp:lastModifiedBy/>
  <dcterms:modified xsi:type="dcterms:W3CDTF">2015-07-12T09:48:3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