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28A-59FA-4C19-94E4-AF86B34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FEB-3FAC-4D44-BECC-87BA654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FD1-0BDA-4EA7-BA5D-19C001A5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6D7-24F9-489F-ABFD-7C14F63C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FCB-1B4E-4E4D-9931-8A5897C9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519-5092-4043-99E8-855BDE0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CCB-AC73-4BF4-9518-90EF7A10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CE2-CC9F-4969-95E7-14982A0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49B-530E-4E39-B91F-7809F00E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5C1-1F6D-46BB-8A1C-F51E61AC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BF7-36FA-4452-88CA-BA3D150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607-67C1-4F85-A859-5D5A752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451D-4806-42C3-92AA-70383806CF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94E-77FE-4638-9BAC-24BAD89513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eeppt.com/moban/jingpin/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精美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3" name="图表 30" descr=""/>
          <p:cNvPicPr/>
          <p:nvPr/>
        </p:nvPicPr>
        <p:blipFill>
          <a:blip r:embed="rId3"/>
          <a:stretch/>
        </p:blipFill>
        <p:spPr>
          <a:xfrm>
            <a:off x="539640" y="909720"/>
            <a:ext cx="8425080" cy="482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61657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267-3E93-42C1-8B54-950ED180A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6T07:07:00Z</dcterms:modified>
  <cp:revision>10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