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ensingto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Kensington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Kensington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Kensington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Kensington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Kensington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Kensington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nrong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ensington"/>
                <a:ea typeface="宋体"/>
              </a:rPr>
              <a:t>Financial Template</a:t>
            </a:r>
            <a:endParaRPr b="0" lang="en-US" sz="66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ensington"/>
                <a:ea typeface="宋体"/>
              </a:rPr>
              <a:t>Add Subtitles Here</a:t>
            </a:r>
            <a:endParaRPr b="0" lang="en-US" sz="36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40" name=""/>
          <p:cNvSpPr/>
          <p:nvPr/>
        </p:nvSpPr>
        <p:spPr>
          <a:xfrm>
            <a:off x="1042920" y="5591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721880" y="36450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金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ensington"/>
                <a:ea typeface="宋体"/>
              </a:rPr>
              <a:t>Second Title Page</a:t>
            </a:r>
            <a:endParaRPr b="0" lang="en-US" sz="66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ensington"/>
                <a:ea typeface="宋体"/>
              </a:rPr>
              <a:t>Add subtopics here</a:t>
            </a:r>
            <a:endParaRPr b="0" lang="en-US" sz="2800" spc="-1" strike="noStrike">
              <a:solidFill>
                <a:srgbClr val="000000"/>
              </a:solidFill>
              <a:latin typeface="Kensingto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19320" y="1676520"/>
            <a:ext cx="7315200" cy="360"/>
            <a:chOff x="1219320" y="1676520"/>
            <a:chExt cx="7315200" cy="360"/>
          </a:xfrm>
        </p:grpSpPr>
        <p:sp>
          <p:nvSpPr>
            <p:cNvPr id="45" name="Line 4"/>
            <p:cNvSpPr/>
            <p:nvPr/>
          </p:nvSpPr>
          <p:spPr>
            <a:xfrm>
              <a:off x="1219320" y="1676520"/>
              <a:ext cx="7315200" cy="0"/>
            </a:xfrm>
            <a:prstGeom prst="line">
              <a:avLst/>
            </a:prstGeom>
            <a:ln w="255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1219320" y="1676520"/>
              <a:ext cx="731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14560" y="5950080"/>
            <a:ext cx="64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金融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jinro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Kensingto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Kensingto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Kensingto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Kensingto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1:39:00Z</dcterms:created>
  <dc:creator/>
  <dc:description/>
  <cp:keywords>幻灯片之家 http:/www.eeppt.com</cp:keywords>
  <dc:language>en-US</dc:language>
  <cp:lastModifiedBy/>
  <dcterms:modified xsi:type="dcterms:W3CDTF">2015-07-06T04:09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