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3DEE-5A8D-4365-991C-9D84456A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0017-3503-4E5D-83F3-5A33B63C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EAE0-02E5-4076-B941-10657569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6F54-CAD2-4B7C-8630-0085387F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19C-9D0E-43AA-8382-DD854F2F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53A-420B-4DAB-9F4B-FC28561D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7D83-F457-41CB-812C-42E35086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40A-F5A0-438F-A9BC-EDE3BEBB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2D2C-547B-4747-AC2D-DC6F3FBE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9E0-6CC0-4B4D-954D-85B61752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5DD6-435A-4F72-B2D1-BE5A2910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F7BF-02F7-48DE-95E4-51F021F1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483C-DF2D-437F-9093-BA916CCC7EE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2F01-764D-4EDD-92AD-E256E3768D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圆角矩形 6"/>
          <p:cNvSpPr/>
          <p:nvPr/>
        </p:nvSpPr>
        <p:spPr>
          <a:xfrm>
            <a:off x="103320" y="1793880"/>
            <a:ext cx="8937360" cy="4968720"/>
          </a:xfrm>
          <a:prstGeom prst="roundRect">
            <a:avLst>
              <a:gd name="adj" fmla="val 2681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7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6372360" y="4352760"/>
            <a:ext cx="2876400" cy="25052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574560" y="4660920"/>
            <a:ext cx="649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9"/>
          <p:cNvSpPr/>
          <p:nvPr/>
        </p:nvSpPr>
        <p:spPr>
          <a:xfrm>
            <a:off x="206280" y="192240"/>
            <a:ext cx="8731440" cy="5460840"/>
          </a:xfrm>
          <a:prstGeom prst="roundRect">
            <a:avLst>
              <a:gd name="adj" fmla="val 2681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教师节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免费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6" descr=""/>
          <p:cNvPicPr/>
          <p:nvPr/>
        </p:nvPicPr>
        <p:blipFill>
          <a:blip r:embed="rId2"/>
          <a:srcRect l="0" t="0" r="0" b="2633"/>
          <a:stretch/>
        </p:blipFill>
        <p:spPr>
          <a:xfrm>
            <a:off x="4251240" y="2463840"/>
            <a:ext cx="5070600" cy="4394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5040" y="73476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汉仪菱心体简"/>
                <a:ea typeface="汉仪菱心体简"/>
              </a:rPr>
              <a:t> </a:t>
            </a: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040" y="40989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CE2-BF38-4611-B7D1-22ABFB4570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0:03:00Z</dcterms:created>
  <dc:creator/>
  <dc:description/>
  <cp:keywords>幻灯片之家 http:/www.eeppt.com</cp:keywords>
  <dc:language>en-US</dc:language>
  <cp:lastModifiedBy/>
  <cp:lastPrinted>2411-12-30T00:00:00Z</cp:lastPrinted>
  <dcterms:modified xsi:type="dcterms:W3CDTF">2015-07-12T09:14:05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