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6D8-B9BF-4006-BD28-0AA72F77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282-A63C-4D5A-AB1D-93D5BB24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41A-323A-4081-8BAD-7F67F9AC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8E9-8CB3-4121-A670-5D4965C4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490-01FA-4A24-AE80-6B27EAAD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228-3903-4973-840F-5A175923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BDF-86C6-4820-AD5D-AE5881DD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21E1-6102-4CDC-8344-7775570B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04D-7176-4A7D-83F4-3E6D85F5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1BF-FCBC-4F9F-AA10-F98276B1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11C-5D89-4B15-9709-95F41FFE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275-EE6A-4F88-ADFF-29C152CE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E16A-BC99-413C-BF94-BB41DB48B8D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0434-8090-47C2-B13F-D169AA2D128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867360" y="928800"/>
            <a:ext cx="10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370920" y="3506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6715080" y="928800"/>
            <a:ext cx="708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3080" y="623736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3120" y="765000"/>
            <a:ext cx="53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简约精美可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229788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515520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22660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15520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-6912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79784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369600" y="1643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79808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071960" y="1643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2266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3696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465516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-6912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94100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44072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433-9536-4E2B-BD0C-916C6FA6DE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342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690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72688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36916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86964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580536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194076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65516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194076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45126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623736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/>
  <dc:description/>
  <cp:keywords>幻灯片之家 http:/www.eeppt.com</cp:keywords>
  <dc:language>en-US</dc:language>
  <cp:lastModifiedBy/>
  <dcterms:modified xsi:type="dcterms:W3CDTF">2015-07-06T04:51:46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