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55E-702A-435B-9F4A-8707D3A9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C51-C89C-49F3-A323-E781A35E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50B-2B58-4CFA-AAD0-502619B5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871-7F5A-4868-8AD9-7F19691B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5AFE-B743-413A-8033-4AF3807B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3600-D742-4407-A409-53009B0D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11B6-573A-4F59-AC35-73255BC2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1644-4FF8-42F5-BA5F-B9019D2B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FC85-64ED-4BB9-8E3C-B70C13F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FCD1-9A60-4DC0-B59C-F4C8BB9E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492F-FB60-4054-A601-D983109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F73-3411-4068-B36D-FD3D863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B4A5-CDA6-4F2A-8154-0BBFC33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04C4-3C30-4263-BA94-E73F7B4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C755-AD33-4071-8532-B95BB8C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BBD9-AF72-4643-8058-ADE1E10D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4E1C-B65D-4A3F-8D63-FB792B1E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741-7AEE-4075-A3E2-42FBBCCA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8788-DD5F-494B-ACE8-CCBB979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1DA-5A9A-46D0-8BD8-CB1A3CE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8B5-94DF-453E-A18F-A423AF04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6F9-4E72-4BDC-B8CD-2F833B2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47C-E82F-4585-ACD1-8214BDC7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D73-DCDE-4CCD-9945-8FC97B45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C4A-CF54-4823-A49C-38CC121E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F19-60D3-4BCF-8934-C3E1270D89F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6464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pic_12069"/>
          <p:cNvPicPr/>
          <p:nvPr/>
        </p:nvPicPr>
        <p:blipFill>
          <a:blip r:embed="rId1"/>
          <a:srcRect l="6458" t="0" r="9167" b="4995"/>
          <a:stretch/>
        </p:blipFill>
        <p:spPr>
          <a:xfrm>
            <a:off x="-108000" y="-171360"/>
            <a:ext cx="73789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 rot="5400000">
            <a:off x="6670440" y="1473120"/>
            <a:ext cx="307332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8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隶书"/>
              </a:rPr>
              <a:t>口技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399800" y="3933720"/>
            <a:ext cx="127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林 嗣 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口技.mp3" descr=""/>
          <p:cNvPicPr/>
          <p:nvPr/>
        </p:nvPicPr>
        <p:blipFill>
          <a:blip r:embed="rId2"/>
          <a:stretch/>
        </p:blipFill>
        <p:spPr>
          <a:xfrm>
            <a:off x="8459640" y="6173640"/>
            <a:ext cx="684360" cy="68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2720" y="429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8120" y="119700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口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23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一时齐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</a:rPr>
              <a:t>咳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以响衬静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</a:rPr>
              <a:t>无所不有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484360" y="0"/>
            <a:ext cx="3384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华文彩云"/>
              </a:rPr>
              <a:t>课后练习二</a:t>
            </a:r>
            <a:r>
              <a:rPr b="1" lang="zh-CN" sz="4000" spc="-1" strike="noStrike">
                <a:solidFill>
                  <a:srgbClr val="ffffff"/>
                </a:solidFill>
                <a:latin typeface="Garamond"/>
                <a:ea typeface="华文彩云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79280" y="765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对听众反应的描述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4026240" y="1484280"/>
            <a:ext cx="3546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从侧面突出表演的效果，烘托出技艺的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79280" y="2060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文中前后两次清楚地交代了极简单的道具，这对文章的结构和表现口技表演者的技艺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79280" y="3573360"/>
            <a:ext cx="24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结构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表现效果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1979640" y="3573360"/>
            <a:ext cx="5183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首尾呼应，使文章浑然一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268360" y="422100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开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为后文表演复杂的声响做烘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2050920" y="5300640"/>
            <a:ext cx="59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结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证明、强调刚才的一切声响都是从一张嘴中发出的，从而更突出表演技艺的高超，也有烘托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8099280" y="2421000"/>
            <a:ext cx="57636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数字用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1F4B-4E59-4567-854B-593DCE2D1B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1619280" y="1557360"/>
            <a:ext cx="6408720" cy="136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最精彩的口技表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4283640" y="3092040"/>
            <a:ext cx="109476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99"/>
                </a:solidFill>
                <a:latin typeface="Tahoma"/>
              </a:rPr>
              <a:t>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-36360" y="4005360"/>
            <a:ext cx="252072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少的道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2638800" y="40435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203640" y="4005360"/>
            <a:ext cx="266364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复杂的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6443640" y="4005360"/>
            <a:ext cx="2700360" cy="718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最热烈的观众反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587880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360" y="5302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684360" y="251280"/>
            <a:ext cx="77752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华文新魏"/>
              </a:rPr>
              <a:t>表时间性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掌握它们的不同用法（ 练习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同时 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突然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两事相继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在特定的某个时间内发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在很短时间内发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08360" y="1773360"/>
            <a:ext cx="89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一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924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忽，忽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395240" y="3706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既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641124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是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64000" y="5661000"/>
            <a:ext cx="304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少顷、俄而、未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63104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24000" y="484920"/>
            <a:ext cx="8424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标上注音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顷（           ）           犬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  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呓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语（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）            夫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叱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大儿声（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夫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声起（         ）     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少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舒 （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  ） 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曳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 ）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许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许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（      ）声     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几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欲先走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904760" y="148104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907240" y="148428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f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è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192040" y="24210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139880" y="2489040"/>
            <a:ext cx="7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ch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703600" y="342900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ō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6176520" y="3429000"/>
            <a:ext cx="11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sh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390640" y="436248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852920" y="5370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926000" y="4365720"/>
            <a:ext cx="9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i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à</a:t>
            </a: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892560" y="537048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273600" y="1770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85960"/>
            <a:ext cx="49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同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座</a:t>
            </a:r>
            <a:r>
              <a:rPr b="1" lang="zh-CN" sz="32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，座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6280" y="771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通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78440" y="247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47120" y="3251160"/>
            <a:ext cx="13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会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宾客大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262840" y="3278160"/>
            <a:ext cx="11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ahoma"/>
              </a:rPr>
              <a:t>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：古，适逢，正赶上； 今，合拢，聚在一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21920" y="38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微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闻有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077720" y="3859200"/>
            <a:ext cx="26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微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隐隐约约；        今，小，细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37760" y="4332240"/>
            <a:ext cx="11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中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力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959280" y="436248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中间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中间夹杂；     今，里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38120" y="4835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两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股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战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806360" y="4829040"/>
            <a:ext cx="22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股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大腿             今，量词或一种组织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38120" y="5370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几欲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558960" y="543096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走：</a:t>
            </a: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古，跑；                    今，行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0" y="6021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宾客意少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627280" y="60930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ahoma"/>
              </a:rPr>
              <a:t>舒：古，放松。        今，舒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78440" y="771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9640" y="15890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妇抚儿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19840" y="1628640"/>
            <a:ext cx="25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乳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名词作动词，喂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195080" y="2349360"/>
            <a:ext cx="28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善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形容词作动词，擅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73440" y="229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京中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善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口技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069080" y="299736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名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名词作动词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22560" y="299736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名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其一处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9080" y="3730680"/>
            <a:ext cx="23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指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名词作动词，指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044000" y="3664080"/>
            <a:ext cx="11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其一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900000" y="4292640"/>
            <a:ext cx="7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抚尺一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5386320" y="4349880"/>
            <a:ext cx="7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下：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方位名词作动词，落、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829440" y="5157720"/>
            <a:ext cx="12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会宾客大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Tahoma"/>
              </a:rPr>
              <a:t>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182480" y="508464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宴：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名词作动词，举行宴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798480" y="771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76360" y="1773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妇抚儿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（动词，喂奶）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儿含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乳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啼  （名词，乳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611280" y="191628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076720" y="1989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539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39640" y="364500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539640" y="465300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539640" y="551664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4920" y="191628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5076720" y="18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手有百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（名词，手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指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其一端（动词，指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427640" y="1989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251720" y="263700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众宾团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坐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（坐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满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坐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宾客   （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，座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2720" y="276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1064160" y="350028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以为妙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（极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群响 毕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ahoma"/>
              </a:rPr>
              <a:t>绝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 （消失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36360" y="3630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340280" y="4478400"/>
            <a:ext cx="332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于厅事之东北角     （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妇拍而呜之            （他，指小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37080" y="465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36360" y="5502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1281600" y="5415120"/>
            <a:ext cx="21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其夫呓语      （她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不能指其一端    （其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08000" y="411480"/>
            <a:ext cx="80787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宾客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意少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间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力拉崩倒之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虽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有百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能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其一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袖出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战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欲先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20164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心情；稍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077800" y="1403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夹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07780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004720" y="32130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004720" y="42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卷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004720" y="5286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大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563800" y="6338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ahoma"/>
              </a:rPr>
              <a:t>几乎、差点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课文第一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京中有善口技者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彩云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  <a:ea typeface="华文彩云"/>
              </a:rPr>
              <a:t>在全文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900000" y="3068640"/>
            <a:ext cx="74041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字统领全篇，全文的内容情节都是围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Garamond"/>
                <a:ea typeface="幼圆"/>
              </a:rPr>
              <a:t>来展开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j0281904"/>
          <p:cNvPicPr/>
          <p:nvPr/>
        </p:nvPicPr>
        <p:blipFill>
          <a:blip r:embed="rId1"/>
          <a:stretch/>
        </p:blipFill>
        <p:spPr>
          <a:xfrm>
            <a:off x="5219640" y="4508640"/>
            <a:ext cx="3625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179280" y="981000"/>
            <a:ext cx="1439640" cy="5040360"/>
            <a:chOff x="179280" y="981000"/>
            <a:chExt cx="1439640" cy="5040360"/>
          </a:xfrm>
        </p:grpSpPr>
        <p:sp>
          <p:nvSpPr>
            <p:cNvPr id="169" name="Oval 3"/>
            <p:cNvSpPr/>
            <p:nvPr/>
          </p:nvSpPr>
          <p:spPr>
            <a:xfrm>
              <a:off x="179280" y="981000"/>
              <a:ext cx="1439640" cy="5040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"/>
            <p:cNvSpPr/>
            <p:nvPr/>
          </p:nvSpPr>
          <p:spPr>
            <a:xfrm>
              <a:off x="399240" y="1485720"/>
              <a:ext cx="10854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Garamond"/>
                </a:rPr>
                <a:t>怎样写出</a:t>
              </a:r>
              <a:r>
                <a:rPr b="1" lang="zh-CN" sz="4000" spc="-1" strike="noStrike">
                  <a:solidFill>
                    <a:srgbClr val="cc0066"/>
                  </a:solidFill>
                  <a:latin typeface="Garamond"/>
                </a:rPr>
                <a:t>善</a:t>
              </a:r>
              <a:r>
                <a:rPr b="1" lang="zh-CN" sz="4000" spc="-1" strike="noStrike">
                  <a:solidFill>
                    <a:srgbClr val="ffffff"/>
                  </a:solidFill>
                  <a:latin typeface="Garamond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AutoShape 5"/>
          <p:cNvSpPr/>
          <p:nvPr/>
        </p:nvSpPr>
        <p:spPr>
          <a:xfrm>
            <a:off x="1692360" y="1557360"/>
            <a:ext cx="360360" cy="3887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2195640" y="1052640"/>
            <a:ext cx="22320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正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268360" y="4941720"/>
            <a:ext cx="216072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</a:rPr>
              <a:t>侧面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5223240" y="1052640"/>
            <a:ext cx="2130120" cy="576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Garamond"/>
                <a:ea typeface="华文彩云"/>
              </a:rPr>
              <a:t>景场个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4572000" y="4076640"/>
            <a:ext cx="216000" cy="201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859280" y="3645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在表演过程中观众的神情举止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172360" y="907920"/>
            <a:ext cx="719280" cy="792360"/>
          </a:xfrm>
          <a:prstGeom prst="smileyFace">
            <a:avLst>
              <a:gd name="adj" fmla="val 465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5445000"/>
            <a:ext cx="33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、开头和结尾部分对表演道具的交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916360" y="566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烘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4"/>
          <p:cNvSpPr/>
          <p:nvPr/>
        </p:nvSpPr>
        <p:spPr>
          <a:xfrm>
            <a:off x="8459640" y="5445000"/>
            <a:ext cx="684360" cy="792360"/>
          </a:xfrm>
          <a:custGeom>
            <a:avLst/>
            <a:gdLst/>
            <a:ahLst/>
            <a:rect l="l" t="t" r="r" b="b"/>
            <a:pathLst>
              <a:path w="684212" h="792163">
                <a:moveTo>
                  <a:pt x="1" y="302579"/>
                </a:moveTo>
                <a:lnTo>
                  <a:pt x="261347" y="302581"/>
                </a:lnTo>
                <a:lnTo>
                  <a:pt x="342106" y="0"/>
                </a:lnTo>
                <a:lnTo>
                  <a:pt x="422865" y="302581"/>
                </a:lnTo>
                <a:lnTo>
                  <a:pt x="684211" y="302579"/>
                </a:lnTo>
                <a:lnTo>
                  <a:pt x="472777" y="489582"/>
                </a:lnTo>
                <a:lnTo>
                  <a:pt x="553539" y="792161"/>
                </a:lnTo>
                <a:lnTo>
                  <a:pt x="342106" y="605155"/>
                </a:lnTo>
                <a:lnTo>
                  <a:pt x="130673" y="792161"/>
                </a:lnTo>
                <a:lnTo>
                  <a:pt x="211435" y="489582"/>
                </a:lnTo>
                <a:lnTo>
                  <a:pt x="1" y="30257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8244000" y="3716280"/>
            <a:ext cx="900000" cy="865080"/>
          </a:xfrm>
          <a:prstGeom prst="su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04292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结合课后练习一，填充下列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549360"/>
          <a:ext cx="8964720" cy="6003720"/>
        </p:xfrm>
        <a:graphic>
          <a:graphicData uri="http://schemas.openxmlformats.org/drawingml/2006/table">
            <a:tbl>
              <a:tblPr/>
              <a:tblGrid>
                <a:gridCol w="900000"/>
                <a:gridCol w="2951280"/>
                <a:gridCol w="1657440"/>
                <a:gridCol w="1471680"/>
                <a:gridCol w="198432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场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种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声音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作者评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听众反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35"/>
          <p:cNvSpPr/>
          <p:nvPr/>
        </p:nvSpPr>
        <p:spPr>
          <a:xfrm>
            <a:off x="-243000" y="119700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梦中惊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-243000" y="292428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渐入梦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-171720" y="4797360"/>
            <a:ext cx="1033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火起群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971640" y="1125360"/>
            <a:ext cx="280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犬吠      欠伸     呓语    大啼      妇呜  絮絮  夫叱    （</a:t>
            </a: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一时齐发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971640" y="2924280"/>
            <a:ext cx="287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齁声  妇拍儿渐止 鼠作作索索       盆器倾侧  </a:t>
            </a:r>
            <a:r>
              <a:rPr b="1" lang="zh-CN" sz="2800" spc="-1" strike="noStrike">
                <a:solidFill>
                  <a:srgbClr val="ffffcc"/>
                </a:solidFill>
                <a:latin typeface="Garamond"/>
              </a:rPr>
              <a:t>咳嗽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 （</a:t>
            </a:r>
            <a:r>
              <a:rPr b="1" lang="zh-CN" sz="2800" spc="-1" strike="noStrike">
                <a:solidFill>
                  <a:srgbClr val="33cc33"/>
                </a:solidFill>
                <a:latin typeface="Garamond"/>
              </a:rPr>
              <a:t>以响衬静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826920" y="465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大呼  齐哭  百千大呼  齐哭  犬吠  力拉崩倒  火爆声  风声  求救声  抢夺声            泼水声     （</a:t>
            </a:r>
            <a:r>
              <a:rPr b="1" lang="zh-CN" sz="2400" spc="-1" strike="noStrike">
                <a:solidFill>
                  <a:srgbClr val="cc0066"/>
                </a:solidFill>
                <a:latin typeface="Garamond"/>
              </a:rPr>
              <a:t>无所不有</a:t>
            </a: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3851280" y="126828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由远及近由外到内由小到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5867280" y="1484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众妙毕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7020000" y="126828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伸颈  侧目  微笑  默叹  以为妙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4"/>
          <p:cNvSpPr/>
          <p:nvPr/>
        </p:nvSpPr>
        <p:spPr>
          <a:xfrm>
            <a:off x="3851280" y="3429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逐步变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3851280" y="4797360"/>
            <a:ext cx="165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突然变大  由少而多  由少而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6"/>
          <p:cNvSpPr/>
          <p:nvPr/>
        </p:nvSpPr>
        <p:spPr>
          <a:xfrm>
            <a:off x="7164360" y="321300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意少舒  稍稍正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7"/>
          <p:cNvSpPr/>
          <p:nvPr/>
        </p:nvSpPr>
        <p:spPr>
          <a:xfrm>
            <a:off x="5508720" y="465300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不能指其一端  不能名其一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8"/>
          <p:cNvSpPr/>
          <p:nvPr/>
        </p:nvSpPr>
        <p:spPr>
          <a:xfrm>
            <a:off x="7020000" y="4724280"/>
            <a:ext cx="187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aramond"/>
              </a:rPr>
              <a:t>变色离席  奋袖出臂  两股战战  几欲先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9"/>
          <p:cNvSpPr/>
          <p:nvPr/>
        </p:nvSpPr>
        <p:spPr>
          <a:xfrm>
            <a:off x="7667640" y="189000"/>
            <a:ext cx="504720" cy="404640"/>
          </a:xfrm>
          <a:custGeom>
            <a:avLst/>
            <a:gdLst>
              <a:gd name="textAreaLeft" fmla="*/ 67320 w 504720"/>
              <a:gd name="textAreaRight" fmla="*/ 437400 w 504720"/>
              <a:gd name="textAreaTop" fmla="*/ 70560 h 404640"/>
              <a:gd name="textAreaBottom" fmla="*/ 29340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5:19:37Z</dcterms:created>
  <dc:creator/>
  <dc:description/>
  <cp:keywords>幻灯片之家 http:/www.eeppt.com</cp:keywords>
  <dc:language>en-US</dc:language>
  <cp:lastModifiedBy/>
  <dcterms:modified xsi:type="dcterms:W3CDTF">2015-07-04T12:29:48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