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EBBF-B0C2-404D-962B-AD803F4D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3C46-FF1F-4AD3-90D4-9C4A8157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845E-2314-4983-B366-44F05B5B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EA88-9EC4-4D42-9038-3D4C5BBA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C31E-DB23-4A83-A8FB-8D777820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7B32-6A4F-4141-815A-B8515B3B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E914-EEC7-4283-AC80-E7E6AA7B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C43C-0CC2-436D-85E4-C8E03B30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FC80-1F13-421F-BD9E-01FEA129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9C5A-60BF-46C8-989C-F59E43DD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38E1-B0D7-467D-801C-EFF9C3B2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5105-A733-4257-BAC1-C97FDD89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589F-563C-42F0-831F-855D3FAFA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62,5,&#24187;&#28783;&#29255; 5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62,5,&#24187;&#28783;&#29255; 5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62,5,&#24187;&#28783;&#29255; 5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62,5,&#24187;&#28783;&#29255; 5" TargetMode="External"/><Relationship Id="rId3" Type="http://schemas.openxmlformats.org/officeDocument/2006/relationships/hyperlink" Target="http://www.eeppt.com/moban/jieri/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62,5,&#24187;&#28783;&#29255; 5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62,5,&#24187;&#28783;&#29255; 5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59,6,&#24187;&#28783;&#29255; 6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59,6,&#24187;&#28783;&#29255; 6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256,1,&#24187;&#28783;&#29255; 1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261,7,&#24187;&#28783;&#29255; 7" TargetMode="External"/><Relationship Id="rId3" Type="http://schemas.openxmlformats.org/officeDocument/2006/relationships/hyperlink" Target="256,1,&#24187;&#28783;&#29255; 1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256,1,&#24187;&#28783;&#29255; 1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256,1,&#24187;&#28783;&#29255; 1" TargetMode="External"/><Relationship Id="rId3" Type="http://schemas.openxmlformats.org/officeDocument/2006/relationships/hyperlink" Target="265,10,&#24187;&#28783;&#29255; 10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79,16,&#24187;&#28783;&#29255; 16" TargetMode="External"/><Relationship Id="rId3" Type="http://schemas.openxmlformats.org/officeDocument/2006/relationships/hyperlink" Target="280,17,&#24187;&#28783;&#29255; 17" TargetMode="External"/><Relationship Id="rId4" Type="http://schemas.openxmlformats.org/officeDocument/2006/relationships/hyperlink" Target="256,1,&#24187;&#28783;&#29255; 1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57,3,&#24187;&#28783;&#29255; 3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58,4,&#24187;&#28783;&#29255; 4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58,4,&#24187;&#28783;&#29255; 4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1650960" y="1324080"/>
            <a:ext cx="590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endParaRPr b="1" lang="en-US" sz="8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Oval 7"/>
          <p:cNvSpPr/>
          <p:nvPr/>
        </p:nvSpPr>
        <p:spPr>
          <a:xfrm>
            <a:off x="3924360" y="6029280"/>
            <a:ext cx="649080" cy="620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788000" y="6002280"/>
            <a:ext cx="72072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Oval 9"/>
          <p:cNvSpPr/>
          <p:nvPr/>
        </p:nvSpPr>
        <p:spPr>
          <a:xfrm>
            <a:off x="5653080" y="6029280"/>
            <a:ext cx="719280" cy="620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Oval 10"/>
          <p:cNvSpPr/>
          <p:nvPr/>
        </p:nvSpPr>
        <p:spPr>
          <a:xfrm>
            <a:off x="3079800" y="6029280"/>
            <a:ext cx="647640" cy="620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Oval 12"/>
          <p:cNvSpPr/>
          <p:nvPr/>
        </p:nvSpPr>
        <p:spPr>
          <a:xfrm>
            <a:off x="2195640" y="6029280"/>
            <a:ext cx="647640" cy="620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2306880" y="5975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Arial"/>
              </a:rPr>
              <a:t>1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3172320" y="5975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4934160" y="5948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Arial"/>
              </a:rPr>
              <a:t>4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Text Box 18">
            <a:hlinkClick r:id="" action="ppaction://hlinkshowjump?jump=nextslide"/>
          </p:cNvPr>
          <p:cNvSpPr/>
          <p:nvPr/>
        </p:nvSpPr>
        <p:spPr>
          <a:xfrm>
            <a:off x="5725440" y="6029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歌曲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Oval 19"/>
          <p:cNvSpPr/>
          <p:nvPr/>
        </p:nvSpPr>
        <p:spPr>
          <a:xfrm>
            <a:off x="6661080" y="5958000"/>
            <a:ext cx="71928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6700320" y="6014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词语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Oval 21"/>
          <p:cNvSpPr/>
          <p:nvPr/>
        </p:nvSpPr>
        <p:spPr>
          <a:xfrm>
            <a:off x="1260360" y="6029280"/>
            <a:ext cx="719280" cy="620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Text Box 22"/>
          <p:cNvSpPr/>
          <p:nvPr/>
        </p:nvSpPr>
        <p:spPr>
          <a:xfrm>
            <a:off x="1261440" y="6029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自读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Oval 23"/>
          <p:cNvSpPr/>
          <p:nvPr/>
        </p:nvSpPr>
        <p:spPr>
          <a:xfrm>
            <a:off x="7526160" y="5913360"/>
            <a:ext cx="719280" cy="69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Text Box 24"/>
          <p:cNvSpPr/>
          <p:nvPr/>
        </p:nvSpPr>
        <p:spPr>
          <a:xfrm>
            <a:off x="7598880" y="6014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生字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4400" y="909720"/>
            <a:ext cx="173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快乐的节日》课件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P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3" name="Picture 4" descr="画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1183320" y="2997360"/>
            <a:ext cx="2962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祖 国</a:t>
            </a:r>
            <a:endParaRPr b="1" lang="en-US" sz="15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85720" y="1800360"/>
            <a:ext cx="435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zh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Arial"/>
              </a:rPr>
              <a:t>ŭ  guó</a:t>
            </a:r>
            <a:endParaRPr b="1" lang="en-US" sz="8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6549480" y="685800"/>
            <a:ext cx="1521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祖母</a:t>
            </a:r>
            <a:endParaRPr b="1" lang="en-US" sz="8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国家</a:t>
            </a:r>
            <a:endParaRPr b="1" lang="en-US" sz="8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中国</a:t>
            </a:r>
            <a:endParaRPr b="1" lang="en-US" sz="8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Oval 8"/>
          <p:cNvSpPr/>
          <p:nvPr/>
        </p:nvSpPr>
        <p:spPr>
          <a:xfrm>
            <a:off x="7885080" y="6165720"/>
            <a:ext cx="790560" cy="69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7957440" y="622296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5943600" y="5105520"/>
            <a:ext cx="107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国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7592040" y="5105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园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22" name="Picture 4" descr="画框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718640" y="285120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由</a:t>
            </a:r>
            <a:endParaRPr b="1" lang="en-US" sz="15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503720" y="1773360"/>
            <a:ext cx="198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Arial"/>
              </a:rPr>
              <a:t>óu</a:t>
            </a:r>
            <a:endParaRPr b="1" lang="en-US" sz="8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6465240" y="134136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自由</a:t>
            </a:r>
            <a:endParaRPr b="1" lang="en-US" sz="8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Oval 8"/>
          <p:cNvSpPr/>
          <p:nvPr/>
        </p:nvSpPr>
        <p:spPr>
          <a:xfrm>
            <a:off x="7885080" y="6093000"/>
            <a:ext cx="790560" cy="691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7957440" y="614988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5779080" y="29718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由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6652440" y="29718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自由）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855400" y="43434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田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6652440" y="43434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水田）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4" name="Picture 4" descr="画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770840" y="292248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羽</a:t>
            </a:r>
            <a:endParaRPr b="1" lang="en-US" sz="15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808280" y="1747800"/>
            <a:ext cx="136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Arial"/>
              </a:rPr>
              <a:t>ŭ</a:t>
            </a:r>
            <a:endParaRPr b="1" lang="en-US" sz="8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6373440" y="115092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羽毛</a:t>
            </a:r>
            <a:endParaRPr b="1" lang="en-US" sz="8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7885080" y="6165720"/>
            <a:ext cx="790560" cy="69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7957440" y="618480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1" name="Picture 4" descr="画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2140920" y="285264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丰</a:t>
            </a:r>
            <a:endParaRPr b="1" lang="en-US" sz="15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791720" y="1747800"/>
            <a:ext cx="232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Arial"/>
              </a:rPr>
              <a:t>ē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1" lang="en-US" sz="8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6320880" y="105876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丰满</a:t>
            </a:r>
            <a:endParaRPr b="1" lang="en-US" sz="8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7885080" y="6165720"/>
            <a:ext cx="790560" cy="69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7995600" y="623736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530208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节日ppt模板下载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http://www.eeppt.com/moban/jieri/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9" name="Picture 2" descr="画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1183320" y="2637000"/>
            <a:ext cx="2962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勇 敢</a:t>
            </a:r>
            <a:endParaRPr b="1" lang="en-US" sz="15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44080" y="1413000"/>
            <a:ext cx="46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Arial"/>
              </a:rPr>
              <a:t>ŏng gǎn</a:t>
            </a:r>
            <a:endParaRPr b="1" lang="en-US" sz="8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Oval 5"/>
          <p:cNvSpPr/>
          <p:nvPr/>
        </p:nvSpPr>
        <p:spPr>
          <a:xfrm>
            <a:off x="7885080" y="6165720"/>
            <a:ext cx="790560" cy="69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7957440" y="618480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5" name="Picture 2" descr="画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1863000" y="292428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理</a:t>
            </a:r>
            <a:endParaRPr b="1" lang="en-US" sz="15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096280" y="1700280"/>
            <a:ext cx="74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Arial"/>
              </a:rPr>
              <a:t>ĭ</a:t>
            </a:r>
            <a:endParaRPr b="1" lang="en-US" sz="8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393960" y="1484280"/>
            <a:ext cx="1521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理想</a:t>
            </a:r>
            <a:endParaRPr b="1" lang="en-US" sz="8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理由</a:t>
            </a:r>
            <a:endParaRPr b="1" lang="en-US" sz="8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7885080" y="6165720"/>
            <a:ext cx="790560" cy="69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7957440" y="618480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62" name="Picture 2" descr="画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2058120" y="300348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敬</a:t>
            </a:r>
            <a:endParaRPr b="1" lang="en-US" sz="15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910880" y="1674720"/>
            <a:ext cx="198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Arial"/>
              </a:rPr>
              <a:t>ìng</a:t>
            </a:r>
            <a:endParaRPr b="1" lang="en-US" sz="8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6393960" y="1301760"/>
            <a:ext cx="1521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尊敬</a:t>
            </a:r>
            <a:endParaRPr b="1" lang="en-US" sz="8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敬爱</a:t>
            </a:r>
            <a:endParaRPr b="1" lang="en-US" sz="8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6" name="Oval 6"/>
          <p:cNvSpPr/>
          <p:nvPr/>
        </p:nvSpPr>
        <p:spPr>
          <a:xfrm>
            <a:off x="7885080" y="6165720"/>
            <a:ext cx="790560" cy="69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7957440" y="623736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6068160" y="47340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敬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335000" y="4038480"/>
            <a:ext cx="8330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ì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近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71" name="Picture 2" descr="画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2005920" y="292428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1" lang="en-US" sz="15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2034000" y="1819440"/>
            <a:ext cx="142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Arial"/>
              </a:rPr>
              <a:t>ù</a:t>
            </a:r>
            <a:endParaRPr b="1" lang="en-US" sz="8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6538320" y="115092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度过</a:t>
            </a:r>
            <a:endParaRPr b="1" lang="en-US" sz="8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6187320" y="294948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欢度节日</a:t>
            </a:r>
            <a:endParaRPr b="1" lang="en-US" sz="6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8029440" y="6165720"/>
            <a:ext cx="790560" cy="69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7022520" y="622296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Oval 10"/>
          <p:cNvSpPr/>
          <p:nvPr/>
        </p:nvSpPr>
        <p:spPr>
          <a:xfrm>
            <a:off x="6948360" y="6165720"/>
            <a:ext cx="790560" cy="69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8102160" y="6237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c945"/>
                </a:solidFill>
                <a:latin typeface="Arial"/>
              </a:rPr>
              <a:t>首页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5915880" y="47242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度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7516080" y="47242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席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5D53-CD26-433D-8A50-F4780FF1BE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7" name="Picture 6" descr="14-lx-b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1413360" y="9079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祝贺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790080" y="92700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祖国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6310800" y="83664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勇敢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1270440" y="249228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丰满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3718440" y="238428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理想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6238080" y="234936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度过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1270440" y="402444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希望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3643920" y="396864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羽毛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6022080" y="39337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老师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Oval 17"/>
          <p:cNvSpPr/>
          <p:nvPr/>
        </p:nvSpPr>
        <p:spPr>
          <a:xfrm>
            <a:off x="7956720" y="6021360"/>
            <a:ext cx="793440" cy="69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8030520" y="604044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首页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0" name="Picture 4" descr="未标题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Oval 11"/>
          <p:cNvSpPr/>
          <p:nvPr/>
        </p:nvSpPr>
        <p:spPr>
          <a:xfrm>
            <a:off x="8028000" y="5877000"/>
            <a:ext cx="720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c945"/>
                </a:solidFill>
                <a:latin typeface="Arial"/>
              </a:rPr>
              <a:t>首页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00" name="Picture 4" descr="14-lx-b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3191760" y="1589040"/>
            <a:ext cx="2771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读课文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遍：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遍读正确。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二遍体会快乐的心情。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Oval 6"/>
          <p:cNvSpPr/>
          <p:nvPr/>
        </p:nvSpPr>
        <p:spPr>
          <a:xfrm>
            <a:off x="7885080" y="5948280"/>
            <a:ext cx="7905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7957440" y="5969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c945"/>
                </a:solidFill>
                <a:latin typeface="Arial"/>
              </a:rPr>
              <a:t>首页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3" name="Picture 8" descr="悄悄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</p:pic>
      <p:sp>
        <p:nvSpPr>
          <p:cNvPr id="64" name="Text Box 7"/>
          <p:cNvSpPr/>
          <p:nvPr/>
        </p:nvSpPr>
        <p:spPr>
          <a:xfrm>
            <a:off x="2507760" y="981000"/>
            <a:ext cx="453924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鸟在前面带路，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风儿</a:t>
            </a:r>
            <a:r>
              <a:rPr b="1" lang="zh-CN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着我们。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像春天一样，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来到花园里，来到草地上。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鲜艳的红领巾，美丽的衣裳，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像朵朵花儿开放。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Oval 9"/>
          <p:cNvSpPr/>
          <p:nvPr/>
        </p:nvSpPr>
        <p:spPr>
          <a:xfrm>
            <a:off x="7885080" y="5950080"/>
            <a:ext cx="790560" cy="620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7957440" y="596916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首页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Picture 8" descr="k06-01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2976120" y="333360"/>
            <a:ext cx="3884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花儿向我们点头，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白杨树哗啦啦地响。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它们同美丽的小鸟，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向我们祝贺，为我们歌唱。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它们都说有了我们，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可爱的祖国就更有希望。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7432560" y="5969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7957440" y="596916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首页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Oval 11"/>
          <p:cNvSpPr/>
          <p:nvPr/>
        </p:nvSpPr>
        <p:spPr>
          <a:xfrm>
            <a:off x="7885080" y="5877000"/>
            <a:ext cx="86364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4" name="Picture 4" descr="12-lx-bg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3104280" y="446040"/>
            <a:ext cx="4707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感谢亲爱的祖国，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让我们健康地成长。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我们像小鸟一样，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等身上的羽毛长丰满，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就勇敢地向着天空飞翔，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飞向我们的理想。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7575480" y="5969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7957440" y="596916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首页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Oval 8"/>
          <p:cNvSpPr/>
          <p:nvPr/>
        </p:nvSpPr>
        <p:spPr>
          <a:xfrm>
            <a:off x="7885080" y="5877000"/>
            <a:ext cx="827280" cy="765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4570200" y="609480"/>
            <a:ext cx="8514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祖国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未标题-6"/>
          <p:cNvPicPr/>
          <p:nvPr/>
        </p:nvPicPr>
        <p:blipFill>
          <a:blip r:embed="rId1"/>
          <a:stretch/>
        </p:blipFill>
        <p:spPr>
          <a:xfrm>
            <a:off x="0" y="0"/>
            <a:ext cx="9144000" cy="3789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3394080" y="3716280"/>
            <a:ext cx="21924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唱啊，跳哇，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爱的老师，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亲爱的伙伴，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一起</a:t>
            </a:r>
            <a:r>
              <a:rPr b="1" lang="zh-CN" sz="4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过这快乐的时光。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7885080" y="5877000"/>
            <a:ext cx="755640" cy="691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8151840" y="6040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957440" y="596916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首页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7" name="Picture 4" descr="画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1189080" y="1341360"/>
            <a:ext cx="247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chu</a:t>
            </a:r>
            <a:r>
              <a:rPr b="1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ī</a:t>
            </a:r>
            <a:endParaRPr b="1" lang="en-US" sz="8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934280" y="242100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吹</a:t>
            </a:r>
            <a:endParaRPr b="1" lang="en-US" sz="15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6526800" y="1484280"/>
            <a:ext cx="127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吹气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吹牛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吹风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837040" y="48164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ff"/>
                </a:solidFill>
                <a:latin typeface="Arial"/>
              </a:rPr>
              <a:t>吹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Oval 9"/>
          <p:cNvSpPr/>
          <p:nvPr/>
        </p:nvSpPr>
        <p:spPr>
          <a:xfrm>
            <a:off x="8172360" y="6192720"/>
            <a:ext cx="720720" cy="62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8211600" y="622296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7409880" y="48769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ff"/>
                </a:solidFill>
                <a:latin typeface="Arial"/>
              </a:rPr>
              <a:t>听</a:t>
            </a:r>
            <a:endParaRPr b="1" lang="en-US" sz="6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6" name="Picture 4" descr="画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26520" y="1197000"/>
            <a:ext cx="458244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zh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Arial"/>
              </a:rPr>
              <a:t>ù    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Arial"/>
              </a:rPr>
              <a:t>è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9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祝 贺</a:t>
            </a:r>
            <a:endParaRPr b="1" lang="en-US" sz="15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Oval 6"/>
          <p:cNvSpPr/>
          <p:nvPr/>
        </p:nvSpPr>
        <p:spPr>
          <a:xfrm>
            <a:off x="8101080" y="6165720"/>
            <a:ext cx="647640" cy="62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8102160" y="616572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068160" y="1000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贺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836760" y="9907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祝贺）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779080" y="22194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员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6620400" y="227484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少先队员）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5" name="Picture 4" descr="画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789920" y="292428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希</a:t>
            </a:r>
            <a:endParaRPr b="1" lang="en-US" sz="15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107800" y="1628640"/>
            <a:ext cx="1113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ī</a:t>
            </a:r>
            <a:endParaRPr b="1" lang="en-US" sz="8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6012000" y="1255680"/>
            <a:ext cx="249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希望</a:t>
            </a:r>
            <a:endParaRPr b="1" lang="en-US" sz="8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7719840" y="6111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Oval 10"/>
          <p:cNvSpPr/>
          <p:nvPr/>
        </p:nvSpPr>
        <p:spPr>
          <a:xfrm>
            <a:off x="8101080" y="6237360"/>
            <a:ext cx="718920" cy="620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8139960" y="623736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3T10:41:52Z</dcterms:created>
  <dc:creator/>
  <dc:description/>
  <cp:keywords>幻灯片之家 http:/www.eeppt.com</cp:keywords>
  <dc:language>en-US</dc:language>
  <cp:lastModifiedBy/>
  <dcterms:modified xsi:type="dcterms:W3CDTF">2015-07-12T10:05:06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