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FF2-C7EB-4766-BCA1-71B984B2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617-CE29-4720-8F58-3720740D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C94-92A5-4FF7-848F-CE5DE7BC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BFA-317B-462E-AF3D-9AD52343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593-A240-4818-9593-DAEA40D0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9B9-1B3D-4016-85CA-0889E0A4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7D8-8910-4F3E-8962-455D5F74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6CC-5B4F-47F0-8AE7-1F3DED3F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89B-557D-48A3-8490-A6FE3A40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FA5-3E91-4D43-A0C5-0D776759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987-BFFA-4CE4-87B1-E86CF3C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E0F-1879-403B-823C-5788E32A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0B3C-6DA9-4AEE-97A8-0302ED98A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jieri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1600_005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2205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快乐的节日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PT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" descr="AquaMonster03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50720" y="6087960"/>
            <a:ext cx="4921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Monsters13"/>
          <p:cNvPicPr/>
          <p:nvPr/>
        </p:nvPicPr>
        <p:blipFill>
          <a:blip r:embed="rId3"/>
          <a:stretch/>
        </p:blipFill>
        <p:spPr>
          <a:xfrm>
            <a:off x="8028000" y="5810400"/>
            <a:ext cx="816120" cy="884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471600" y="40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苏教版二年级语文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6165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760-218B-4BE2-8F08-5B1C3077E5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22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pic>
          <p:nvPicPr>
            <p:cNvPr id="142" name="Picture 5" descr="JDSJ414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23738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6" descr="JDSJ414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0" y="1600200"/>
              <a:ext cx="23738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7" descr="JDSJ414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0" y="3276720"/>
              <a:ext cx="237384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8" descr="JDSJ414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0" y="4952880"/>
              <a:ext cx="23738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9" descr="JDSJ414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2250360" y="0"/>
              <a:ext cx="23738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" descr="JDSJ414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2250360" y="1600200"/>
              <a:ext cx="23738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JDSJ414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2250360" y="3276720"/>
              <a:ext cx="237384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2" descr="JDSJ414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2250360" y="4952880"/>
              <a:ext cx="23738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3" descr="JDSJ414"/>
            <p:cNvPicPr/>
            <p:nvPr/>
          </p:nvPicPr>
          <p:blipFill>
            <a:blip r:embed="rId9">
              <a:lum bright="70000" contrast="-70000"/>
            </a:blip>
            <a:stretch/>
          </p:blipFill>
          <p:spPr>
            <a:xfrm>
              <a:off x="4571640" y="0"/>
              <a:ext cx="23738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4" descr="JDSJ414"/>
            <p:cNvPicPr/>
            <p:nvPr/>
          </p:nvPicPr>
          <p:blipFill>
            <a:blip r:embed="rId10">
              <a:lum bright="70000" contrast="-70000"/>
            </a:blip>
            <a:stretch/>
          </p:blipFill>
          <p:spPr>
            <a:xfrm>
              <a:off x="4571640" y="1600200"/>
              <a:ext cx="23738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5" descr="JDSJ414"/>
            <p:cNvPicPr/>
            <p:nvPr/>
          </p:nvPicPr>
          <p:blipFill>
            <a:blip r:embed="rId11">
              <a:lum bright="70000" contrast="-70000"/>
            </a:blip>
            <a:stretch/>
          </p:blipFill>
          <p:spPr>
            <a:xfrm>
              <a:off x="4571640" y="3276720"/>
              <a:ext cx="237384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6" descr="JDSJ414"/>
            <p:cNvPicPr/>
            <p:nvPr/>
          </p:nvPicPr>
          <p:blipFill>
            <a:blip r:embed="rId12">
              <a:lum bright="70000" contrast="-70000"/>
            </a:blip>
            <a:stretch/>
          </p:blipFill>
          <p:spPr>
            <a:xfrm>
              <a:off x="4571640" y="4952880"/>
              <a:ext cx="23738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7" descr="JDSJ414"/>
            <p:cNvPicPr/>
            <p:nvPr/>
          </p:nvPicPr>
          <p:blipFill>
            <a:blip r:embed="rId13">
              <a:lum bright="70000" contrast="-70000"/>
            </a:blip>
            <a:stretch/>
          </p:blipFill>
          <p:spPr>
            <a:xfrm>
              <a:off x="6769800" y="0"/>
              <a:ext cx="23738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8" descr="JDSJ414"/>
            <p:cNvPicPr/>
            <p:nvPr/>
          </p:nvPicPr>
          <p:blipFill>
            <a:blip r:embed="rId14">
              <a:lum bright="70000" contrast="-70000"/>
            </a:blip>
            <a:stretch/>
          </p:blipFill>
          <p:spPr>
            <a:xfrm>
              <a:off x="6769800" y="1600200"/>
              <a:ext cx="23738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9" descr="JDSJ414"/>
            <p:cNvPicPr/>
            <p:nvPr/>
          </p:nvPicPr>
          <p:blipFill>
            <a:blip r:embed="rId15">
              <a:lum bright="70000" contrast="-70000"/>
            </a:blip>
            <a:stretch/>
          </p:blipFill>
          <p:spPr>
            <a:xfrm>
              <a:off x="6769800" y="3276720"/>
              <a:ext cx="237384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0" descr="JDSJ414"/>
            <p:cNvPicPr/>
            <p:nvPr/>
          </p:nvPicPr>
          <p:blipFill>
            <a:blip r:embed="rId16">
              <a:lum bright="70000" contrast="-70000"/>
            </a:blip>
            <a:stretch/>
          </p:blipFill>
          <p:spPr>
            <a:xfrm>
              <a:off x="6769800" y="4952880"/>
              <a:ext cx="237384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4560" y="609120"/>
            <a:ext cx="3394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000"/>
                </a:solidFill>
                <a:latin typeface="Times New Roman"/>
                <a:ea typeface="楷体_GB2312"/>
              </a:rPr>
              <a:t>小小作业记心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456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回家查找资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外国小朋友都过哪些节日，是怎么过这些节日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寻找快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你除了在过节的时候感受到了快乐，还在什么时候感受到快乐了，把它记录下来，写成一首儿歌。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日，在班级开个儿歌朗诵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26"/>
          <p:cNvGrpSpPr/>
          <p:nvPr/>
        </p:nvGrpSpPr>
        <p:grpSpPr>
          <a:xfrm>
            <a:off x="1114560" y="5516640"/>
            <a:ext cx="7169040" cy="609480"/>
            <a:chOff x="1114560" y="5516640"/>
            <a:chExt cx="7169040" cy="609480"/>
          </a:xfrm>
        </p:grpSpPr>
        <p:sp>
          <p:nvSpPr>
            <p:cNvPr id="161" name="Rectangle 24"/>
            <p:cNvSpPr/>
            <p:nvPr/>
          </p:nvSpPr>
          <p:spPr>
            <a:xfrm>
              <a:off x="1114560" y="5516640"/>
              <a:ext cx="7169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66"/>
                  </a:solidFill>
                  <a:latin typeface="Times New Roman"/>
                  <a:ea typeface="隶书"/>
                </a:rPr>
                <a:t>快乐时时处处都在，看你能不能发现它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1145520" y="5516640"/>
              <a:ext cx="7137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快乐时时处处都在，看你能不能发现它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Picture 28" descr="AquaMonster03">
            <a:hlinkClick r:id="" action="ppaction://hlinkshowjump?jump=previousslide"/>
          </p:cNvPr>
          <p:cNvPicPr/>
          <p:nvPr/>
        </p:nvPicPr>
        <p:blipFill>
          <a:blip r:embed="rId17"/>
          <a:stretch/>
        </p:blipFill>
        <p:spPr>
          <a:xfrm>
            <a:off x="0" y="6316560"/>
            <a:ext cx="4921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JDSJ2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4"/>
          <p:cNvSpPr txBox="1"/>
          <p:nvPr/>
        </p:nvSpPr>
        <p:spPr>
          <a:xfrm>
            <a:off x="2378160" y="1989000"/>
            <a:ext cx="4726080" cy="288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9a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行楷"/>
              </a:rPr>
              <a:t>再 见</a:t>
            </a:r>
            <a:endParaRPr b="1" lang="en-US" sz="3200" spc="-1" strike="noStrike">
              <a:ln w="9360">
                <a:solidFill>
                  <a:srgbClr val="9a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行楷"/>
              <a:ea typeface="华文行楷"/>
            </a:endParaRPr>
          </a:p>
        </p:txBody>
      </p:sp>
      <p:pic>
        <p:nvPicPr>
          <p:cNvPr id="167" name="Picture 6" descr="Butterfly11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8496360" y="6156360"/>
            <a:ext cx="647640" cy="70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AquaMonster03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6316560"/>
            <a:ext cx="492120" cy="533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16"/>
          <p:cNvPicPr/>
          <p:nvPr/>
        </p:nvPicPr>
        <p:blipFill>
          <a:blip r:embed="rId6"/>
          <a:stretch/>
        </p:blipFill>
        <p:spPr>
          <a:xfrm>
            <a:off x="7696080" y="6432480"/>
            <a:ext cx="40032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JDSJ296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"/>
          <p:cNvGrpSpPr/>
          <p:nvPr/>
        </p:nvGrpSpPr>
        <p:grpSpPr>
          <a:xfrm>
            <a:off x="650880" y="1413000"/>
            <a:ext cx="2725200" cy="4103280"/>
            <a:chOff x="650880" y="1413000"/>
            <a:chExt cx="2725200" cy="4103280"/>
          </a:xfrm>
        </p:grpSpPr>
        <p:sp>
          <p:nvSpPr>
            <p:cNvPr id="51" name="Rectangle 4"/>
            <p:cNvSpPr/>
            <p:nvPr/>
          </p:nvSpPr>
          <p:spPr>
            <a:xfrm>
              <a:off x="650880" y="1413000"/>
              <a:ext cx="2725200" cy="41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小鸟在前面带路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风儿吹着我们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我们像春天一样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来到花园里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来到草地上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鲜艳的红领巾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美丽的衣裳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像许多花儿开放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650880" y="1413000"/>
              <a:ext cx="2725200" cy="41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小鸟在前面带路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风儿吹着我们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我们像春天一样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来到花园里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来到草地上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鲜艳的红领巾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美丽的衣裳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像许多花儿开放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Group 6"/>
          <p:cNvGrpSpPr/>
          <p:nvPr/>
        </p:nvGrpSpPr>
        <p:grpSpPr>
          <a:xfrm>
            <a:off x="3508200" y="2781360"/>
            <a:ext cx="3057480" cy="3766680"/>
            <a:chOff x="3508200" y="2781360"/>
            <a:chExt cx="3057480" cy="3766680"/>
          </a:xfrm>
        </p:grpSpPr>
        <p:sp>
          <p:nvSpPr>
            <p:cNvPr id="54" name="Rectangle 7"/>
            <p:cNvSpPr/>
            <p:nvPr/>
          </p:nvSpPr>
          <p:spPr>
            <a:xfrm>
              <a:off x="3514320" y="2781360"/>
              <a:ext cx="3051360" cy="37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3034f"/>
                  </a:solidFill>
                  <a:latin typeface="Times New Roman"/>
                  <a:ea typeface="楷体_GB2312"/>
                </a:rPr>
                <a:t>花儿向我们点头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3034f"/>
                  </a:solidFill>
                  <a:latin typeface="Times New Roman"/>
                  <a:ea typeface="楷体_GB2312"/>
                </a:rPr>
                <a:t>白杨树哗啦啦响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3034f"/>
                  </a:solidFill>
                  <a:latin typeface="Times New Roman"/>
                  <a:ea typeface="楷体_GB2312"/>
                </a:rPr>
                <a:t>他们同美丽的小鸟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3034f"/>
                  </a:solidFill>
                  <a:latin typeface="Times New Roman"/>
                  <a:ea typeface="楷体_GB2312"/>
                </a:rPr>
                <a:t>向我们祝贺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3034f"/>
                  </a:solidFill>
                  <a:latin typeface="Times New Roman"/>
                  <a:ea typeface="楷体_GB2312"/>
                </a:rPr>
                <a:t>向我们歌唱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3034f"/>
                  </a:solidFill>
                  <a:latin typeface="Times New Roman"/>
                  <a:ea typeface="楷体_GB2312"/>
                </a:rPr>
                <a:t>它们都说有了我们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3034f"/>
                  </a:solidFill>
                  <a:latin typeface="Times New Roman"/>
                  <a:ea typeface="楷体_GB2312"/>
                </a:rPr>
                <a:t>可爱的祖国就更有希望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3508200" y="2781360"/>
              <a:ext cx="3051360" cy="37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花儿向我们点头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白杨树哗啦啦响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他们同美丽的小鸟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向我们祝贺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向我们歌唱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它们都说有了我们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可爱的祖国就更有希望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2"/>
          <p:cNvGrpSpPr/>
          <p:nvPr/>
        </p:nvGrpSpPr>
        <p:grpSpPr>
          <a:xfrm>
            <a:off x="2976480" y="620640"/>
            <a:ext cx="5837040" cy="3657600"/>
            <a:chOff x="2976480" y="620640"/>
            <a:chExt cx="5837040" cy="3657600"/>
          </a:xfrm>
        </p:grpSpPr>
        <p:sp>
          <p:nvSpPr>
            <p:cNvPr id="57" name="WordArt 13"/>
            <p:cNvSpPr txBox="1"/>
            <p:nvPr/>
          </p:nvSpPr>
          <p:spPr>
            <a:xfrm>
              <a:off x="2976480" y="620640"/>
              <a:ext cx="7732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快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58" name="WordArt 14"/>
            <p:cNvSpPr txBox="1"/>
            <p:nvPr/>
          </p:nvSpPr>
          <p:spPr>
            <a:xfrm>
              <a:off x="4383000" y="1077840"/>
              <a:ext cx="773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乐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59" name="WordArt 15"/>
            <p:cNvSpPr txBox="1"/>
            <p:nvPr/>
          </p:nvSpPr>
          <p:spPr>
            <a:xfrm>
              <a:off x="5648760" y="2297160"/>
              <a:ext cx="703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的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60" name="WordArt 16"/>
            <p:cNvSpPr txBox="1"/>
            <p:nvPr/>
          </p:nvSpPr>
          <p:spPr>
            <a:xfrm>
              <a:off x="6914880" y="2906640"/>
              <a:ext cx="773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节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61" name="WordArt 17"/>
            <p:cNvSpPr txBox="1"/>
            <p:nvPr/>
          </p:nvSpPr>
          <p:spPr>
            <a:xfrm>
              <a:off x="8180640" y="3516120"/>
              <a:ext cx="632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日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62" name="Picture 20" descr="AquaMonster03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6316560"/>
            <a:ext cx="4921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JDSJ296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738080" y="1484280"/>
            <a:ext cx="21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a0000"/>
                </a:solidFill>
                <a:latin typeface="Times New Roman"/>
              </a:rPr>
              <a:t>感谢亲爱的祖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a0000"/>
                </a:solidFill>
                <a:latin typeface="Times New Roman"/>
              </a:rPr>
              <a:t>让我们健康地成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a0000"/>
                </a:solidFill>
                <a:latin typeface="Times New Roman"/>
              </a:rPr>
              <a:t>我们像小鸟一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a0000"/>
                </a:solidFill>
                <a:latin typeface="Times New Roman"/>
              </a:rPr>
              <a:t>等身上的羽毛长丰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a0000"/>
                </a:solidFill>
                <a:latin typeface="Times New Roman"/>
              </a:rPr>
              <a:t>就勇敢地向着高空飞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a0000"/>
                </a:solidFill>
                <a:latin typeface="Times New Roman"/>
              </a:rPr>
              <a:t>飞向我们的理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4238640" y="4365720"/>
            <a:ext cx="3722400" cy="1872720"/>
            <a:chOff x="4238640" y="4365720"/>
            <a:chExt cx="3722400" cy="1872720"/>
          </a:xfrm>
        </p:grpSpPr>
        <p:sp>
          <p:nvSpPr>
            <p:cNvPr id="69" name="Rectangle 7"/>
            <p:cNvSpPr/>
            <p:nvPr/>
          </p:nvSpPr>
          <p:spPr>
            <a:xfrm>
              <a:off x="4238640" y="4365720"/>
              <a:ext cx="3722400" cy="18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跳啊，跳啊，跳啊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唱啊，唱啊，唱啊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亲爱的叔叔阿姨们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1600"/>
                  </a:solidFill>
                  <a:latin typeface="Times New Roman"/>
                  <a:ea typeface="楷体_GB2312"/>
                </a:rPr>
                <a:t>同我们一起过着快乐的节日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4238640" y="4365720"/>
              <a:ext cx="3722400" cy="18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跳啊，跳啊，跳啊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唱啊，唱啊，唱啊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亲爱的叔叔阿姨们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c6600"/>
                  </a:solidFill>
                  <a:latin typeface="Times New Roman"/>
                  <a:ea typeface="楷体_GB2312"/>
                </a:rPr>
                <a:t>同我们一起过着快乐的节日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0"/>
          <p:cNvGrpSpPr/>
          <p:nvPr/>
        </p:nvGrpSpPr>
        <p:grpSpPr>
          <a:xfrm>
            <a:off x="2976480" y="620640"/>
            <a:ext cx="5837040" cy="3657600"/>
            <a:chOff x="2976480" y="620640"/>
            <a:chExt cx="5837040" cy="3657600"/>
          </a:xfrm>
        </p:grpSpPr>
        <p:sp>
          <p:nvSpPr>
            <p:cNvPr id="72" name="WordArt 11"/>
            <p:cNvSpPr txBox="1"/>
            <p:nvPr/>
          </p:nvSpPr>
          <p:spPr>
            <a:xfrm>
              <a:off x="2976480" y="620640"/>
              <a:ext cx="7732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快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73" name="WordArt 12"/>
            <p:cNvSpPr txBox="1"/>
            <p:nvPr/>
          </p:nvSpPr>
          <p:spPr>
            <a:xfrm>
              <a:off x="4383000" y="1077840"/>
              <a:ext cx="773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乐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74" name="WordArt 13"/>
            <p:cNvSpPr txBox="1"/>
            <p:nvPr/>
          </p:nvSpPr>
          <p:spPr>
            <a:xfrm>
              <a:off x="5648760" y="2297160"/>
              <a:ext cx="703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的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75" name="WordArt 14"/>
            <p:cNvSpPr txBox="1"/>
            <p:nvPr/>
          </p:nvSpPr>
          <p:spPr>
            <a:xfrm>
              <a:off x="6914880" y="2906640"/>
              <a:ext cx="773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节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76" name="WordArt 15"/>
            <p:cNvSpPr txBox="1"/>
            <p:nvPr/>
          </p:nvSpPr>
          <p:spPr>
            <a:xfrm>
              <a:off x="8180640" y="3516120"/>
              <a:ext cx="632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16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华文新魏"/>
                </a:rPr>
                <a:t>日</a:t>
              </a:r>
              <a:endParaRPr b="1" lang="en-US" sz="24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16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JDSJ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844560" y="1447920"/>
            <a:ext cx="3328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0"/>
                </a:solidFill>
                <a:latin typeface="楷体_GB2312"/>
                <a:ea typeface="楷体_GB2312"/>
              </a:rPr>
              <a:t>自学小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844200" y="3047760"/>
            <a:ext cx="7737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60000"/>
                </a:solidFill>
                <a:latin typeface="楷体_GB2312"/>
                <a:ea typeface="楷体_GB2312"/>
              </a:rPr>
              <a:t>画出儿歌中你最喜欢的那一小节，并想一想喜欢它的理由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4" descr="AquaMonster03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631656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5640" y="6310440"/>
            <a:ext cx="5329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节日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jier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DSJ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52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0"/>
                </a:solidFill>
                <a:latin typeface="楷体_GB2312"/>
                <a:ea typeface="楷体_GB2312"/>
              </a:rPr>
              <a:t>合作学习小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00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c60000"/>
                </a:solidFill>
                <a:latin typeface="楷体_GB2312"/>
                <a:ea typeface="楷体_GB2312"/>
              </a:rPr>
              <a:t>组内每个人都要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00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c60000"/>
                </a:solidFill>
                <a:latin typeface="楷体_GB2312"/>
                <a:ea typeface="楷体_GB2312"/>
              </a:rPr>
              <a:t>组内成员互相评一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00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c60000"/>
                </a:solidFill>
                <a:latin typeface="楷体_GB2312"/>
                <a:ea typeface="楷体_GB2312"/>
              </a:rPr>
              <a:t>选择最喜欢的方式进行汇报朗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Butterfly16"/>
          <p:cNvPicPr/>
          <p:nvPr/>
        </p:nvPicPr>
        <p:blipFill>
          <a:blip r:embed="rId2"/>
          <a:stretch/>
        </p:blipFill>
        <p:spPr>
          <a:xfrm>
            <a:off x="7245360" y="6095880"/>
            <a:ext cx="70308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Butterfly06"/>
          <p:cNvPicPr/>
          <p:nvPr/>
        </p:nvPicPr>
        <p:blipFill>
          <a:blip r:embed="rId3"/>
          <a:stretch/>
        </p:blipFill>
        <p:spPr>
          <a:xfrm>
            <a:off x="8510760" y="6172200"/>
            <a:ext cx="633240" cy="685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7356600" y="6400800"/>
            <a:ext cx="84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8582040" y="640080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0" descr="AquaMonster03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631656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1280" y="63817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JDSJ3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38760" y="609120"/>
            <a:ext cx="3938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小鸟在前面带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风儿吹着我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我们像春天一样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来到花园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来到草地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鲜艳的红领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美丽的衣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像许多花儿开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xsgs094"/>
          <p:cNvPicPr/>
          <p:nvPr/>
        </p:nvPicPr>
        <p:blipFill>
          <a:blip r:embed="rId2"/>
          <a:stretch/>
        </p:blipFill>
        <p:spPr>
          <a:xfrm>
            <a:off x="1687680" y="-76320"/>
            <a:ext cx="893520" cy="4648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quaMonster03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6316560"/>
            <a:ext cx="4921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JDSJ24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844560" y="533520"/>
            <a:ext cx="7454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0000"/>
                </a:solidFill>
                <a:latin typeface="Times New Roman"/>
                <a:ea typeface="楷体_GB2312"/>
              </a:rPr>
              <a:t>我们像春天一样，来到花园里，来到草地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844560" y="3657600"/>
            <a:ext cx="7596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60000"/>
                </a:solidFill>
                <a:latin typeface="Times New Roman"/>
                <a:ea typeface="楷体_GB2312"/>
              </a:rPr>
              <a:t>鲜艳的红领巾，美丽的衣裳，像许多花儿开放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5"/>
          <p:cNvGrpSpPr/>
          <p:nvPr/>
        </p:nvGrpSpPr>
        <p:grpSpPr>
          <a:xfrm>
            <a:off x="844560" y="1523880"/>
            <a:ext cx="7478280" cy="1166040"/>
            <a:chOff x="844560" y="1523880"/>
            <a:chExt cx="7478280" cy="1166040"/>
          </a:xfrm>
        </p:grpSpPr>
        <p:sp>
          <p:nvSpPr>
            <p:cNvPr id="103" name="Rectangle 5"/>
            <p:cNvSpPr/>
            <p:nvPr/>
          </p:nvSpPr>
          <p:spPr>
            <a:xfrm>
              <a:off x="844560" y="1523880"/>
              <a:ext cx="74552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像</a:t>
              </a:r>
              <a:r>
                <a:rPr b="1" lang="zh-CN" sz="32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一样，来到</a:t>
              </a:r>
              <a:r>
                <a:rPr b="1" lang="zh-CN" sz="32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32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，来到</a:t>
              </a:r>
              <a:r>
                <a:rPr b="1" lang="zh-CN" sz="32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32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>
              <a:off x="867960" y="1523880"/>
              <a:ext cx="745488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像</a:t>
              </a:r>
              <a:r>
                <a:rPr b="1" lang="zh-CN" sz="32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一样，来到</a:t>
              </a:r>
              <a:r>
                <a:rPr b="1" lang="zh-CN" sz="32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32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，来到</a:t>
              </a:r>
              <a:r>
                <a:rPr b="1" lang="zh-CN" sz="32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32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16"/>
          <p:cNvGrpSpPr/>
          <p:nvPr/>
        </p:nvGrpSpPr>
        <p:grpSpPr>
          <a:xfrm>
            <a:off x="914400" y="2590920"/>
            <a:ext cx="7478280" cy="1702080"/>
            <a:chOff x="914400" y="2590920"/>
            <a:chExt cx="7478280" cy="1702080"/>
          </a:xfrm>
        </p:grpSpPr>
        <p:sp>
          <p:nvSpPr>
            <p:cNvPr id="106" name="Rectangle 6"/>
            <p:cNvSpPr/>
            <p:nvPr/>
          </p:nvSpPr>
          <p:spPr>
            <a:xfrm>
              <a:off x="914400" y="2590920"/>
              <a:ext cx="7455240" cy="17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像</a:t>
              </a:r>
              <a:r>
                <a:rPr b="1" lang="zh-CN" sz="32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     </a:t>
              </a:r>
              <a:r>
                <a:rPr b="1" lang="zh-CN" sz="32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32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        </a:t>
              </a:r>
              <a:r>
                <a:rPr b="1" lang="zh-CN" sz="32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32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        </a:t>
              </a:r>
              <a:r>
                <a:rPr b="1" lang="zh-CN" sz="32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937800" y="2590920"/>
              <a:ext cx="7454880" cy="17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</a:t>
              </a:r>
              <a:r>
                <a:rPr b="1" lang="zh-CN" sz="32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像</a:t>
              </a:r>
              <a:r>
                <a:rPr b="1" lang="zh-CN" sz="32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     </a:t>
              </a:r>
              <a:r>
                <a:rPr b="1" lang="zh-CN" sz="32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32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        </a:t>
              </a:r>
              <a:r>
                <a:rPr b="1" lang="zh-CN" sz="32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32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        </a:t>
              </a:r>
              <a:r>
                <a:rPr b="1" lang="zh-CN" sz="32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7"/>
          <p:cNvGrpSpPr/>
          <p:nvPr/>
        </p:nvGrpSpPr>
        <p:grpSpPr>
          <a:xfrm>
            <a:off x="847800" y="4495680"/>
            <a:ext cx="7619400" cy="1098360"/>
            <a:chOff x="847800" y="4495680"/>
            <a:chExt cx="7619400" cy="1098360"/>
          </a:xfrm>
        </p:grpSpPr>
        <p:sp>
          <p:nvSpPr>
            <p:cNvPr id="109" name="Rectangle 8"/>
            <p:cNvSpPr/>
            <p:nvPr/>
          </p:nvSpPr>
          <p:spPr>
            <a:xfrm>
              <a:off x="847800" y="4495680"/>
              <a:ext cx="75960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鲜艳的</a:t>
              </a:r>
              <a:r>
                <a:rPr b="1" lang="zh-CN" sz="30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30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，美丽的</a:t>
              </a:r>
              <a:r>
                <a:rPr b="1" lang="zh-CN" sz="30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</a:t>
              </a:r>
              <a:r>
                <a:rPr b="1" lang="zh-CN" sz="30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，像</a:t>
              </a:r>
              <a:r>
                <a:rPr b="1" lang="zh-CN" sz="30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            </a:t>
              </a:r>
              <a:r>
                <a:rPr b="1" lang="zh-CN" sz="30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。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871200" y="4495680"/>
              <a:ext cx="75960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鲜艳的</a:t>
              </a:r>
              <a:r>
                <a:rPr b="1" lang="zh-CN" sz="30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30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，美丽的</a:t>
              </a:r>
              <a:r>
                <a:rPr b="1" lang="zh-CN" sz="30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</a:t>
              </a:r>
              <a:r>
                <a:rPr b="1" lang="zh-CN" sz="30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，像</a:t>
              </a:r>
              <a:r>
                <a:rPr b="1" lang="zh-CN" sz="30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            </a:t>
              </a:r>
              <a:r>
                <a:rPr b="1" lang="zh-CN" sz="30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。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844560" y="5410080"/>
            <a:ext cx="7619760" cy="1600560"/>
            <a:chOff x="844560" y="5410080"/>
            <a:chExt cx="7619760" cy="1600560"/>
          </a:xfrm>
        </p:grpSpPr>
        <p:sp>
          <p:nvSpPr>
            <p:cNvPr id="112" name="Rectangle 9"/>
            <p:cNvSpPr/>
            <p:nvPr/>
          </p:nvSpPr>
          <p:spPr>
            <a:xfrm>
              <a:off x="844560" y="5410080"/>
              <a:ext cx="759636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            </a:t>
              </a:r>
              <a:r>
                <a:rPr b="1" lang="zh-CN" sz="30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30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        </a:t>
              </a:r>
              <a:r>
                <a:rPr b="1" lang="zh-CN" sz="30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，像</a:t>
              </a:r>
              <a:r>
                <a:rPr b="1" lang="zh-CN" sz="3000" spc="-1" strike="noStrike" u="sng">
                  <a:solidFill>
                    <a:srgbClr val="ffc58b"/>
                  </a:solidFill>
                  <a:uFillTx/>
                  <a:latin typeface="Times New Roman"/>
                  <a:ea typeface="楷体_GB2312"/>
                </a:rPr>
                <a:t>                        </a:t>
              </a:r>
              <a:r>
                <a:rPr b="1" lang="zh-CN" sz="3000" spc="-1" strike="noStrike">
                  <a:solidFill>
                    <a:srgbClr val="ffc58b"/>
                  </a:solidFill>
                  <a:latin typeface="Times New Roman"/>
                  <a:ea typeface="楷体_GB2312"/>
                </a:rPr>
                <a:t>。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867960" y="5410080"/>
              <a:ext cx="759636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            </a:t>
              </a:r>
              <a:r>
                <a:rPr b="1" lang="zh-CN" sz="30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30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        </a:t>
              </a:r>
              <a:r>
                <a:rPr b="1" lang="zh-CN" sz="30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，像</a:t>
              </a:r>
              <a:r>
                <a:rPr b="1" lang="zh-CN" sz="3000" spc="-1" strike="noStrike" u="sng">
                  <a:solidFill>
                    <a:srgbClr val="ff8b17"/>
                  </a:solidFill>
                  <a:uFillTx/>
                  <a:latin typeface="Times New Roman"/>
                  <a:ea typeface="楷体_GB2312"/>
                </a:rPr>
                <a:t>                        </a:t>
              </a:r>
              <a:r>
                <a:rPr b="1" lang="zh-CN" sz="3000" spc="-1" strike="noStrike">
                  <a:solidFill>
                    <a:srgbClr val="ff8b17"/>
                  </a:solidFill>
                  <a:latin typeface="Times New Roman"/>
                  <a:ea typeface="楷体_GB2312"/>
                </a:rPr>
                <a:t>。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Picture 21" descr="Butterfly01"/>
          <p:cNvPicPr/>
          <p:nvPr/>
        </p:nvPicPr>
        <p:blipFill>
          <a:blip r:embed="rId2"/>
          <a:stretch/>
        </p:blipFill>
        <p:spPr>
          <a:xfrm>
            <a:off x="8440560" y="6172200"/>
            <a:ext cx="70344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2"/>
          <p:cNvSpPr/>
          <p:nvPr/>
        </p:nvSpPr>
        <p:spPr>
          <a:xfrm>
            <a:off x="8582040" y="641664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3" descr="AquaMonster03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6316560"/>
            <a:ext cx="4921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JDSJ4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7"/>
          <p:cNvGrpSpPr/>
          <p:nvPr/>
        </p:nvGrpSpPr>
        <p:grpSpPr>
          <a:xfrm>
            <a:off x="2511360" y="549360"/>
            <a:ext cx="5051160" cy="5715000"/>
            <a:chOff x="2511360" y="549360"/>
            <a:chExt cx="5051160" cy="5715000"/>
          </a:xfrm>
        </p:grpSpPr>
        <p:sp>
          <p:nvSpPr>
            <p:cNvPr id="120" name="Rectangle 4"/>
            <p:cNvSpPr/>
            <p:nvPr/>
          </p:nvSpPr>
          <p:spPr>
            <a:xfrm>
              <a:off x="2511360" y="549360"/>
              <a:ext cx="50353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花儿向我们点头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白杨树哗啦啦响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他们同美丽的小鸟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向我们祝贺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向我们歌唱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他们都说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世界上有我们就更美丽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世界上有我们就更美丽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2527200" y="549360"/>
              <a:ext cx="50353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花儿向我们点头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白杨树哗啦啦响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他们同美丽的小鸟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向我们祝贺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向我们歌唱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它们都说有了我们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07800"/>
                  </a:solidFill>
                  <a:latin typeface="Times New Roman"/>
                  <a:ea typeface="楷体_GB2312"/>
                </a:rPr>
                <a:t>可爱的祖国就更有希望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Picture 10" descr="AquaMonster03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6316560"/>
            <a:ext cx="4921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5" descr="JDSJ330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3"/>
          <p:cNvGrpSpPr/>
          <p:nvPr/>
        </p:nvGrpSpPr>
        <p:grpSpPr>
          <a:xfrm>
            <a:off x="703440" y="457200"/>
            <a:ext cx="8032320" cy="1409400"/>
            <a:chOff x="703440" y="457200"/>
            <a:chExt cx="8032320" cy="1409400"/>
          </a:xfrm>
        </p:grpSpPr>
        <p:sp>
          <p:nvSpPr>
            <p:cNvPr id="126" name="Rectangle 4"/>
            <p:cNvSpPr/>
            <p:nvPr/>
          </p:nvSpPr>
          <p:spPr>
            <a:xfrm>
              <a:off x="703440" y="457200"/>
              <a:ext cx="801792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花儿向我们点头，白杨树哗啦啦响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他们同美丽的小鸟，向我们祝贺，向我们歌唱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他们都说，世界上有我们就更美丽。世界上有我们就更美丽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717840" y="457200"/>
              <a:ext cx="801792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花儿向我们点头，白杨树哗啦啦响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他们同美丽的小鸟，向我们祝贺，向我们歌唱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他们都说，世界上有我们就更美丽。世界上有我们就更美丽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582480" y="3068640"/>
            <a:ext cx="7837200" cy="4966920"/>
            <a:chOff x="582480" y="3068640"/>
            <a:chExt cx="7837200" cy="4966920"/>
          </a:xfrm>
        </p:grpSpPr>
        <p:sp>
          <p:nvSpPr>
            <p:cNvPr id="129" name="Rectangle 11"/>
            <p:cNvSpPr/>
            <p:nvPr/>
          </p:nvSpPr>
          <p:spPr>
            <a:xfrm>
              <a:off x="582480" y="3068640"/>
              <a:ext cx="7808040" cy="49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en-US" sz="3200" spc="-1" strike="noStrike" u="sng">
                  <a:solidFill>
                    <a:srgbClr val="da6d00"/>
                  </a:solidFill>
                  <a:uFillTx/>
                  <a:latin typeface="Times New Roman"/>
                  <a:ea typeface="楷体_GB2312"/>
                </a:rPr>
                <a:t>           </a:t>
              </a: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向我们点头，白杨树哗啦啦响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他们同美丽的</a:t>
              </a:r>
              <a:r>
                <a:rPr b="1" lang="zh-CN" sz="3200" spc="-1" strike="noStrike" u="sng">
                  <a:solidFill>
                    <a:srgbClr val="da6d00"/>
                  </a:solidFill>
                  <a:uFillTx/>
                  <a:latin typeface="Times New Roman"/>
                  <a:ea typeface="楷体_GB2312"/>
                </a:rPr>
                <a:t>              </a:t>
              </a: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，向我们</a:t>
              </a:r>
              <a:r>
                <a:rPr b="1" lang="zh-CN" sz="3200" spc="-1" strike="noStrike" u="sng">
                  <a:solidFill>
                    <a:srgbClr val="da6d00"/>
                  </a:solidFill>
                  <a:uFillTx/>
                  <a:latin typeface="Times New Roman"/>
                  <a:ea typeface="楷体_GB2312"/>
                </a:rPr>
                <a:t>          </a:t>
              </a: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，向我们</a:t>
              </a:r>
              <a:r>
                <a:rPr b="1" lang="zh-CN" sz="3200" spc="-1" strike="noStrike" u="sng">
                  <a:solidFill>
                    <a:srgbClr val="da6d00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他们都说，</a:t>
              </a:r>
              <a:r>
                <a:rPr b="1" lang="zh-CN" sz="3200" spc="-1" strike="noStrike" u="sng">
                  <a:solidFill>
                    <a:srgbClr val="da6d00"/>
                  </a:solidFill>
                  <a:uFillTx/>
                  <a:latin typeface="Times New Roman"/>
                  <a:ea typeface="楷体_GB2312"/>
                </a:rPr>
                <a:t>                                                   </a:t>
              </a: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。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da6d00"/>
                  </a:solidFill>
                  <a:uFillTx/>
                  <a:latin typeface="Times New Roman"/>
                  <a:ea typeface="楷体_GB2312"/>
                </a:rPr>
                <a:t>                                                 </a:t>
              </a:r>
              <a:r>
                <a:rPr b="1" lang="zh-CN" sz="3200" spc="-1" strike="noStrike">
                  <a:solidFill>
                    <a:srgbClr val="da6d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611640" y="3068640"/>
              <a:ext cx="7808040" cy="49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en-US" sz="3200" spc="-1" strike="noStrike" u="sng">
                  <a:solidFill>
                    <a:srgbClr val="ffcc00"/>
                  </a:solidFill>
                  <a:uFillTx/>
                  <a:latin typeface="Times New Roman"/>
                  <a:ea typeface="楷体_GB2312"/>
                </a:rPr>
                <a:t>        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向我们点头，白杨树哗啦啦响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他们同美丽的</a:t>
              </a:r>
              <a:r>
                <a:rPr b="1" lang="zh-CN" sz="3200" spc="-1" strike="noStrike" u="sng">
                  <a:solidFill>
                    <a:srgbClr val="6600ff"/>
                  </a:solidFill>
                  <a:uFillTx/>
                  <a:latin typeface="Times New Roman"/>
                  <a:ea typeface="楷体_GB2312"/>
                </a:rPr>
                <a:t>           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，向我们</a:t>
              </a:r>
              <a:r>
                <a:rPr b="1" lang="zh-CN" sz="3200" spc="-1" strike="noStrike" u="sng">
                  <a:solidFill>
                    <a:srgbClr val="6600ff"/>
                  </a:solidFill>
                  <a:uFillTx/>
                  <a:latin typeface="Times New Roman"/>
                  <a:ea typeface="楷体_GB2312"/>
                </a:rPr>
                <a:t>       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，向我们</a:t>
              </a:r>
              <a:r>
                <a:rPr b="1" lang="zh-CN" sz="3200" spc="-1" strike="noStrike" u="sng">
                  <a:solidFill>
                    <a:srgbClr val="6600ff"/>
                  </a:solidFill>
                  <a:uFillTx/>
                  <a:latin typeface="Times New Roman"/>
                  <a:ea typeface="楷体_GB2312"/>
                </a:rPr>
                <a:t>         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他们都说，</a:t>
              </a:r>
              <a:r>
                <a:rPr b="1" lang="zh-CN" sz="3200" spc="-1" strike="noStrike" u="sng">
                  <a:solidFill>
                    <a:srgbClr val="6600ff"/>
                  </a:solidFill>
                  <a:uFillTx/>
                  <a:latin typeface="Times New Roman"/>
                  <a:ea typeface="楷体_GB2312"/>
                </a:rPr>
                <a:t>                                                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。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6600ff"/>
                  </a:solidFill>
                  <a:uFillTx/>
                  <a:latin typeface="Times New Roman"/>
                  <a:ea typeface="楷体_GB2312"/>
                </a:rPr>
                <a:t>                                                 </a:t>
              </a:r>
              <a:r>
                <a:rPr b="1" lang="zh-CN" sz="3200" spc="-1" strike="noStrike">
                  <a:solidFill>
                    <a:srgbClr val="6600ff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Picture 17" descr="Butterfly16"/>
          <p:cNvPicPr/>
          <p:nvPr/>
        </p:nvPicPr>
        <p:blipFill>
          <a:blip r:embed="rId2"/>
          <a:stretch/>
        </p:blipFill>
        <p:spPr>
          <a:xfrm>
            <a:off x="7315200" y="6248520"/>
            <a:ext cx="703440" cy="761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9"/>
          <p:cNvSpPr/>
          <p:nvPr/>
        </p:nvSpPr>
        <p:spPr>
          <a:xfrm>
            <a:off x="7426440" y="6537240"/>
            <a:ext cx="84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1" descr="Butterfly01"/>
          <p:cNvPicPr/>
          <p:nvPr/>
        </p:nvPicPr>
        <p:blipFill>
          <a:blip r:embed="rId3"/>
          <a:stretch/>
        </p:blipFill>
        <p:spPr>
          <a:xfrm>
            <a:off x="8440560" y="6248520"/>
            <a:ext cx="703440" cy="76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2"/>
          <p:cNvSpPr/>
          <p:nvPr/>
        </p:nvSpPr>
        <p:spPr>
          <a:xfrm>
            <a:off x="8582040" y="647712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3" descr="AquaMonster03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631656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05440" y="6165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37:37Z</dcterms:created>
  <dc:creator/>
  <dc:description/>
  <cp:keywords>幻灯片之家 http:/www.eeppt.com</cp:keywords>
  <dc:language>en-US</dc:language>
  <cp:lastModifiedBy/>
  <dcterms:modified xsi:type="dcterms:W3CDTF">2015-07-12T09:37:18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