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D35-C414-43AC-8A61-CAE2D1E5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635-D47F-4AA3-91FD-C2AEDCC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9E5-4AE5-4DAB-A605-DB9F74D5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055-5FA2-4042-BCAF-CAA38400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69D-8D07-4C26-AC55-DA3EF11B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766-2AE0-422D-AB2F-C73A6B4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EE2-FB70-4F95-9666-AE178252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A0B-9997-48C4-8CBF-BDEB716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F00-8D7A-434B-A5D2-035A6ABD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63B-350A-46FF-823D-39A1901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5B4-534C-48DB-8581-CB11A06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0F9-770C-4BB6-AE1E-49DCC1B7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0058-C5AA-47AD-B4FF-04A43C6E38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医疗123\未标题-8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605"/>
          <p:cNvGrpSpPr/>
          <p:nvPr/>
        </p:nvGrpSpPr>
        <p:grpSpPr>
          <a:xfrm>
            <a:off x="3204720" y="2478240"/>
            <a:ext cx="2732040" cy="1199520"/>
            <a:chOff x="3204720" y="2478240"/>
            <a:chExt cx="2732040" cy="1199520"/>
          </a:xfrm>
        </p:grpSpPr>
        <p:grpSp>
          <p:nvGrpSpPr>
            <p:cNvPr id="43" name=""/>
            <p:cNvGrpSpPr/>
            <p:nvPr/>
          </p:nvGrpSpPr>
          <p:grpSpPr>
            <a:xfrm>
              <a:off x="3204720" y="2746440"/>
              <a:ext cx="391680" cy="1080"/>
              <a:chOff x="3204720" y="2746440"/>
              <a:chExt cx="391680" cy="1080"/>
            </a:xfrm>
          </p:grpSpPr>
          <p:sp>
            <p:nvSpPr>
              <p:cNvPr id="44" name="Line 33"/>
              <p:cNvSpPr/>
              <p:nvPr/>
            </p:nvSpPr>
            <p:spPr>
              <a:xfrm flipH="1">
                <a:off x="3204720" y="2746440"/>
                <a:ext cx="391320" cy="1080"/>
              </a:xfrm>
              <a:prstGeom prst="line">
                <a:avLst/>
              </a:prstGeom>
              <a:ln w="50760">
                <a:solidFill>
                  <a:srgbClr val="808080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 txBox="1"/>
              <p:nvPr/>
            </p:nvSpPr>
            <p:spPr>
              <a:xfrm>
                <a:off x="3205080" y="2746440"/>
                <a:ext cx="391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Arc 32"/>
            <p:cNvSpPr/>
            <p:nvPr/>
          </p:nvSpPr>
          <p:spPr>
            <a:xfrm rot="5400000">
              <a:off x="4056480" y="1997640"/>
              <a:ext cx="1030680" cy="1991520"/>
            </a:xfrm>
            <a:prstGeom prst="pie">
              <a:avLst/>
            </a:prstGeom>
            <a:noFill/>
            <a:ln w="50760">
              <a:solidFill>
                <a:srgbClr val="808080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597200" y="3515400"/>
              <a:ext cx="1080" cy="162360"/>
              <a:chOff x="4597200" y="3515400"/>
              <a:chExt cx="1080" cy="162360"/>
            </a:xfrm>
          </p:grpSpPr>
          <p:sp>
            <p:nvSpPr>
              <p:cNvPr id="48" name="Line 33"/>
              <p:cNvSpPr/>
              <p:nvPr/>
            </p:nvSpPr>
            <p:spPr>
              <a:xfrm>
                <a:off x="4597200" y="3515400"/>
                <a:ext cx="1080" cy="162360"/>
              </a:xfrm>
              <a:prstGeom prst="line">
                <a:avLst/>
              </a:prstGeom>
              <a:ln w="50760">
                <a:solidFill>
                  <a:srgbClr val="808080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 txBox="1"/>
              <p:nvPr/>
            </p:nvSpPr>
            <p:spPr>
              <a:xfrm>
                <a:off x="4597200" y="3515400"/>
                <a:ext cx="1080" cy="16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545080" y="2746440"/>
              <a:ext cx="391680" cy="1080"/>
              <a:chOff x="5545080" y="2746440"/>
              <a:chExt cx="391680" cy="1080"/>
            </a:xfrm>
          </p:grpSpPr>
          <p:sp>
            <p:nvSpPr>
              <p:cNvPr id="51" name="Line 33"/>
              <p:cNvSpPr/>
              <p:nvPr/>
            </p:nvSpPr>
            <p:spPr>
              <a:xfrm flipH="1">
                <a:off x="5545080" y="2746440"/>
                <a:ext cx="391320" cy="1080"/>
              </a:xfrm>
              <a:prstGeom prst="line">
                <a:avLst/>
              </a:prstGeom>
              <a:ln w="50760">
                <a:solidFill>
                  <a:srgbClr val="808080">
                    <a:alpha val="78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5545440" y="2746440"/>
                <a:ext cx="391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AutoShape 17"/>
          <p:cNvSpPr/>
          <p:nvPr/>
        </p:nvSpPr>
        <p:spPr>
          <a:xfrm>
            <a:off x="1249200" y="2549520"/>
            <a:ext cx="1998720" cy="2413080"/>
          </a:xfrm>
          <a:custGeom>
            <a:avLst/>
            <a:gdLst>
              <a:gd name="textAreaLeft" fmla="*/ 22320 w 1998720"/>
              <a:gd name="textAreaRight" fmla="*/ 1976400 w 1998720"/>
              <a:gd name="textAreaTop" fmla="*/ 22320 h 2413080"/>
              <a:gd name="textAreaBottom" fmla="*/ 2390760 h 2413080"/>
            </a:gdLst>
            <a:ahLst/>
            <a:rect l="textAreaLeft" t="textAreaTop" r="textAreaRight" b="textAreaBottom"/>
            <a:pathLst>
              <a:path w="21600" h="26077">
                <a:moveTo>
                  <a:pt x="830" y="0"/>
                </a:moveTo>
                <a:arcTo wR="830" hR="830" stAng="16200000" swAng="-5400000"/>
                <a:lnTo>
                  <a:pt x="0" y="25247"/>
                </a:lnTo>
                <a:arcTo wR="830" hR="830" stAng="10800000" swAng="-5400000"/>
                <a:lnTo>
                  <a:pt x="20770" y="2607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1271520" y="3114720"/>
            <a:ext cx="1955880" cy="1820880"/>
          </a:xfrm>
          <a:prstGeom prst="roundRect">
            <a:avLst>
              <a:gd name="adj" fmla="val 2069"/>
            </a:avLst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4"/>
          <p:cNvSpPr/>
          <p:nvPr/>
        </p:nvSpPr>
        <p:spPr>
          <a:xfrm>
            <a:off x="5850000" y="2535120"/>
            <a:ext cx="1998720" cy="2413080"/>
          </a:xfrm>
          <a:custGeom>
            <a:avLst/>
            <a:gdLst>
              <a:gd name="textAreaLeft" fmla="*/ 22320 w 1998720"/>
              <a:gd name="textAreaRight" fmla="*/ 1976400 w 1998720"/>
              <a:gd name="textAreaTop" fmla="*/ 22320 h 2413080"/>
              <a:gd name="textAreaBottom" fmla="*/ 2390760 h 2413080"/>
            </a:gdLst>
            <a:ahLst/>
            <a:rect l="textAreaLeft" t="textAreaTop" r="textAreaRight" b="textAreaBottom"/>
            <a:pathLst>
              <a:path w="21600" h="26077">
                <a:moveTo>
                  <a:pt x="830" y="0"/>
                </a:moveTo>
                <a:arcTo wR="830" hR="830" stAng="16200000" swAng="-5400000"/>
                <a:lnTo>
                  <a:pt x="0" y="25247"/>
                </a:lnTo>
                <a:arcTo wR="830" hR="830" stAng="10800000" swAng="-5400000"/>
                <a:lnTo>
                  <a:pt x="20770" y="2607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5872320" y="3100320"/>
            <a:ext cx="1955520" cy="1820880"/>
          </a:xfrm>
          <a:prstGeom prst="roundRect">
            <a:avLst>
              <a:gd name="adj" fmla="val 2069"/>
            </a:avLst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8"/>
          <p:cNvSpPr/>
          <p:nvPr/>
        </p:nvSpPr>
        <p:spPr>
          <a:xfrm>
            <a:off x="3578400" y="3657600"/>
            <a:ext cx="1998360" cy="2411280"/>
          </a:xfrm>
          <a:custGeom>
            <a:avLst/>
            <a:gdLst>
              <a:gd name="textAreaLeft" fmla="*/ 22320 w 1998360"/>
              <a:gd name="textAreaRight" fmla="*/ 1976040 w 1998360"/>
              <a:gd name="textAreaTop" fmla="*/ 22320 h 2411280"/>
              <a:gd name="textAreaBottom" fmla="*/ 2388960 h 2411280"/>
            </a:gdLst>
            <a:ahLst/>
            <a:rect l="textAreaLeft" t="textAreaTop" r="textAreaRight" b="textAreaBottom"/>
            <a:pathLst>
              <a:path w="21600" h="26062">
                <a:moveTo>
                  <a:pt x="830" y="0"/>
                </a:moveTo>
                <a:arcTo wR="830" hR="830" stAng="16200000" swAng="-5400000"/>
                <a:lnTo>
                  <a:pt x="0" y="25232"/>
                </a:lnTo>
                <a:arcTo wR="830" hR="830" stAng="10800000" swAng="-5400000"/>
                <a:lnTo>
                  <a:pt x="20770" y="26062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9"/>
          <p:cNvSpPr/>
          <p:nvPr/>
        </p:nvSpPr>
        <p:spPr>
          <a:xfrm>
            <a:off x="3600360" y="4208400"/>
            <a:ext cx="1955880" cy="1822680"/>
          </a:xfrm>
          <a:prstGeom prst="roundRect">
            <a:avLst>
              <a:gd name="adj" fmla="val 2069"/>
            </a:avLst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1276200" y="2548080"/>
            <a:ext cx="1944720" cy="4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6"/>
          <p:cNvSpPr/>
          <p:nvPr/>
        </p:nvSpPr>
        <p:spPr>
          <a:xfrm>
            <a:off x="5877000" y="2548080"/>
            <a:ext cx="1944720" cy="4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642"/>
          <p:cNvSpPr/>
          <p:nvPr/>
        </p:nvSpPr>
        <p:spPr>
          <a:xfrm>
            <a:off x="1884960" y="263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643"/>
          <p:cNvSpPr/>
          <p:nvPr/>
        </p:nvSpPr>
        <p:spPr>
          <a:xfrm>
            <a:off x="6485400" y="2633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6"/>
          <p:cNvSpPr/>
          <p:nvPr/>
        </p:nvSpPr>
        <p:spPr>
          <a:xfrm>
            <a:off x="3605040" y="3670200"/>
            <a:ext cx="194472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645"/>
          <p:cNvSpPr/>
          <p:nvPr/>
        </p:nvSpPr>
        <p:spPr>
          <a:xfrm>
            <a:off x="4213800" y="374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400040" y="33130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400040" y="38178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400040" y="43210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728880" y="446724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728880" y="497196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728880" y="547524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6000840" y="334332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6000840" y="384660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000840" y="435132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87"/>
          <p:cNvGrpSpPr/>
          <p:nvPr/>
        </p:nvGrpSpPr>
        <p:grpSpPr>
          <a:xfrm>
            <a:off x="3830760" y="1565280"/>
            <a:ext cx="1511280" cy="1490760"/>
            <a:chOff x="3830760" y="1565280"/>
            <a:chExt cx="1511280" cy="1490760"/>
          </a:xfrm>
        </p:grpSpPr>
        <p:sp>
          <p:nvSpPr>
            <p:cNvPr id="75" name="Oval 5"/>
            <p:cNvSpPr/>
            <p:nvPr/>
          </p:nvSpPr>
          <p:spPr>
            <a:xfrm>
              <a:off x="3871800" y="1630080"/>
              <a:ext cx="1440000" cy="142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>
                  <a:alpha val="78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6" descr="cir_lighteffect0"/>
            <p:cNvPicPr/>
            <p:nvPr/>
          </p:nvPicPr>
          <p:blipFill>
            <a:blip r:embed="rId2"/>
            <a:stretch/>
          </p:blipFill>
          <p:spPr>
            <a:xfrm>
              <a:off x="3830760" y="1565280"/>
              <a:ext cx="1511280" cy="12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4646"/>
          <p:cNvSpPr/>
          <p:nvPr/>
        </p:nvSpPr>
        <p:spPr>
          <a:xfrm>
            <a:off x="3878280" y="2098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3762360" y="1523880"/>
            <a:ext cx="1649520" cy="1648080"/>
          </a:xfrm>
          <a:prstGeom prst="ellipse">
            <a:avLst/>
          </a:prstGeom>
          <a:noFill/>
          <a:ln w="127080">
            <a:solidFill>
              <a:srgbClr val="808080">
                <a:alpha val="78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869080" y="2232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扩散关系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09T11:31:06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1</vt:lpwstr>
  </property>
  <property fmtid="{D5CDD505-2E9C-101B-9397-08002B2CF9AE}" pid="4" name="Version">
    <vt:r8>1</vt:r8>
  </property>
</Properties>
</file>