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EE5-4538-4C70-BE14-ADA857FF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183-99BD-4A8C-BFC3-C615D59F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627-85D5-4F9D-8191-155EEA3E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074-4EA5-47E1-BB8B-F63C4AA2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A90-9B52-427A-BEF3-D619F100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F29-74A8-4962-886C-766F43A3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4F1-164F-4AFA-8DC4-B37605FB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1A2-AAF4-4633-B1BB-7587BFE9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57F-52BE-44FA-BF0E-B5BE4ECB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0C1-2EA4-4494-9DBD-2F26222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BC4-0789-428F-828D-B5474724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0CA-EE21-4572-B465-C2C42E5B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9556-FDF8-4F26-8F6B-9AAA815174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ork\第二\蓝色窗口\未标题-1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6"/>
          <p:cNvSpPr/>
          <p:nvPr/>
        </p:nvSpPr>
        <p:spPr>
          <a:xfrm>
            <a:off x="6021360" y="152280"/>
            <a:ext cx="28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雷达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表 41" descr=""/>
          <p:cNvPicPr/>
          <p:nvPr/>
        </p:nvPicPr>
        <p:blipFill>
          <a:blip r:embed="rId2"/>
          <a:stretch/>
        </p:blipFill>
        <p:spPr>
          <a:xfrm>
            <a:off x="800280" y="9907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BE1-E61F-4ED1-AC1D-27F014E562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>幻灯片之家 http:/www.eeppt.com</cp:keywords>
  <dc:language>en-US</dc:language>
  <cp:lastModifiedBy/>
  <cp:lastPrinted>2113-01-01T00:00:00Z</cp:lastPrinted>
  <dcterms:modified xsi:type="dcterms:W3CDTF">2015-07-12T09:31:33Z</dcterms:modified>
  <cp:revision>1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图表制作4</vt:lpwstr>
  </property>
  <property fmtid="{D5CDD505-2E9C-101B-9397-08002B2CF9AE}" pid="4" name="Version">
    <vt:r8>1</vt:r8>
  </property>
</Properties>
</file>