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8AA5-CADE-4231-8EE4-CDF0CA9C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ADF-6AD7-4C7B-A684-262BC951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CE11-CA2F-40B2-AC0B-1AA3CD12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E2AF-6E53-4098-8824-15D0F6E9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7E4C-EB7D-498A-BDCF-2754C803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774F-7BFB-47CB-974E-F2BC9EF6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52E4-2D0A-419D-BD65-4582E09A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3C58-AC19-4106-AEAF-239F91D2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4BA9-D484-4F0F-ACD4-3E2E59DC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411B-9917-41D0-9C01-B2BE9F6C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D98F-F5ED-495A-A258-676BE01D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3EC7-14BD-47D2-AA81-B42F16E0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96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A12D-44C4-4C21-A67F-11DDC2C1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07E4-60D1-41CA-A16F-7A8CBA4D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D0DF-F670-4FD1-817A-5DA42DAD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96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12F2-9C12-4316-AF1A-649ADEB6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36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352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36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352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C39E-D3CB-49C0-B3B9-00DA0B8B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200C-84F6-41F2-875E-90F5A729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7F0-5167-480E-99F9-4B5B2377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004-2C5D-4893-B04E-9A60E4ED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5807-CBCD-4CA1-BB92-2368F9A5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C26A-B010-45CB-A953-EA8BF5E5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9508-3B59-4850-B1D1-C3DD2B19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1EF6-A7A5-4EB2-A2B7-A0BCA618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3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87200" indent="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56232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74952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74952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74952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7570-3ABA-4BC6-BC35-5E92E00C371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页脚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#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8499-E3B1-4264-A701-386284A9DBD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页脚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#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1"/>
          <p:cNvSpPr/>
          <p:nvPr/>
        </p:nvSpPr>
        <p:spPr>
          <a:xfrm>
            <a:off x="2340000" y="2811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6165720"/>
            <a:ext cx="7407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方正粗宋_GBK"/>
                <a:ea typeface="方正粗宋_GBK"/>
              </a:rPr>
              <a:t>Quotes from Lei Feng in Chinese and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-34920" y="0"/>
            <a:ext cx="9042480" cy="5133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8000" y="645336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60360" y="4581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直接连接符 4"/>
          <p:cNvSpPr/>
          <p:nvPr/>
        </p:nvSpPr>
        <p:spPr>
          <a:xfrm>
            <a:off x="600120" y="5384880"/>
            <a:ext cx="800568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组合 1"/>
          <p:cNvGrpSpPr/>
          <p:nvPr/>
        </p:nvGrpSpPr>
        <p:grpSpPr>
          <a:xfrm>
            <a:off x="844560" y="216000"/>
            <a:ext cx="4462560" cy="5816520"/>
            <a:chOff x="844560" y="216000"/>
            <a:chExt cx="4462560" cy="581652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978480" y="518760"/>
              <a:ext cx="4137840" cy="463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1928880" y="2989440"/>
              <a:ext cx="5816520" cy="2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2264040" y="2989440"/>
              <a:ext cx="5816520" cy="26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5653080" y="10126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当祖国和人民处在最危急的关头，我就挺身而出，不怕牺牲。生为人民生，死为人民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600120" y="5381640"/>
            <a:ext cx="822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When my motherland and her people are at the critical moment, I won’t hesitate to step forward and sacrifice my life. I was born and will die for the people fearless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09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269720"/>
            <a:ext cx="89298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8200" y="33336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A9E9-25AF-490D-8657-E5220D888D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组合 1"/>
          <p:cNvGrpSpPr/>
          <p:nvPr/>
        </p:nvGrpSpPr>
        <p:grpSpPr>
          <a:xfrm>
            <a:off x="900000" y="189000"/>
            <a:ext cx="4468680" cy="6335640"/>
            <a:chOff x="900000" y="189000"/>
            <a:chExt cx="4468680" cy="63356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900000" y="621000"/>
              <a:ext cx="4406400" cy="46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2049120" y="3285360"/>
              <a:ext cx="619164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2237040" y="3033360"/>
              <a:ext cx="5976000" cy="28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直接连接符 6"/>
          <p:cNvSpPr/>
          <p:nvPr/>
        </p:nvSpPr>
        <p:spPr>
          <a:xfrm>
            <a:off x="722160" y="5384880"/>
            <a:ext cx="788364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5365800" y="7732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人的生命是有限的，可是，为人民服务是无限的，我要把有限的生命，投入到无限的“为人民服务”之中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600120" y="5381640"/>
            <a:ext cx="822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There is a limit to one's life, but no limit to serving the people. I would devote my short life to the lifelong career of serving th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组合 1"/>
          <p:cNvGrpSpPr/>
          <p:nvPr/>
        </p:nvGrpSpPr>
        <p:grpSpPr>
          <a:xfrm>
            <a:off x="828720" y="333360"/>
            <a:ext cx="4336920" cy="6191280"/>
            <a:chOff x="828720" y="333360"/>
            <a:chExt cx="4336920" cy="619128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828720" y="621360"/>
              <a:ext cx="4266360" cy="48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2104200" y="3285720"/>
              <a:ext cx="6191280" cy="2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1926360" y="3285720"/>
              <a:ext cx="619128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直接连接符 6"/>
          <p:cNvSpPr/>
          <p:nvPr/>
        </p:nvSpPr>
        <p:spPr>
          <a:xfrm>
            <a:off x="722160" y="5384880"/>
            <a:ext cx="788364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365800" y="132876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在工作上，要向积极性最高的同志看齐；在生活上，要向水平最低的同志看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600120" y="5381640"/>
            <a:ext cx="8221680" cy="13737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We should model ourselves after comrades with the most ambition in work while keep up with those who has the lowest living standar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组合 1"/>
          <p:cNvGrpSpPr/>
          <p:nvPr/>
        </p:nvGrpSpPr>
        <p:grpSpPr>
          <a:xfrm>
            <a:off x="826920" y="365040"/>
            <a:ext cx="4554720" cy="6145200"/>
            <a:chOff x="826920" y="365040"/>
            <a:chExt cx="4554720" cy="614520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826920" y="556560"/>
              <a:ext cx="4503600" cy="512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2004480" y="3403440"/>
              <a:ext cx="5938200" cy="2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2274840" y="3196440"/>
              <a:ext cx="5938200" cy="27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直接连接符 6"/>
          <p:cNvSpPr/>
          <p:nvPr/>
        </p:nvSpPr>
        <p:spPr>
          <a:xfrm>
            <a:off x="722160" y="5384880"/>
            <a:ext cx="788364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365800" y="1411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钉子有两个长处：一个是挤劲，一个是钻劲，我们在学习上也要提倡钉子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600120" y="5381640"/>
            <a:ext cx="8221680" cy="13737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The nail has two advantages: one is squeezing and the other is drilling , which should be advocated in our stu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组合 1"/>
          <p:cNvGrpSpPr/>
          <p:nvPr/>
        </p:nvGrpSpPr>
        <p:grpSpPr>
          <a:xfrm>
            <a:off x="873000" y="333360"/>
            <a:ext cx="4464000" cy="6191280"/>
            <a:chOff x="873000" y="333360"/>
            <a:chExt cx="4464000" cy="619128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873000" y="520200"/>
              <a:ext cx="4377960" cy="48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2078280" y="3285720"/>
              <a:ext cx="6191280" cy="2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2097720" y="3285720"/>
              <a:ext cx="619128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直接连接符 6"/>
          <p:cNvSpPr/>
          <p:nvPr/>
        </p:nvSpPr>
        <p:spPr>
          <a:xfrm>
            <a:off x="722160" y="5384880"/>
            <a:ext cx="788364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5365800" y="216072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自己活着，就是为了使别人过得更美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600120" y="5381640"/>
            <a:ext cx="82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We live to better others l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7080" y="631044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5:45:00Z</dcterms:created>
  <dc:creator/>
  <dc:description/>
  <cp:keywords>幻灯片之家 http:/www.eeppt.com</cp:keywords>
  <dc:language>en-US</dc:language>
  <cp:lastModifiedBy/>
  <dcterms:modified xsi:type="dcterms:W3CDTF">2015-07-12T09:40:31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