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C9B-AD00-459D-8582-045675BF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5E5-A22C-4D5F-ADFC-7176ACC1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F71-FE29-4E9C-BC28-E83A2DD4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DA8-7570-4A8A-9F09-B9516C84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E40-A15E-439F-9129-6C1FBCE6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23B-9CBB-469B-8A8C-D3A1E53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363-6E5B-44E8-9F49-4437036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309-8F3B-4F1B-9580-641D208B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3D9-E92C-4EB8-B0A4-06D898FC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8B7-0486-4960-8912-5023F5D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704-A2C2-4C89-B785-3ADAFE1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10D-148F-46C8-87CA-4BDD868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DE6-679D-4759-B46E-B3C0D1C7A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766764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67760" y="260280"/>
            <a:ext cx="1826280" cy="609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人要做有用的人，不要做只讲体面，而对别人没有好处的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31840" y="3124080"/>
            <a:ext cx="546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许地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38172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3240" y="220500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落花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5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28600" y="1176480"/>
            <a:ext cx="8915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作业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①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抄写句子。（课后练习</a:t>
            </a:r>
            <a:r>
              <a:rPr b="1" lang="en-US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②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背诵自己喜欢的自然段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33520" y="228600"/>
            <a:ext cx="838188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分角色读</a:t>
            </a: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</a:t>
            </a: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自然段，思考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有哪些人谈花生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怎么谈的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谁谈的重要？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04920" y="9828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的话：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3333cc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花生的好处很多，有一样最可贵∶它的果实埋在地里，不像桃子、石榴、苹果那样，把 鲜红嫩绿的果实高高地挂在枝头上，使人一见就生爱慕之心。你们看它矮矮地长在地上，等到成熟了， 也不能立刻分辨出来它有没有果实，必须挖起来才知道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所以你们要像花生，它虽然不好看，可是很有用，不是外表好看而没有实用的东 西。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57200" y="2959200"/>
            <a:ext cx="883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的话有几方面意思？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方面是重点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8600" y="228600"/>
            <a:ext cx="8610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花生的好处很多，哪一样最可贵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花生和桃子、石榴、苹果比，有什么不一样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0930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4572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要做</a:t>
            </a:r>
            <a:r>
              <a:rPr b="1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用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的人，不要做只讲体面，而对别人没有好处的人。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28600" y="3352680"/>
            <a:ext cx="8610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叫有用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谁有用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56386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举例谈一谈对这句话的理解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733920" y="3429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对别人有好处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276720" y="4343400"/>
            <a:ext cx="556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别人、社会、国家）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8600" y="380880"/>
            <a:ext cx="86104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具有花生品格的人：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工人，农民，教师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各种工作岗位上的普通劳动者，他们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图虚名，默默奉献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4920" y="152280"/>
            <a:ext cx="853416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总结全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华文新魏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课文以谈花生的可贵之处，来说明做人的道理，是什么道理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2  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了突出中心，作者在写作方法上，有什么特点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2120" y="51814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借物喻人，主次分明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2666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不图虚名，默默奉献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0930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F84-ACAC-4355-BA8A-0EDF3810E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1176480"/>
            <a:ext cx="8915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作业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①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抄写句子。（课后练习</a:t>
            </a:r>
            <a:r>
              <a:rPr b="1" lang="en-US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②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背诵自己喜欢的自然段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8720" y="458136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7:31:40Z</dcterms:created>
  <dc:creator/>
  <dc:description/>
  <cp:keywords>幻灯片之家 http:/www.eeppt.com</cp:keywords>
  <dc:language>en-US</dc:language>
  <cp:lastModifiedBy/>
  <dcterms:modified xsi:type="dcterms:W3CDTF">2015-07-12T09:32:3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