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4E90-9041-4AF1-B820-DD755F7B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569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560" y="3738240"/>
            <a:ext cx="8569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58F3-E884-4EF2-975F-38691D88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1480" y="373824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4F18-E7E6-4C6F-86C0-73556CA5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7840" y="69192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5480" y="69192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560" y="373824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7840" y="373824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5480" y="373824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976-2019-422B-AB85-5B676B1C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1F0A-057B-4CEA-8C59-4D12509E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560" y="69192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1662-F7D3-45A0-9184-65B87E55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301D-42A7-4AB4-958F-C065CDFD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8C7D-65C1-408E-9849-58586084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595D-2B02-44FD-A11C-9120E29A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4000" y="-360"/>
            <a:ext cx="403236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91C1-040A-46A6-8028-91017467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DC1B-5F8C-4DC6-9B7C-65C84B01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560" y="69192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1B91-BDC1-4499-ABDC-07B2B409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1480" y="373824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652E-09B2-4AB2-81AF-9F3CB204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8569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3247-A48C-45AA-93E5-A0353C57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569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0560" y="3738240"/>
            <a:ext cx="8569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0C20-9E8F-4176-B84F-603071EE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1480" y="373824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C057-13FF-40A0-A55C-F34D0ACA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840" y="69192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5480" y="69192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0560" y="373824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840" y="373824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5480" y="373824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C09E-573E-4228-B1DE-530937B4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0560" y="69192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ACD6-A059-485F-BCB0-D5D22491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4000" y="-360"/>
            <a:ext cx="403236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41480" y="373824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8569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569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50560" y="3738240"/>
            <a:ext cx="8569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41480" y="373824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47840" y="69192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45480" y="69192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50560" y="373824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47840" y="373824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45480" y="373824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25E5-BC76-48CF-95FD-316E2A41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86EF-EFE1-4B16-B1EE-99514E52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000" y="-360"/>
            <a:ext cx="403236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4A8-DC68-4AB0-81B3-09BB24EC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6D88-DEBE-4D17-BF0E-1B7792DE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1480" y="373824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AE3B-0828-46AF-AF0C-84F70278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8569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148-E916-4C34-BAE8-D8024A93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9" descr=""/>
          <p:cNvPicPr/>
          <p:nvPr/>
        </p:nvPicPr>
        <p:blipFill>
          <a:blip r:embed="rId2"/>
          <a:stretch/>
        </p:blipFill>
        <p:spPr>
          <a:xfrm>
            <a:off x="0" y="-4428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1" name="矩形 2"/>
          <p:cNvSpPr/>
          <p:nvPr/>
        </p:nvSpPr>
        <p:spPr>
          <a:xfrm>
            <a:off x="4680" y="549360"/>
            <a:ext cx="9139320" cy="5975280"/>
          </a:xfrm>
          <a:custGeom>
            <a:avLst/>
            <a:gdLst/>
            <a:ahLst/>
            <a:rect l="l" t="t" r="r" b="b"/>
            <a:pathLst>
              <a:path w="9139816" h="5976664">
                <a:moveTo>
                  <a:pt x="0" y="0"/>
                </a:moveTo>
                <a:lnTo>
                  <a:pt x="9139816" y="0"/>
                </a:lnTo>
                <a:lnTo>
                  <a:pt x="9139816" y="5976664"/>
                </a:lnTo>
                <a:lnTo>
                  <a:pt x="0" y="5976664"/>
                </a:lnTo>
              </a:path>
            </a:pathLst>
          </a:custGeom>
          <a:solidFill>
            <a:srgbClr val="0082b3"/>
          </a:solidFill>
          <a:ln w="12600">
            <a:solidFill>
              <a:srgbClr val="e8f1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000" y="-360"/>
            <a:ext cx="4032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0560" y="69192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a4d2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a4d2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a4d2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9627-A1AD-4047-B8B8-F33ABDDEEDD6}" type="slidenum">
              <a:rPr b="0" lang="zh-CN" sz="1200" spc="-1" strike="noStrike">
                <a:solidFill>
                  <a:srgbClr val="89a4d2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000" y="-360"/>
            <a:ext cx="4032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560" y="69192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a4d2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a4d2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a4d2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1679-7F19-4B15-A818-EEB27929D4AF}" type="slidenum">
              <a:rPr b="0" lang="zh-CN" sz="1200" spc="-1" strike="noStrike">
                <a:solidFill>
                  <a:srgbClr val="89a4d2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8" descr=""/>
          <p:cNvPicPr/>
          <p:nvPr/>
        </p:nvPicPr>
        <p:blipFill>
          <a:blip r:embed="rId2"/>
          <a:stretch/>
        </p:blipFill>
        <p:spPr>
          <a:xfrm>
            <a:off x="0" y="-4428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85" name="矩形 9"/>
          <p:cNvSpPr/>
          <p:nvPr/>
        </p:nvSpPr>
        <p:spPr>
          <a:xfrm>
            <a:off x="0" y="4076640"/>
            <a:ext cx="9144000" cy="57636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000" y="-360"/>
            <a:ext cx="4032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50560" y="69192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jianjie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079640" y="4581000"/>
            <a:ext cx="7524720" cy="2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-468360" y="1125000"/>
            <a:ext cx="75232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蓝色简洁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模板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2565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55640" y="2420640"/>
            <a:ext cx="38163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您的章节标题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55640" y="3141720"/>
            <a:ext cx="38163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rmAutofit fontScale="84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Arial"/>
              </a:rPr>
              <a:t>您的章节副标题章节副标题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5445000"/>
            <a:ext cx="5756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ff"/>
                </a:solidFill>
                <a:uFillTx/>
                <a:latin typeface="Arial"/>
                <a:hlinkClick r:id="rId1"/>
              </a:rPr>
              <a:t>简洁ppt模板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http://www.eeppt.com/moban/jianjie/</a:t>
            </a: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0c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622F-B865-4DAC-BAFC-28D28A307A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-25560"/>
            <a:ext cx="532944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69192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4"/>
          <p:cNvSpPr/>
          <p:nvPr/>
        </p:nvSpPr>
        <p:spPr>
          <a:xfrm>
            <a:off x="1979640" y="285264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ppt.glzy8.com</a:t>
            </a:r>
            <a:r>
              <a:rPr b="0" lang="zh-CN" sz="1800" spc="-1" strike="noStrike">
                <a:solidFill>
                  <a:srgbClr val="0070c0"/>
                </a:solidFill>
                <a:latin typeface="Calibri"/>
              </a:rPr>
              <a:t>海量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70c0"/>
                </a:solidFill>
                <a:latin typeface="Calibri"/>
              </a:rPr>
              <a:t>模板免费下载</a:t>
            </a: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19Z</dcterms:created>
  <dc:creator/>
  <dc:description/>
  <cp:keywords>幻灯片之家 http:/www.eeppt.com</cp:keywords>
  <dc:language>en-US</dc:language>
  <cp:lastModifiedBy/>
  <dcterms:modified xsi:type="dcterms:W3CDTF">2015-07-06T04:04:11Z</dcterms:modified>
  <cp:revision>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NXTAG2">
    <vt:lpwstr>0008008003000000000001024140</vt:lpwstr>
  </property>
</Properties>
</file>