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3B9-76CD-41FC-9A5F-13215325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C61-CBDD-4420-87F9-911DFD93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75F-CD3B-44A7-A827-D7868C99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185-1C0A-469B-84D0-5C482D85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EC79-F585-48E0-B902-3425F65C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885-577C-407D-BA69-BF30BEBC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F426-0D4E-4AE6-8B58-E500BCC8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E952-3A2E-4434-9D45-7FA8C5F3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2DD1-1E6A-4E4C-9FC4-F618DE2F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153-53A5-42A8-80A1-62D40556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633D-DB03-44AE-9D58-76F72F9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90C-0551-43CC-AE2D-52D68BAE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4F82-8D05-45CC-86C1-80D94CE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E5BF-6BD6-40D5-868A-AFF3639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DC2A-9303-4B2E-B00D-0DEFC96E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7BE5-F51A-4FF7-AFED-2741F914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E212-BE5B-4BCB-B015-AD9855BE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804-4200-449E-96D5-F46C6ECD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39E-65AD-4971-86A2-74A594FA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960-5571-4F4F-B20D-32416B57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D29-F708-450E-ADBB-B9E3A121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67B-D174-4B44-9DC0-017AC4FA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C94-1B96-450C-859D-998E03E9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419-2A37-4655-849F-1F052FC1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D80F-E070-4B0A-A8FE-CE8923C2597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50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B518-FC9D-42B8-B5FC-909B2EBE76B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61,3,&#24187;&#28783;&#29255; 3" TargetMode="External"/><Relationship Id="rId3" Type="http://schemas.openxmlformats.org/officeDocument/2006/relationships/hyperlink" Target="262,5,&#24187;&#28783;&#29255; 5" TargetMode="External"/><Relationship Id="rId4" Type="http://schemas.openxmlformats.org/officeDocument/2006/relationships/hyperlink" Target="264,6,&#24187;&#28783;&#29255; 6" TargetMode="External"/><Relationship Id="rId5" Type="http://schemas.openxmlformats.org/officeDocument/2006/relationships/hyperlink" Target="266,8,&#24187;&#28783;&#29255; 8" TargetMode="External"/><Relationship Id="rId6" Type="http://schemas.openxmlformats.org/officeDocument/2006/relationships/hyperlink" Target="258,12,&#24187;&#28783;&#29255; 12" TargetMode="External"/><Relationship Id="rId7" Type="http://schemas.openxmlformats.org/officeDocument/2006/relationships/hyperlink" Target="288,32,&#24187;&#28783;&#29255; 32" TargetMode="External"/><Relationship Id="rId8" Type="http://schemas.openxmlformats.org/officeDocument/2006/relationships/hyperlink" Target="292,36,&#24187;&#28783;&#29255; 36" TargetMode="External"/><Relationship Id="rId9" Type="http://schemas.openxmlformats.org/officeDocument/2006/relationships/hyperlink" Target="289,33,&#24187;&#28783;&#29255; 33" TargetMode="External"/><Relationship Id="rId10" Type="http://schemas.openxmlformats.org/officeDocument/2006/relationships/hyperlink" Target="274,19,&#24187;&#28783;&#29255; 19" TargetMode="External"/><Relationship Id="rId1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15520" y="162864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旅鼠之谜课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7"/>
          <p:cNvSpPr txBox="1"/>
          <p:nvPr/>
        </p:nvSpPr>
        <p:spPr>
          <a:xfrm>
            <a:off x="1187280" y="549360"/>
            <a:ext cx="69120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旅鼠三大奥秘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619280" y="3008160"/>
            <a:ext cx="5904000" cy="1556280"/>
          </a:xfrm>
          <a:prstGeom prst="rect">
            <a:avLst/>
          </a:prstGeom>
          <a:noFill/>
          <a:ln w="76320">
            <a:solidFill>
              <a:srgbClr val="11ed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第一大奥秘是繁殖能力惊人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为动物世界之最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一对旅鼠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一年就有近百万后代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332000" y="2622240"/>
            <a:ext cx="6480000" cy="2775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大奥秘是旅鼠的繁殖并非年年如此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旦繁殖过多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就有种种奇怪的自杀行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停止进食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在天敌面前主动挑衅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改变毛色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吸引天敌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403280" y="2464560"/>
            <a:ext cx="6408720" cy="2287440"/>
          </a:xfrm>
          <a:prstGeom prst="rect">
            <a:avLst/>
          </a:prstGeom>
          <a:noFill/>
          <a:ln w="76320">
            <a:solidFill>
              <a:srgbClr val="f50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第三大奥秘是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死亡大迁移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数百万旅鼠汇成浩浩荡荡的队伍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奔向大海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葬身大海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11"/>
          <p:cNvSpPr txBox="1"/>
          <p:nvPr/>
        </p:nvSpPr>
        <p:spPr>
          <a:xfrm>
            <a:off x="1835280" y="2276640"/>
            <a:ext cx="4897440" cy="29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谜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48" name="Picture 12" descr="nth20204b_pic"/>
          <p:cNvPicPr/>
          <p:nvPr/>
        </p:nvPicPr>
        <p:blipFill>
          <a:blip r:embed="rId1"/>
          <a:stretch/>
        </p:blipFill>
        <p:spPr>
          <a:xfrm>
            <a:off x="684360" y="404640"/>
            <a:ext cx="7488000" cy="5977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9" name="Text Box 13"/>
          <p:cNvSpPr/>
          <p:nvPr/>
        </p:nvSpPr>
        <p:spPr>
          <a:xfrm>
            <a:off x="5028120" y="5445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橘红色的旅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天使6"/>
          <p:cNvPicPr/>
          <p:nvPr/>
        </p:nvPicPr>
        <p:blipFill>
          <a:blip r:embed="rId2"/>
          <a:stretch/>
        </p:blipFill>
        <p:spPr>
          <a:xfrm>
            <a:off x="5364000" y="4221000"/>
            <a:ext cx="225756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1763640" y="1987560"/>
            <a:ext cx="58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从这篇课文中你可以获得哪些启示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脚印"/>
          <p:cNvPicPr/>
          <p:nvPr/>
        </p:nvPicPr>
        <p:blipFill>
          <a:blip r:embed="rId1"/>
          <a:stretch/>
        </p:blipFill>
        <p:spPr>
          <a:xfrm>
            <a:off x="5796000" y="407664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476360" y="83664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A.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篇末写丹尼斯说的话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从中我们可以了解到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人口问题是全球第一号问题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值得我们认真思考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. </a:t>
            </a:r>
            <a:endParaRPr b="0" lang="en-US" sz="5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964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B.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对旅鼠之谜人们已经研究了好几个世纪 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但始终解不开它们的奥秘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由此联想开去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大自然还有许多奥秘人类无法解释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有待继续探究 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.</a:t>
            </a:r>
            <a:endParaRPr b="0" lang="en-US" sz="5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971640" y="14130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C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自然界的万物都是自然科学研究的对象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对于旅鼠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,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自有一批动物学家怀着极大的兴趣孜孜不倦地研究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87280" y="1125000"/>
            <a:ext cx="6562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D.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自然界本身具有调节机制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一旦打破生态平衡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就出现向新的平衡转化的新趋势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5280" y="14842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73e87"/>
                </a:solidFill>
                <a:latin typeface="隶书"/>
                <a:ea typeface="隶书"/>
              </a:rPr>
              <a:t>E.</a:t>
            </a:r>
            <a:r>
              <a:rPr b="1" lang="zh-CN" sz="6000" spc="-1" strike="noStrike">
                <a:solidFill>
                  <a:srgbClr val="073e87"/>
                </a:solidFill>
                <a:latin typeface="隶书"/>
                <a:ea typeface="隶书"/>
              </a:rPr>
              <a:t>科学研究过程要不断地调整研究方法和思维方式</a:t>
            </a:r>
            <a:r>
              <a:rPr b="1" lang="en-US" sz="6000" spc="-1" strike="noStrike">
                <a:solidFill>
                  <a:srgbClr val="073e87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58920" y="170028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73e87"/>
                </a:solidFill>
                <a:latin typeface="隶书"/>
                <a:ea typeface="隶书"/>
              </a:rPr>
              <a:t>F.</a:t>
            </a:r>
            <a:r>
              <a:rPr b="1" lang="zh-CN" sz="5400" spc="-1" strike="noStrike">
                <a:solidFill>
                  <a:srgbClr val="073e87"/>
                </a:solidFill>
                <a:latin typeface="隶书"/>
                <a:ea typeface="隶书"/>
              </a:rPr>
              <a:t>从自然界的调节中人类应该觉悟</a:t>
            </a:r>
            <a:r>
              <a:rPr b="1" lang="en-US" sz="54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400" spc="-1" strike="noStrike">
                <a:solidFill>
                  <a:srgbClr val="073e87"/>
                </a:solidFill>
                <a:latin typeface="隶书"/>
                <a:ea typeface="隶书"/>
              </a:rPr>
              <a:t>也要注意自我调节</a:t>
            </a:r>
            <a:r>
              <a:rPr b="1" lang="en-US" sz="54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400" spc="-1" strike="noStrike">
                <a:solidFill>
                  <a:srgbClr val="073e87"/>
                </a:solidFill>
                <a:latin typeface="隶书"/>
                <a:ea typeface="隶书"/>
              </a:rPr>
              <a:t>以求和谐发展 </a:t>
            </a:r>
            <a:r>
              <a:rPr b="1" lang="en-US" sz="5400" spc="-1" strike="noStrike">
                <a:solidFill>
                  <a:srgbClr val="073e87"/>
                </a:solidFill>
                <a:latin typeface="隶书"/>
                <a:ea typeface="隶书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10920" y="620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.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用记叙的框架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对话的方式来介绍科学知识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黑体"/>
                <a:ea typeface="黑体"/>
              </a:rPr>
              <a:t>记叙的要素</a:t>
            </a:r>
            <a:r>
              <a:rPr b="1" lang="en-US" sz="41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黑体"/>
                <a:ea typeface="黑体"/>
              </a:rPr>
              <a:t>时间</a:t>
            </a:r>
            <a:r>
              <a:rPr b="1" lang="en-US" sz="4100" spc="-1" strike="noStrike">
                <a:solidFill>
                  <a:srgbClr val="073e87"/>
                </a:solidFill>
                <a:latin typeface="黑体"/>
                <a:ea typeface="黑体"/>
              </a:rPr>
              <a:t>: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黑体"/>
                <a:ea typeface="黑体"/>
              </a:rPr>
              <a:t>地点</a:t>
            </a:r>
            <a:r>
              <a:rPr b="1" lang="en-US" sz="41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黑体"/>
                <a:ea typeface="黑体"/>
              </a:rPr>
              <a:t>人物</a:t>
            </a:r>
            <a:r>
              <a:rPr b="1" lang="en-US" sz="41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686680" y="2637000"/>
            <a:ext cx="740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有一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24000" y="364500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巴罗附近的爱斯基摩人村落遗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20000" y="5013360"/>
            <a:ext cx="445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我”和丹尼斯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马洛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斯先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4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起因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经过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: 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结局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228920" y="981000"/>
            <a:ext cx="18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我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捉到了一只旅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556000" y="2421000"/>
            <a:ext cx="5616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丹尼斯讲述旅鼠的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种奥秘 </a:t>
            </a:r>
            <a:r>
              <a:rPr b="1" lang="en-US" sz="4400" spc="-1" strike="noStrike">
                <a:solidFill>
                  <a:srgbClr val="0000cc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411280" y="4292640"/>
            <a:ext cx="60483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丹尼斯就旅鼠的研究和旅鼠的行为的奇特发表他的感想 </a:t>
            </a:r>
            <a:r>
              <a:rPr b="1" lang="en-US" sz="4400" spc="-1" strike="noStrike">
                <a:solidFill>
                  <a:srgbClr val="0000cc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小鼠"/>
          <p:cNvPicPr/>
          <p:nvPr/>
        </p:nvPicPr>
        <p:blipFill>
          <a:blip r:embed="rId1"/>
          <a:stretch/>
        </p:blipFill>
        <p:spPr>
          <a:xfrm>
            <a:off x="5364000" y="4437000"/>
            <a:ext cx="3024360" cy="1622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81620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95912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971640" y="98100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2"/>
              </a:rPr>
              <a:t>课文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971640" y="177336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3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00000" y="256392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4"/>
              </a:rPr>
              <a:t>积累字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900000" y="335592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5"/>
              </a:rPr>
              <a:t>内容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826920" y="414972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6"/>
              </a:rPr>
              <a:t>思考启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859280" y="184320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7"/>
              </a:rPr>
              <a:t>拓展引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859280" y="342756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8"/>
              </a:rPr>
              <a:t>课外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859280" y="256392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9"/>
              </a:rPr>
              <a:t>课堂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859280" y="105264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10"/>
              </a:rPr>
              <a:t>写作特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6922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可见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这是一篇地地道道的记叙文体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但它讲述的故事跟一般记叙生活故事不一样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讲的全是关于旅鼠的知识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通篇都是作者和丹尼斯的对话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在通俗亲切的对话中介绍科学知识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63280" y="1484280"/>
            <a:ext cx="56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73e87"/>
                </a:solidFill>
                <a:latin typeface="黑体"/>
                <a:ea typeface="黑体"/>
              </a:rPr>
              <a:t>所以这篇文章既有记叙文的特征</a:t>
            </a:r>
            <a:r>
              <a:rPr b="1" lang="en-US" sz="48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800" spc="-1" strike="noStrike">
                <a:solidFill>
                  <a:srgbClr val="073e87"/>
                </a:solidFill>
                <a:latin typeface="黑体"/>
                <a:ea typeface="黑体"/>
              </a:rPr>
              <a:t>又具有说明文的特征 </a:t>
            </a:r>
            <a:r>
              <a:rPr b="1" lang="en-US" sz="48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800" spc="-1" strike="noStrike">
                <a:solidFill>
                  <a:srgbClr val="073e87"/>
                </a:solidFill>
                <a:latin typeface="黑体"/>
                <a:ea typeface="黑体"/>
              </a:rPr>
              <a:t>是一种跨文体的文体 </a:t>
            </a:r>
            <a:r>
              <a:rPr b="1" lang="en-US" sz="48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谋篇布局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, 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波澜起伏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43840" y="134136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584d3"/>
                </a:solidFill>
                <a:latin typeface="Arial"/>
                <a:ea typeface="黑体"/>
              </a:rPr>
              <a:t>结构</a:t>
            </a:r>
            <a:r>
              <a:rPr b="1" lang="en-US" sz="4400" spc="-1" strike="noStrike">
                <a:solidFill>
                  <a:srgbClr val="4584d3"/>
                </a:solidFill>
                <a:latin typeface="Arial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55640" y="2559960"/>
            <a:ext cx="748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旅鼠的三大奥秘言之有序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超强的繁殖能力是前提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他两大奥秘虽然还是一团谜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总与繁殖有关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大奥秘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比一个神秘莫测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大奥秘都是自杀行为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是第三大奥秘比第二大奥秘更神秘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以结构上有一浪更比一浪高的效果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有详有略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丹尼斯讲述前两个奥秘之后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en-US" sz="37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的反应比较少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第三大奥秘之后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写了反复的谈论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en-US" sz="37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 一而再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再而三地发问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谈兴前所未有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一问一答之间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实际上也是反复制造悬念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反复解开悬念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最后却又是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一大难解之谜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让读者也陷入迷惘的深思中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.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34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对话 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split dir="in" orient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55280" y="1628640"/>
            <a:ext cx="799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又有丹尼斯发人深思的感慨和让人始而惊吓继而发笑的举止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,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又庄又谐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结局有趣而隽永 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ndara"/>
                <a:ea typeface="黑体"/>
              </a:rPr>
              <a:t>结尾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split dir="in" orient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心理 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890280" y="141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好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835000" y="148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  <a:ea typeface="隶书"/>
              </a:rPr>
              <a:t>怀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851000" y="148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隶书"/>
              </a:rPr>
              <a:t>惊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867360" y="148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惊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890280" y="2565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  <a:ea typeface="隶书"/>
              </a:rPr>
              <a:t>沉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2763360" y="2565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Arial"/>
                <a:ea typeface="隶书"/>
              </a:rPr>
              <a:t>疑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4851000" y="2637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隶书"/>
              </a:rPr>
              <a:t>惊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67360" y="2637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隶书"/>
              </a:rPr>
              <a:t>思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2050920" y="1989000"/>
            <a:ext cx="64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8101080" y="198900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4067280" y="198900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6012000" y="198900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3995640" y="314172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6012000" y="314172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1979640" y="306864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971640" y="349848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我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的心理活动的发展也是波澜起伏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很好地衬托了旅鼠的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奇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144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清楚明白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可信度高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027520" y="1987920"/>
            <a:ext cx="45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使用了数据来加以说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16000" y="359280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如写一对旅鼠一年的繁殖量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使用数据既能说明旅鼠的繁殖快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多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;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同时又很清楚准确 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让人信服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26920" y="692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一对旅鼠一年有七代子孙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作者一代一代说下来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总体上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看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是详细说明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详说中也有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略说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第二代详说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第三代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第一胎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第二胎详说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其他几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胎就不再一一详说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就是一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二两胎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仔细比较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99640" y="90792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详细的程度也有差别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四代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详说第一胎的 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二胎到第七胎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就概说总数 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至于第五代 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六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代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七代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八代都只说总数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最后是祖孙八代的总数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可见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作者的写法是逐步展开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有详有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略的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让人觉得烦而不乱 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39280" y="1052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(2)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本文中介绍旅鼠的丹尼斯是纽约动物协会的成员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由他来介绍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知识的可信度高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402920" y="1125000"/>
            <a:ext cx="62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这一篇科学小品 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介绍了北极旅鼠的三大奥秘。文章写得生动有趣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让人既长知识又有兴味。学习的时候要注意体会。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本文寓知识于叙事之中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知识性和趣味性结合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让人既长知识又有兴味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可见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介绍知识的文章也可以不拘要格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应该努力创新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应该考虑怎样讲效果更好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怎样才能吸引读者 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让人喜欢 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ndara"/>
                <a:ea typeface="黑体"/>
              </a:rPr>
              <a:t>小结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3" name="Picture 4" descr="天使6"/>
          <p:cNvPicPr/>
          <p:nvPr/>
        </p:nvPicPr>
        <p:blipFill>
          <a:blip r:embed="rId1"/>
          <a:stretch/>
        </p:blipFill>
        <p:spPr>
          <a:xfrm>
            <a:off x="5651640" y="4221000"/>
            <a:ext cx="225720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1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课文说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en-US" sz="3700" spc="-1" strike="noStrike">
                <a:solidFill>
                  <a:srgbClr val="073e87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人类也许应该从旅鼠身上学到点什么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例如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如果人类也毫无节制地繁衍下去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也许有一天不得不走旅鼠的道路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en-US" sz="3700" spc="-1" strike="noStrike">
                <a:solidFill>
                  <a:srgbClr val="073e87"/>
                </a:solidFill>
                <a:latin typeface="Arial"/>
                <a:ea typeface="黑体"/>
              </a:rPr>
              <a:t>”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课文的说法对不对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为什么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?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你如何看待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联系现实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谈谈自己的想法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2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请你根据课文或收集资料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写一篇介绍旅鼠的说明文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05" name="Picture 4" descr="天使6"/>
          <p:cNvPicPr/>
          <p:nvPr/>
        </p:nvPicPr>
        <p:blipFill>
          <a:blip r:embed="rId1"/>
          <a:stretch/>
        </p:blipFill>
        <p:spPr>
          <a:xfrm>
            <a:off x="5651640" y="4221000"/>
            <a:ext cx="225720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选出下列词语中没有错别字的一项是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 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仓皇逃窜  紧追不舍  神秘莫测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急中生智  前仆后继    有兴趣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喃喃自语  汹涌澎湃  全军  没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难以  信  小心翼翼  鼠目寸光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413440" y="1628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456240" y="3068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547680" y="3284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7555680" y="4005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7534440" y="3789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515320" y="4724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422440" y="4508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000" y="90792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二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为下列文段填上恰当的关联词语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(     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实际上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旅鼠</a:t>
            </a:r>
            <a:r>
              <a:rPr b="1" lang="zh-CN" sz="4000" spc="-1" strike="noStrike" u="sng">
                <a:solidFill>
                  <a:srgbClr val="073e87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每年都大量繁殖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en-US" sz="4000" spc="-1" strike="noStrike" u="sng">
                <a:solidFill>
                  <a:srgbClr val="073e87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有节制的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en-US" sz="4000" spc="-1" strike="noStrike" u="sng">
                <a:solidFill>
                  <a:srgbClr val="073e87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有丰年和歉年之分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不是 而是 并且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不是 而是 而且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并非 而是 并且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并非 而是 而且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197440" y="1413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091-5E70-4197-9ABC-732EB735B572}" type="slidenum">
              <a:t>34</a:t>
            </a:fld>
          </a:p>
        </p:txBody>
      </p:sp>
    </p:spTree>
  </p:cSld>
  <p:transition spd="med"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三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找出下面句子的主干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1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旅鼠是一种啮齿类动物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主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谓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宾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2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有一天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我独自一人在巴罗附近的爱斯基摩人村落遗址上徘徊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主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谓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495160" y="1700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旅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454120" y="2421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422080" y="3141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454120" y="5013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422080" y="5661000"/>
            <a:ext cx="851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徘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4653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24000" y="836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世界上还有许多奥秘没有解开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课外收集一些末解之谜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除了旅鼠之外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其他动物也有一些奇异的现象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请根据自己的观察和了解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写一段文字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说明某种动物奇异的表现及其原因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87280" y="907920"/>
            <a:ext cx="6769440" cy="4897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作者位梦华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山东人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地质学家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曾任中国首次远征北极点科学考察队队长。他的主要著作有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奇异的大陆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---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南极洲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、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南极之梦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、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北极的呼唤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等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12" name="Picture 4" descr="天使6"/>
          <p:cNvPicPr/>
          <p:nvPr/>
        </p:nvPicPr>
        <p:blipFill>
          <a:blip r:embed="rId1"/>
          <a:stretch/>
        </p:blipFill>
        <p:spPr>
          <a:xfrm>
            <a:off x="5364000" y="4221000"/>
            <a:ext cx="225756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6"/>
          <p:cNvSpPr/>
          <p:nvPr/>
        </p:nvSpPr>
        <p:spPr>
          <a:xfrm>
            <a:off x="1763640" y="1581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090440" y="2309760"/>
            <a:ext cx="6840720" cy="424836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090440" y="2381400"/>
            <a:ext cx="68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把握课文内容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了解旅鼠的有关知识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学习本文的写作特点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培养科学理性精神和人文情怀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1090440" y="1228680"/>
            <a:ext cx="6769440" cy="93492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天使6"/>
          <p:cNvPicPr/>
          <p:nvPr/>
        </p:nvPicPr>
        <p:blipFill>
          <a:blip r:embed="rId1"/>
          <a:stretch/>
        </p:blipFill>
        <p:spPr>
          <a:xfrm>
            <a:off x="5338800" y="4973760"/>
            <a:ext cx="2257560" cy="1881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仓皇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        )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逃窜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媲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)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美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幼崽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 )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喃喃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 )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膨胀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        )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329560" y="549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cāng hu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343960" y="1341360"/>
            <a:ext cx="2923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匆忙而慌张地逃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981080" y="198900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p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780000" y="2060640"/>
            <a:ext cx="511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美好的程度差不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85800" y="273852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ză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568400" y="278136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幼小的动物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486520" y="3500280"/>
            <a:ext cx="10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n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995640" y="3357720"/>
            <a:ext cx="612144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象声词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,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连续不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地小声说话的声音 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342520" y="4941720"/>
            <a:ext cx="29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éng zh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559240" y="5546880"/>
            <a:ext cx="365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物体的长度或体积增大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4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收敛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   )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啮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  )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挑衅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  ):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笃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)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信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鼠目寸光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628720" y="5493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i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216040" y="62064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减弱或消失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197440" y="1413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i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158720" y="134136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咬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629080" y="21337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xì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072520" y="2708280"/>
            <a:ext cx="511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借端生事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企图引起冲突或战争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026080" y="3573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81000" y="357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忠实地信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3959280" y="4292640"/>
            <a:ext cx="42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比喻眼光短 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见识浅 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天使6"/>
          <p:cNvPicPr/>
          <p:nvPr/>
        </p:nvPicPr>
        <p:blipFill>
          <a:blip r:embed="rId1"/>
          <a:stretch/>
        </p:blipFill>
        <p:spPr>
          <a:xfrm>
            <a:off x="5364000" y="4221000"/>
            <a:ext cx="225756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834920" y="148428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73e87"/>
                </a:solidFill>
                <a:latin typeface="黑体"/>
                <a:ea typeface="黑体"/>
              </a:rPr>
              <a:t>在文中找出有关旅鼠的描写</a:t>
            </a:r>
            <a:r>
              <a:rPr b="1" lang="en-US" sz="6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6000" spc="-1" strike="noStrike">
                <a:solidFill>
                  <a:srgbClr val="073e87"/>
                </a:solidFill>
                <a:latin typeface="黑体"/>
                <a:ea typeface="黑体"/>
              </a:rPr>
              <a:t>看看旅鼠有何特征</a:t>
            </a:r>
            <a:r>
              <a:rPr b="1" lang="en-US" sz="60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11280" y="620640"/>
            <a:ext cx="7848360" cy="561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63280" y="105264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哺乳动物，常年居住北极，体形椭圆，四肢短小，比普通老鼠要小一些，最大可长到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15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厘米，尾巴粗短，耳朵很小。爱斯基摩人称其为来自天空的动物，斯堪的纳维亚人称之为</a:t>
            </a:r>
            <a:r>
              <a:rPr b="1" lang="zh-CN" sz="3700" spc="-1" strike="noStrike">
                <a:solidFill>
                  <a:srgbClr val="073e87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天鼠</a:t>
            </a:r>
            <a:r>
              <a:rPr b="1" lang="zh-CN" sz="3700" spc="-1" strike="noStrike">
                <a:solidFill>
                  <a:srgbClr val="073e87"/>
                </a:solidFill>
                <a:latin typeface="Arial"/>
                <a:ea typeface="黑体"/>
              </a:rPr>
              <a:t>”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。这是因为在特定的年头，它们的数量会大增，就象天兵天将，突然降临。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5:24:10Z</dcterms:created>
  <dc:creator/>
  <dc:description/>
  <cp:keywords>幻灯片之家 http:/www.eeppt.com</cp:keywords>
  <dc:language>en-US</dc:language>
  <cp:lastModifiedBy/>
  <dcterms:modified xsi:type="dcterms:W3CDTF">2015-07-12T09:24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