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F097-D787-457C-B7B7-11C4A64D2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C889-52D0-4F1B-A013-74C6D998C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2BF7-AE31-4CDA-A958-476F85F8F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3980-5E03-409F-9F58-0EA248D00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848A-9AD1-46FA-86F1-2AB4080AF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FBF2-3C72-48C0-A104-CEAE23682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16E9-B406-43C3-9975-62E362603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573E-8767-4748-AFD2-F0652C42B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EF3E-265F-4122-99B8-1288A9E5C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F498-4203-4B56-A037-D814621D1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DB7C-0B25-41F6-8FAD-A694F05DE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0EC1-569E-451F-9902-79E40E309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5D3AF-0532-4005-84B1-028EE04E773A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zhongguofeng/" TargetMode="External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130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429264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40280" y="2997360"/>
            <a:ext cx="293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蓝天白云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</a:t>
            </a:r>
            <a:r>
              <a:rPr b="1" lang="fr-FR" sz="1500" spc="-1" strike="noStrike">
                <a:solidFill>
                  <a:srgbClr val="ededed"/>
                </a:solidFill>
                <a:latin typeface="Calibri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fr-FR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fr-FR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fr-FR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fr-FR" sz="1400" spc="-1" strike="noStrike">
                <a:solidFill>
                  <a:srgbClr val="e8eff7"/>
                </a:solidFill>
                <a:latin typeface="Calibri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助</a:t>
            </a:r>
            <a:r>
              <a:rPr b="1" lang="fr-FR" sz="1400" spc="-1" strike="noStrike">
                <a:solidFill>
                  <a:srgbClr val="e8eff7"/>
                </a:solidFill>
                <a:latin typeface="Calibri"/>
              </a:rPr>
              <a:t>您轻松制作出精美</a:t>
            </a:r>
            <a:r>
              <a:rPr b="1" lang="fr-FR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fr-FR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</a:t>
            </a:r>
            <a:r>
              <a:rPr b="1" lang="fr-FR" sz="1500" spc="-1" strike="noStrike">
                <a:solidFill>
                  <a:srgbClr val="ededed"/>
                </a:solidFill>
                <a:latin typeface="Calibri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116000" y="3645000"/>
            <a:ext cx="76881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中国风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zhongguofen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10FF-A1FD-4588-8139-616B5C16500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1T06:00:22Z</dcterms:created>
  <dc:creator/>
  <dc:description/>
  <cp:keywords>幻灯片之家 http:/www.eeppt.com</cp:keywords>
  <dc:language>en-US</dc:language>
  <cp:lastModifiedBy/>
  <dcterms:modified xsi:type="dcterms:W3CDTF">2015-07-12T09:48:08Z</dcterms:modified>
  <cp:revision>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