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174-414A-45C6-8ACB-8FB324EA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7F6-14EB-4E2D-9969-CC4093E5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69A-89CB-47B9-9495-A0DCD1BE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28B-BF23-4608-98CF-034A26C7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41E-857C-4FAC-A80F-B3EFDA37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65E-24AC-4439-894A-E14DC9D5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702-A32B-475A-A515-5C810E8F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DEB-2FF1-43C7-8E13-717F29F7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EA8-6E3B-4038-9F55-61CEA7F2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BBE-7F86-4C59-972B-8CF315B6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B6F-A33D-497E-8A9A-350BC5D2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BAB-5A3D-44AF-839A-DFEF869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6DA4-7062-4408-8F67-F16471E46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248436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荷兰-牧场-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760" y="186480"/>
            <a:ext cx="8610480" cy="30200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6600"/>
              </a:solidFill>
              <a:latin typeface="黑体"/>
              <a:ea typeface="黑体"/>
            </a:endParaRPr>
          </a:p>
        </p:txBody>
      </p:sp>
      <p:sp>
        <p:nvSpPr>
          <p:cNvPr id="45" name="Line 5"/>
          <p:cNvSpPr/>
          <p:nvPr/>
        </p:nvSpPr>
        <p:spPr>
          <a:xfrm>
            <a:off x="990720" y="2492280"/>
            <a:ext cx="7467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1120" y="836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牧场之国优秀课件下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荷兰-风车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荷兰-风车-2"/>
          <p:cNvPicPr/>
          <p:nvPr/>
        </p:nvPicPr>
        <p:blipFill>
          <a:blip r:embed="rId2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564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荷兰-牧场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荷兰-牧场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D6C-2888-4C0D-AA94-BF3A909F25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荷兰-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荷兰-花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06640" y="6334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黑体"/>
              </a:rPr>
              <a:t>生字、词语、多音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121932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镶 嵌    骏 马    膘肥体壮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辽阔无垠（   ）   公 爵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悠然自得    牲畜（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429000" y="2286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791320" y="342900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80880" y="5029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1143000" y="480060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547640" y="45086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模样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547640" y="5805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模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648320" y="51055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5410080" y="48769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867280" y="4495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j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羊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867280" y="579132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圆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228600" y="1066680"/>
            <a:ext cx="8686800" cy="335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3504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阅读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1219320"/>
            <a:ext cx="8229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文第一自然段有什么作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说说牧场之国荷兰给你留下了怎样的印象？你是从课文的哪些地方感受到的？请带着你的感受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文为什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四次写“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这就是真正的荷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四次写“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这就是真正的荷兰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04920" y="1523880"/>
            <a:ext cx="8534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真正的荷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牧场上一片碧草，上面有黑白两色花牛，他们在吃草，悠闲自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真正的荷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碧绿色的低地上有成群的骏马，它们膘肥体壮，是辽阔原野的主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80880" y="380880"/>
            <a:ext cx="838224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228600"/>
            <a:ext cx="861048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真正的荷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在绿色的草地上，绵羊悠然自得，猪群不停地呼噜，小鸡、长毛山羊安闲自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真正的荷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傍晚，有人驾驶船默默挤奶，船只行驶舒缓平稳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片静谧，一幅沉寂的静夜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4920" y="5029200"/>
            <a:ext cx="838188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黑体"/>
              </a:rPr>
              <a:t>既是介绍荷兰特点，又是对荷兰独特风光的赞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你喜欢文中的哪些语句，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80880" y="22860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牛群吃草时非常专注，有时站立不动，仿佛正在思考着什么。牛犊的模样像贵夫人，仪态端庄，老牛好似牛群的家长，无比尊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辽阔无垠的原野似乎归它们所有，它们是这个自由王国的主人和公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黑色的猪群，不停地呼噜着，像是对什么表示赞许。成千上万的小鸡，成群结队的长毛山羊，在见不到一个人影的绿草地上，安闲地欣赏着这属于它们自己的王国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70536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黑体"/>
              </a:rPr>
              <a:t>欣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风车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3:57:13Z</dcterms:created>
  <dc:creator/>
  <dc:description/>
  <cp:keywords>幻灯片之家 http:/www.eeppt.com</cp:keywords>
  <dc:language>en-US</dc:language>
  <cp:lastModifiedBy/>
  <dcterms:modified xsi:type="dcterms:W3CDTF">2015-07-11T02:13:16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