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008-4B12-4EB8-AA66-1F35D4D2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08BE-3CBC-4336-8413-9E0A91F85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D15-9835-41F3-9DF7-6D651EBBE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0200-5DB2-46B0-B44B-83996A18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BABD-F6DB-4A51-9151-B6937F718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BB35-0A49-4BDE-82BB-6E3BC7BA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B60C-2369-4D12-819C-9A0B3911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3D9-04C2-47F6-AF85-A7A4B539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3A59-802B-4B36-98CE-8A3813AD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DC70-A2F4-4965-9C33-E566DE345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3A66-DCD2-4279-BB29-DE4A834D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6DB3-A97C-4B43-84A2-376482932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1A07-BF78-44E9-AEBB-3F62615FF7F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jieri/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jieri/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内容占位符 4" descr=""/>
          <p:cNvPicPr/>
          <p:nvPr/>
        </p:nvPicPr>
        <p:blipFill>
          <a:blip r:embed="rId2"/>
          <a:stretch/>
        </p:blipFill>
        <p:spPr>
          <a:xfrm>
            <a:off x="-44280" y="0"/>
            <a:ext cx="9188280" cy="6891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6948360" y="6453360"/>
            <a:ext cx="217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00360" y="4510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95280" y="1125360"/>
            <a:ext cx="18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【母亲节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8" descr="1.png"/>
          <p:cNvPicPr/>
          <p:nvPr/>
        </p:nvPicPr>
        <p:blipFill>
          <a:blip r:embed="rId2"/>
          <a:srcRect l="18705" t="7777" r="19908" b="12344"/>
          <a:stretch/>
        </p:blipFill>
        <p:spPr>
          <a:xfrm>
            <a:off x="1692360" y="614520"/>
            <a:ext cx="5613480" cy="5478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9" descr="2.png"/>
          <p:cNvPicPr/>
          <p:nvPr/>
        </p:nvPicPr>
        <p:blipFill>
          <a:blip r:embed="rId3"/>
          <a:srcRect l="26668" t="17035" r="27129" b="21110"/>
          <a:stretch/>
        </p:blipFill>
        <p:spPr>
          <a:xfrm>
            <a:off x="2411280" y="1197000"/>
            <a:ext cx="4224600" cy="42418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text"/>
          <p:cNvPicPr/>
          <p:nvPr/>
        </p:nvPicPr>
        <p:blipFill>
          <a:blip r:embed="rId4"/>
          <a:stretch/>
        </p:blipFill>
        <p:spPr>
          <a:xfrm>
            <a:off x="3397320" y="2284560"/>
            <a:ext cx="2325600" cy="2224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09640" y="2087640"/>
            <a:ext cx="649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节日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jier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1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599699">
                                      <p:cBhvr>
                                        <p:cTn id="12" dur="20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F4ED8-3702-4C7D-B3E4-2410DF372D1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2998080" y="3259080"/>
            <a:ext cx="314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节日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jieri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内容占位符 3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内容占位符 3" descr=""/>
          <p:cNvPicPr/>
          <p:nvPr/>
        </p:nvPicPr>
        <p:blipFill>
          <a:blip r:embed="rId2"/>
          <a:stretch/>
        </p:blipFill>
        <p:spPr>
          <a:xfrm>
            <a:off x="0" y="-46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8T16:48:23Z</dcterms:created>
  <dc:creator/>
  <dc:description/>
  <cp:keywords>幻灯片之家 http:/www.eeppt.com</cp:keywords>
  <dc:language>en-US</dc:language>
  <cp:lastModifiedBy/>
  <dcterms:modified xsi:type="dcterms:W3CDTF">2015-07-09T03:22:18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