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6A6-5D97-46CF-AFF8-7806125B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3F9-2CBD-4F68-92B5-78CE3E1F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89E-A4D0-46C8-A465-E9D453B8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682-E59A-4363-A395-E10F7F03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A8A-4089-46D0-9297-C1ADC3B5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868-5016-41DB-A633-F55D486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69A-0E67-43B7-A659-8838924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28F-846E-40EC-9C07-3F7FFD9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AFA-1610-49AD-BDCC-20F49E08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E8A-852A-493E-9BC0-E806B955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73C-415E-46B8-A0D3-CF92EC19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342-2A76-44CA-A968-F6913DC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FE1-F509-45AF-8AF8-993BDAEF1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020600" y="33480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教版三年级下册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48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aibisukasuba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09480" y="1066680"/>
            <a:ext cx="807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教人们开荒种地，使他们懂得春种夏管秋收冬藏的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教人们在宅前屋后种上五颜六色的鲜花，使他们含辛茹苦的日子带一点姹紫嫣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教人们以衣御寒、以衣遮丑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她把一切都教给人们，该想的她都想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48_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228600" y="1484280"/>
            <a:ext cx="67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72200" y="632448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60640" y="1341360"/>
            <a:ext cx="459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1341360"/>
            <a:ext cx="79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从女娲创造了人类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上到处是欢歌笑语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一直过着快乐幸福的生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572000" y="226368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欢歌笑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419720" y="31669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快乐幸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2450880" y="838080"/>
            <a:ext cx="39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远远的天空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塌下一大块，露出一个黑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的大窟窿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，地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被震裂了，出现了一道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深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。山冈上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燃烧着熊熊大火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，田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里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到处是洪水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。许多人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被火围困在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顶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，许多人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在水里挣扎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034720" y="419112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天哪，太可怕了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e5c340a77a6bac81d04358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女娲难过极啦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ed1cace6b35723993457e54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375000" y="2286000"/>
            <a:ext cx="2199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女娲为了把天补好，做了哪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件事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女娲遇到了哪些危险和困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自己最感动的句子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读，并写出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838080" y="228600"/>
            <a:ext cx="7772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</a:rPr>
              <a:t>请同学们四人小组合作学习，交流：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newsflash/>
    <p:sndAc>
      <p:stSnd>
        <p:snd r:embed="rId2" name="chimes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404640"/>
            <a:ext cx="777708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女娲为受难的人们做了哪几件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26920" y="2060640"/>
            <a:ext cx="756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求雨灭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造船救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找石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炼石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aibisukasuba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480" y="1066680"/>
            <a:ext cx="8077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难过极了。她立刻去找雨神，求他下一场雨。把天火熄灭，又造了船，好救出挣扎在洪水中的人们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55640" y="3213000"/>
            <a:ext cx="79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55640" y="3213000"/>
            <a:ext cx="79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　　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娲来到雨神跟前，对他说：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                  　　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00000" y="3933720"/>
            <a:ext cx="763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温馨提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合前面百姓所遭受的灾难写写女娲去找雨神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写女娲需要雨神怎样的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270792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395280" y="692280"/>
            <a:ext cx="51436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女娲怎样找五彩石：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42920" y="155736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女娲决定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冒着生命危险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把天补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2276640"/>
            <a:ext cx="91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她跑到山上，去寻找补天用的五彩石，她原以为这种石头很多，用不着费多大力气。到山上一看，全是一些零零星星的碎块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她忙了几天几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找到了红、黄、蓝、白四种颜色的石头，还缺少一种纯青石。于是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她又找啊找啊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终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在一眼清清的泉水中找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426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五彩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齐了，女娲在地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个圆坑，把五彩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里面，用神火进行冶炼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五天五夜，五彩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了很稠的液体。女娲把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一个大盆里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天边，对准那个大黑窟窿，往上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只见金光四射，大窟窿立刻被补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966a32ad46123de27dd92a39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e8aa772f8268874d4fc2268e"/>
          <p:cNvPicPr/>
          <p:nvPr/>
        </p:nvPicPr>
        <p:blipFill>
          <a:blip r:embed="rId1"/>
          <a:stretch/>
        </p:blipFill>
        <p:spPr>
          <a:xfrm>
            <a:off x="0" y="58680"/>
            <a:ext cx="9323280" cy="6799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619280" y="981000"/>
            <a:ext cx="72007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彩石找齐了，女娲先在地上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个圆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五彩石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放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里面，用神火进行冶炼。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了五天五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彩石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成了很稠的液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把它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一个大盆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到天边，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那个大黑窟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上一（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只见金光四射，大窟窿立刻补好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79280" y="712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勇敢善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无私奉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48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228600" y="148428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由读，读通课文，遇到难读的字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3429000"/>
            <a:ext cx="69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★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下面的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女娲是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为什么要补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72200" y="632448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11463368440837681"/>
          <p:cNvPicPr/>
          <p:nvPr/>
        </p:nvPicPr>
        <p:blipFill>
          <a:blip r:embed="rId1"/>
          <a:stretch/>
        </p:blipFill>
        <p:spPr>
          <a:xfrm>
            <a:off x="1619280" y="189000"/>
            <a:ext cx="453708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116000" y="3716280"/>
            <a:ext cx="612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怕危险、不怕困难、勇敢善良、无私奉献的女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57913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959280" y="42670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由此，你想到了什么人？你想说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86200" y="990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  <a:ea typeface="华文中宋"/>
              </a:rPr>
              <a:t>学了课文，女娲的哪一点精神打动了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65000" y="2997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不顾艰险为民造福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u=1444006554,1601230639&amp;gp=0"/>
          <p:cNvPicPr/>
          <p:nvPr/>
        </p:nvPicPr>
        <p:blipFill>
          <a:blip r:embed="rId1"/>
          <a:stretch/>
        </p:blipFill>
        <p:spPr>
          <a:xfrm>
            <a:off x="250920" y="836640"/>
            <a:ext cx="360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0" descr="1d18bc08e606f27b6159f3c8[1]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1235880" y="8380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我想对女娲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519120" y="17985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————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34960" y="297180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————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41800" y="4572000"/>
            <a:ext cx="42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——————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5 0.49942 L 0 -1.96532E-006 E">
                                      <p:cBhvr>
                                        <p:cTn id="29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Oval 3"/>
          <p:cNvSpPr/>
          <p:nvPr/>
        </p:nvSpPr>
        <p:spPr>
          <a:xfrm>
            <a:off x="395280" y="62064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692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762200" y="1844640"/>
            <a:ext cx="1585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冶炼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 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075280" y="2859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中宋"/>
              </a:rPr>
              <a:t>挣扎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916360" y="2781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(zh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中宋"/>
              </a:rPr>
              <a:t>ē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74920" y="36640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(x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中宋"/>
              </a:rPr>
              <a:t>ī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859280" y="37242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华文中宋"/>
              </a:rPr>
              <a:t>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中宋"/>
              </a:rPr>
              <a:t>熄灭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00720" y="4527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(lià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346560" y="450864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(y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中宋"/>
              </a:rPr>
              <a:t>ě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5940360" y="45165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华文中宋"/>
              </a:rPr>
              <a:t>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中宋"/>
              </a:rPr>
              <a:t>冶炼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075280" y="20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(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华文中宋"/>
              </a:rPr>
              <a:t>塌下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348000" y="1989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(t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中宋"/>
              </a:rPr>
              <a:t>ā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B472-A31B-4A76-842F-9AAD5442F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828720" y="198864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塌下     露出     燃烧     围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挣扎     熄灭     喷火     缺少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冶炼     液体     大盆     云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轰隆隆    熊熊大火    金光四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611280" y="90792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4360" y="9795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Oval 3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12720" y="836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图片9"/>
          <p:cNvPicPr/>
          <p:nvPr/>
        </p:nvPicPr>
        <p:blipFill>
          <a:blip r:embed="rId2"/>
          <a:stretch/>
        </p:blipFill>
        <p:spPr>
          <a:xfrm>
            <a:off x="140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图片9"/>
          <p:cNvPicPr/>
          <p:nvPr/>
        </p:nvPicPr>
        <p:blipFill>
          <a:blip r:embed="rId3"/>
          <a:stretch/>
        </p:blipFill>
        <p:spPr>
          <a:xfrm>
            <a:off x="284328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图片9"/>
          <p:cNvPicPr/>
          <p:nvPr/>
        </p:nvPicPr>
        <p:blipFill>
          <a:blip r:embed="rId4"/>
          <a:stretch/>
        </p:blipFill>
        <p:spPr>
          <a:xfrm>
            <a:off x="284328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图片9"/>
          <p:cNvPicPr/>
          <p:nvPr/>
        </p:nvPicPr>
        <p:blipFill>
          <a:blip r:embed="rId5"/>
          <a:stretch/>
        </p:blipFill>
        <p:spPr>
          <a:xfrm>
            <a:off x="435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图片9"/>
          <p:cNvPicPr/>
          <p:nvPr/>
        </p:nvPicPr>
        <p:blipFill>
          <a:blip r:embed="rId6"/>
          <a:stretch/>
        </p:blipFill>
        <p:spPr>
          <a:xfrm>
            <a:off x="284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图片9"/>
          <p:cNvPicPr/>
          <p:nvPr/>
        </p:nvPicPr>
        <p:blipFill>
          <a:blip r:embed="rId7"/>
          <a:stretch/>
        </p:blipFill>
        <p:spPr>
          <a:xfrm>
            <a:off x="5796000" y="3284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图片9"/>
          <p:cNvPicPr/>
          <p:nvPr/>
        </p:nvPicPr>
        <p:blipFill>
          <a:blip r:embed="rId8"/>
          <a:stretch/>
        </p:blipFill>
        <p:spPr>
          <a:xfrm>
            <a:off x="435600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图片9"/>
          <p:cNvPicPr/>
          <p:nvPr/>
        </p:nvPicPr>
        <p:blipFill>
          <a:blip r:embed="rId9"/>
          <a:stretch/>
        </p:blipFill>
        <p:spPr>
          <a:xfrm>
            <a:off x="1403280" y="4797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图片9"/>
          <p:cNvPicPr/>
          <p:nvPr/>
        </p:nvPicPr>
        <p:blipFill>
          <a:blip r:embed="rId10"/>
          <a:stretch/>
        </p:blipFill>
        <p:spPr>
          <a:xfrm>
            <a:off x="7236000" y="17733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图片9"/>
          <p:cNvPicPr/>
          <p:nvPr/>
        </p:nvPicPr>
        <p:blipFill>
          <a:blip r:embed="rId11"/>
          <a:stretch/>
        </p:blipFill>
        <p:spPr>
          <a:xfrm>
            <a:off x="579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图片9"/>
          <p:cNvPicPr/>
          <p:nvPr/>
        </p:nvPicPr>
        <p:blipFill>
          <a:blip r:embed="rId12"/>
          <a:stretch/>
        </p:blipFill>
        <p:spPr>
          <a:xfrm>
            <a:off x="4356000" y="17715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图片9"/>
          <p:cNvPicPr/>
          <p:nvPr/>
        </p:nvPicPr>
        <p:blipFill>
          <a:blip r:embed="rId13"/>
          <a:stretch/>
        </p:blipFill>
        <p:spPr>
          <a:xfrm>
            <a:off x="1403280" y="3284640"/>
            <a:ext cx="936720" cy="936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476360" y="1844280"/>
            <a:ext cx="6696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隆     塌     露     燃     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图片9"/>
          <p:cNvPicPr/>
          <p:nvPr/>
        </p:nvPicPr>
        <p:blipFill>
          <a:blip r:embed="rId14"/>
          <a:stretch/>
        </p:blipFill>
        <p:spPr>
          <a:xfrm>
            <a:off x="7236000" y="3284640"/>
            <a:ext cx="936360" cy="936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1476360" y="33256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挣     熄     喷     缺     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1476360" y="4910040"/>
            <a:ext cx="374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冶     炼     盆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2485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图片9"/>
          <p:cNvPicPr/>
          <p:nvPr/>
        </p:nvPicPr>
        <p:blipFill>
          <a:blip r:embed="rId1"/>
          <a:stretch/>
        </p:blipFill>
        <p:spPr>
          <a:xfrm>
            <a:off x="4356000" y="3860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89" name="Oval 3"/>
          <p:cNvSpPr/>
          <p:nvPr/>
        </p:nvSpPr>
        <p:spPr>
          <a:xfrm>
            <a:off x="539640" y="765000"/>
            <a:ext cx="208764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83664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华文新魏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图片9"/>
          <p:cNvPicPr/>
          <p:nvPr/>
        </p:nvPicPr>
        <p:blipFill>
          <a:blip r:embed="rId2"/>
          <a:stretch/>
        </p:blipFill>
        <p:spPr>
          <a:xfrm>
            <a:off x="2050920" y="1773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fg1"/>
          <p:cNvPicPr/>
          <p:nvPr/>
        </p:nvPicPr>
        <p:blipFill>
          <a:blip r:embed="rId3"/>
          <a:stretch/>
        </p:blipFill>
        <p:spPr>
          <a:xfrm>
            <a:off x="324000" y="5805360"/>
            <a:ext cx="8640720" cy="6573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2495880" y="1773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728240" y="3860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图片9"/>
          <p:cNvPicPr/>
          <p:nvPr/>
        </p:nvPicPr>
        <p:blipFill>
          <a:blip r:embed="rId4"/>
          <a:stretch/>
        </p:blipFill>
        <p:spPr>
          <a:xfrm>
            <a:off x="4284720" y="177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图片9"/>
          <p:cNvPicPr/>
          <p:nvPr/>
        </p:nvPicPr>
        <p:blipFill>
          <a:blip r:embed="rId5"/>
          <a:stretch/>
        </p:blipFill>
        <p:spPr>
          <a:xfrm>
            <a:off x="6516720" y="177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图片9"/>
          <p:cNvPicPr/>
          <p:nvPr/>
        </p:nvPicPr>
        <p:blipFill>
          <a:blip r:embed="rId6"/>
          <a:stretch/>
        </p:blipFill>
        <p:spPr>
          <a:xfrm>
            <a:off x="2124000" y="3789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图片9"/>
          <p:cNvPicPr/>
          <p:nvPr/>
        </p:nvPicPr>
        <p:blipFill>
          <a:blip r:embed="rId7"/>
          <a:stretch/>
        </p:blipFill>
        <p:spPr>
          <a:xfrm>
            <a:off x="6588000" y="3860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2567520" y="3789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6960240" y="39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4655160" y="1773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960240" y="1773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959200" y="155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99"/>
                </a:solidFill>
                <a:latin typeface="Comic Sans MS"/>
                <a:ea typeface="华文中宋"/>
              </a:rPr>
              <a:t>课文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26920" y="2924280"/>
            <a:ext cx="7417080" cy="228852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（天塌下一块，地被震裂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人们被水火所围困，女娲把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们从水火中救了出来。又拣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彩石冶炼，补好了天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48_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228600" y="1484280"/>
            <a:ext cx="671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72200" y="632448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60640" y="1341360"/>
            <a:ext cx="459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24000" y="134136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从女娲创造了人类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上到处是欢歌笑语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一直过着快乐幸福的生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1T05:00:32Z</dcterms:created>
  <dc:creator/>
  <dc:description/>
  <cp:keywords>幻灯片之家 http:/www.eeppt.com</cp:keywords>
  <dc:language>en-US</dc:language>
  <cp:lastModifiedBy/>
  <dcterms:modified xsi:type="dcterms:W3CDTF">2015-07-12T08:38:37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