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BFF-14AF-490E-84C5-72DA8EBD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22A-12BF-46EC-B9C3-8ABF8A8B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467-ED29-486C-A2B6-2564BB10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B87-1B9E-492A-B9C0-4108BCD0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2FD-7520-45D6-9A76-682079A0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B4D-3BF7-4AC4-8195-246C1315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3BD-EE4C-4A59-B33D-AAA338C1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13D-D9D5-4481-8854-965109E1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5DE-B844-43A8-A51D-209BDEDA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516-12EF-49AD-A5F8-04920BDE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849-6D8F-43D2-BE66-A2D2D185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FBA-ED5B-4F06-AE4C-1B64121A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F340-A43A-4EEA-A591-2FF41FE47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4437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2720" y="3429000"/>
            <a:ext cx="3959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欧式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438-E123-4392-AAEF-54C56F5917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4:36:58Z</dcterms:created>
  <dc:creator/>
  <dc:description/>
  <cp:keywords>幻灯片之家 http:/www.eeppt.com</cp:keywords>
  <dc:language>en-US</dc:language>
  <cp:lastModifiedBy/>
  <dcterms:modified xsi:type="dcterms:W3CDTF">2015-07-12T08:14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