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185-C943-4B75-A054-C4B5311D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149-5AC5-4A64-9B6A-8F02AAF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DA4-2103-4BE3-BDD7-F6BDCE47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AF7-6B56-479C-BD52-CC31C5C6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49F-852F-4AB4-A3CC-892F4FD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C9E-6429-4A76-9C2A-F358509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FA8-8ACA-4E3F-A1F0-41B95CDA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4CB-E405-4B34-B475-F1ED4CE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C10-8A2B-4F50-97A4-AAB2391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5A2-8F7F-4D46-B3D1-F8B8FD5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095-D900-437A-B5B4-D94E90E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B53-DBC4-4978-B264-1D069CDA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9F0-7CB0-4A11-855D-0F36F323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3280" y="1557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人教新课标 六年级 语文  上册  第七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5400" y="2781360"/>
            <a:ext cx="38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跑进家来的松鼠课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83664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哈哈大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咱们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天性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咱们的松鼠自然也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28000" y="6165720"/>
            <a:ext cx="466560" cy="322560"/>
          </a:xfrm>
          <a:custGeom>
            <a:avLst/>
            <a:gdLst>
              <a:gd name="textAreaLeft" fmla="*/ 20160 w 466560"/>
              <a:gd name="textAreaRight" fmla="*/ 446400 w 466560"/>
              <a:gd name="textAreaTop" fmla="*/ 20160 h 322560"/>
              <a:gd name="textAreaBottom" fmla="*/ 302400 h 322560"/>
            </a:gdLst>
            <a:ahLst/>
            <a:rect l="textAreaLeft" t="textAreaTop" r="textAreaRight" b="textAreaBottom"/>
            <a:pathLst>
              <a:path w="31232" h="21600">
                <a:moveTo>
                  <a:pt x="0" y="0"/>
                </a:moveTo>
                <a:lnTo>
                  <a:pt x="31232" y="0"/>
                </a:lnTo>
                <a:lnTo>
                  <a:pt x="31232" y="21600"/>
                </a:lnTo>
                <a:lnTo>
                  <a:pt x="0" y="21600"/>
                </a:lnTo>
                <a:close/>
              </a:path>
              <a:path fill="lightenLess" w="31232" h="21600">
                <a:moveTo>
                  <a:pt x="0" y="0"/>
                </a:moveTo>
                <a:lnTo>
                  <a:pt x="31232" y="0"/>
                </a:lnTo>
                <a:lnTo>
                  <a:pt x="29882" y="1350"/>
                </a:lnTo>
                <a:lnTo>
                  <a:pt x="1350" y="1350"/>
                </a:lnTo>
                <a:close/>
              </a:path>
              <a:path fill="darken" w="31232" h="21600">
                <a:moveTo>
                  <a:pt x="31232" y="0"/>
                </a:moveTo>
                <a:lnTo>
                  <a:pt x="31232" y="21600"/>
                </a:lnTo>
                <a:lnTo>
                  <a:pt x="29882" y="20250"/>
                </a:lnTo>
                <a:lnTo>
                  <a:pt x="29882" y="1350"/>
                </a:lnTo>
                <a:close/>
              </a:path>
              <a:path fill="darkenLess" w="31232" h="21600">
                <a:moveTo>
                  <a:pt x="312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82" y="20250"/>
                </a:lnTo>
                <a:close/>
              </a:path>
              <a:path fill="lighten" w="312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32" h="21600">
                <a:moveTo>
                  <a:pt x="8572" y="10800"/>
                </a:moveTo>
                <a:lnTo>
                  <a:pt x="22660" y="3756"/>
                </a:lnTo>
                <a:lnTo>
                  <a:pt x="2266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1773360"/>
            <a:ext cx="705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一天，它干脆失踪了，哪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也找不到。也许它跑到花园或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里去了吧？我们心里空落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1773360"/>
            <a:ext cx="705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一天，它干脆失踪了，哪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也找不到。也许它跑到花园或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里去了吧？我们心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空落落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44000" y="6308640"/>
            <a:ext cx="395280" cy="250920"/>
          </a:xfrm>
          <a:custGeom>
            <a:avLst/>
            <a:gdLst>
              <a:gd name="textAreaLeft" fmla="*/ 15480 w 395280"/>
              <a:gd name="textAreaRight" fmla="*/ 379800 w 395280"/>
              <a:gd name="textAreaTop" fmla="*/ 15480 h 250920"/>
              <a:gd name="textAreaBottom" fmla="*/ 235440 h 250920"/>
            </a:gdLst>
            <a:ahLst/>
            <a:rect l="textAreaLeft" t="textAreaTop" r="textAreaRight" b="textAreaBottom"/>
            <a:pathLst>
              <a:path w="34009" h="21600">
                <a:moveTo>
                  <a:pt x="0" y="0"/>
                </a:moveTo>
                <a:lnTo>
                  <a:pt x="34009" y="0"/>
                </a:lnTo>
                <a:lnTo>
                  <a:pt x="34009" y="21600"/>
                </a:lnTo>
                <a:lnTo>
                  <a:pt x="0" y="21600"/>
                </a:lnTo>
                <a:close/>
              </a:path>
              <a:path fill="lightenLess" w="34009" h="21600">
                <a:moveTo>
                  <a:pt x="0" y="0"/>
                </a:moveTo>
                <a:lnTo>
                  <a:pt x="34009" y="0"/>
                </a:lnTo>
                <a:lnTo>
                  <a:pt x="32659" y="1350"/>
                </a:lnTo>
                <a:lnTo>
                  <a:pt x="1350" y="1350"/>
                </a:lnTo>
                <a:close/>
              </a:path>
              <a:path fill="darken" w="34009" h="21600">
                <a:moveTo>
                  <a:pt x="34009" y="0"/>
                </a:moveTo>
                <a:lnTo>
                  <a:pt x="34009" y="21600"/>
                </a:lnTo>
                <a:lnTo>
                  <a:pt x="32659" y="20250"/>
                </a:lnTo>
                <a:lnTo>
                  <a:pt x="32659" y="1350"/>
                </a:lnTo>
                <a:close/>
              </a:path>
              <a:path fill="darkenLess" w="34009" h="21600">
                <a:moveTo>
                  <a:pt x="340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659" y="20250"/>
                </a:lnTo>
                <a:close/>
              </a:path>
              <a:path fill="lighten" w="340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009" h="21600">
                <a:moveTo>
                  <a:pt x="9961" y="10800"/>
                </a:moveTo>
                <a:lnTo>
                  <a:pt x="24048" y="3756"/>
                </a:lnTo>
                <a:lnTo>
                  <a:pt x="2404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434-6922-46CB-9652-E28BE23B5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549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907920"/>
            <a:ext cx="770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它整天满屋乱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跑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在橱柜和架子上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跳来跳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灵活得惊人，从来没有碰掉过一样东西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有时，松鼠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到我的肩上，用小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蹭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脸，还轻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咬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耳朵，我想它是又想吃糖了。可我又上哪儿给它找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爸爸哈哈大笑，说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怎么没想到这一点呢！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咱们家的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松鼠是在储备冬粮呢。森林里的松鼠到了秋天，就要开始储备冬粮。这是松鼠的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天性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咱们的松鼠也自然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不甘落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空落落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28000" y="6237360"/>
            <a:ext cx="395280" cy="322200"/>
          </a:xfrm>
          <a:custGeom>
            <a:avLst/>
            <a:gdLst>
              <a:gd name="textAreaLeft" fmla="*/ 20160 w 395280"/>
              <a:gd name="textAreaRight" fmla="*/ 375480 w 39528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26494" h="21600">
                <a:moveTo>
                  <a:pt x="0" y="0"/>
                </a:moveTo>
                <a:lnTo>
                  <a:pt x="26494" y="0"/>
                </a:lnTo>
                <a:lnTo>
                  <a:pt x="26494" y="21600"/>
                </a:lnTo>
                <a:lnTo>
                  <a:pt x="0" y="21600"/>
                </a:lnTo>
                <a:close/>
              </a:path>
              <a:path fill="lightenLess" w="26494" h="21600">
                <a:moveTo>
                  <a:pt x="0" y="0"/>
                </a:moveTo>
                <a:lnTo>
                  <a:pt x="26494" y="0"/>
                </a:lnTo>
                <a:lnTo>
                  <a:pt x="25144" y="1350"/>
                </a:lnTo>
                <a:lnTo>
                  <a:pt x="1350" y="1350"/>
                </a:lnTo>
                <a:close/>
              </a:path>
              <a:path fill="darken" w="26494" h="21600">
                <a:moveTo>
                  <a:pt x="26494" y="0"/>
                </a:moveTo>
                <a:lnTo>
                  <a:pt x="26494" y="21600"/>
                </a:lnTo>
                <a:lnTo>
                  <a:pt x="25144" y="20250"/>
                </a:lnTo>
                <a:lnTo>
                  <a:pt x="25144" y="1350"/>
                </a:lnTo>
                <a:close/>
              </a:path>
              <a:path fill="darkenLess" w="26494" h="21600">
                <a:moveTo>
                  <a:pt x="264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144" y="20250"/>
                </a:lnTo>
                <a:close/>
              </a:path>
              <a:path fill="lighten" w="264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94" h="21600">
                <a:moveTo>
                  <a:pt x="6203" y="10800"/>
                </a:moveTo>
                <a:lnTo>
                  <a:pt x="20291" y="3756"/>
                </a:lnTo>
                <a:lnTo>
                  <a:pt x="2029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2492280"/>
            <a:ext cx="66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学习本文的写法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自己与动物或别人与动物的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6453360"/>
            <a:ext cx="393480" cy="250560"/>
          </a:xfrm>
          <a:custGeom>
            <a:avLst/>
            <a:gdLst>
              <a:gd name="textAreaLeft" fmla="*/ 15480 w 393480"/>
              <a:gd name="textAreaRight" fmla="*/ 378000 w 393480"/>
              <a:gd name="textAreaTop" fmla="*/ 15480 h 250560"/>
              <a:gd name="textAreaBottom" fmla="*/ 235080 h 250560"/>
            </a:gdLst>
            <a:ahLst/>
            <a:rect l="textAreaLeft" t="textAreaTop" r="textAreaRight" b="textAreaBottom"/>
            <a:pathLst>
              <a:path w="33903" h="21600">
                <a:moveTo>
                  <a:pt x="0" y="0"/>
                </a:moveTo>
                <a:lnTo>
                  <a:pt x="33903" y="0"/>
                </a:lnTo>
                <a:lnTo>
                  <a:pt x="33903" y="21600"/>
                </a:lnTo>
                <a:lnTo>
                  <a:pt x="0" y="21600"/>
                </a:lnTo>
                <a:close/>
              </a:path>
              <a:path fill="lightenLess" w="33903" h="21600">
                <a:moveTo>
                  <a:pt x="0" y="0"/>
                </a:moveTo>
                <a:lnTo>
                  <a:pt x="33903" y="0"/>
                </a:lnTo>
                <a:lnTo>
                  <a:pt x="32553" y="1350"/>
                </a:lnTo>
                <a:lnTo>
                  <a:pt x="1350" y="1350"/>
                </a:lnTo>
                <a:close/>
              </a:path>
              <a:path fill="darken" w="33903" h="21600">
                <a:moveTo>
                  <a:pt x="33903" y="0"/>
                </a:moveTo>
                <a:lnTo>
                  <a:pt x="33903" y="21600"/>
                </a:lnTo>
                <a:lnTo>
                  <a:pt x="32553" y="20250"/>
                </a:lnTo>
                <a:lnTo>
                  <a:pt x="32553" y="1350"/>
                </a:lnTo>
                <a:close/>
              </a:path>
              <a:path fill="darkenLess" w="33903" h="21600">
                <a:moveTo>
                  <a:pt x="339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553" y="20250"/>
                </a:lnTo>
                <a:close/>
              </a:path>
              <a:path fill="lighten" w="339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903" h="21600">
                <a:moveTo>
                  <a:pt x="9908" y="10800"/>
                </a:moveTo>
                <a:lnTo>
                  <a:pt x="23995" y="3756"/>
                </a:lnTo>
                <a:lnTo>
                  <a:pt x="23995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43280" y="62064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小练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916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读读课文，说说松鼠在“我”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做了哪些事？你从中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2050920" y="602280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950080"/>
            <a:ext cx="432000" cy="287280"/>
          </a:xfrm>
          <a:custGeom>
            <a:avLst/>
            <a:gdLst>
              <a:gd name="textAreaLeft" fmla="*/ 17640 w 432000"/>
              <a:gd name="textAreaRight" fmla="*/ 414360 w 43200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118" y="1350"/>
                </a:lnTo>
                <a:lnTo>
                  <a:pt x="1350" y="135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118" y="20250"/>
                </a:lnTo>
                <a:lnTo>
                  <a:pt x="31118" y="135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118" y="2025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68" h="21600">
                <a:moveTo>
                  <a:pt x="9190" y="3756"/>
                </a:moveTo>
                <a:lnTo>
                  <a:pt x="23278" y="10800"/>
                </a:lnTo>
                <a:lnTo>
                  <a:pt x="919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950080"/>
            <a:ext cx="432000" cy="322200"/>
          </a:xfrm>
          <a:custGeom>
            <a:avLst/>
            <a:gdLst>
              <a:gd name="textAreaLeft" fmla="*/ 20160 w 432000"/>
              <a:gd name="textAreaRight" fmla="*/ 412200 w 43200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28953" h="21600">
                <a:moveTo>
                  <a:pt x="0" y="0"/>
                </a:moveTo>
                <a:lnTo>
                  <a:pt x="28953" y="0"/>
                </a:lnTo>
                <a:lnTo>
                  <a:pt x="28953" y="21600"/>
                </a:lnTo>
                <a:lnTo>
                  <a:pt x="0" y="21600"/>
                </a:lnTo>
                <a:close/>
              </a:path>
              <a:path fill="lightenLess" w="28953" h="21600">
                <a:moveTo>
                  <a:pt x="0" y="0"/>
                </a:moveTo>
                <a:lnTo>
                  <a:pt x="28953" y="0"/>
                </a:lnTo>
                <a:lnTo>
                  <a:pt x="27603" y="1350"/>
                </a:lnTo>
                <a:lnTo>
                  <a:pt x="1350" y="1350"/>
                </a:lnTo>
                <a:close/>
              </a:path>
              <a:path fill="darken" w="28953" h="21600">
                <a:moveTo>
                  <a:pt x="28953" y="0"/>
                </a:moveTo>
                <a:lnTo>
                  <a:pt x="28953" y="21600"/>
                </a:lnTo>
                <a:lnTo>
                  <a:pt x="27603" y="20250"/>
                </a:lnTo>
                <a:lnTo>
                  <a:pt x="27603" y="1350"/>
                </a:lnTo>
                <a:close/>
              </a:path>
              <a:path fill="darkenLess" w="28953" h="21600">
                <a:moveTo>
                  <a:pt x="2895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603" y="20250"/>
                </a:lnTo>
                <a:close/>
              </a:path>
              <a:path fill="lighten" w="2895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953" h="21600">
                <a:moveTo>
                  <a:pt x="7433" y="3756"/>
                </a:moveTo>
                <a:lnTo>
                  <a:pt x="21520" y="10800"/>
                </a:lnTo>
                <a:lnTo>
                  <a:pt x="743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5950080"/>
            <a:ext cx="432000" cy="323640"/>
          </a:xfrm>
          <a:custGeom>
            <a:avLst/>
            <a:gdLst>
              <a:gd name="textAreaLeft" fmla="*/ 20160 w 432000"/>
              <a:gd name="textAreaRight" fmla="*/ 411840 w 43200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28824" h="21600">
                <a:moveTo>
                  <a:pt x="0" y="0"/>
                </a:moveTo>
                <a:lnTo>
                  <a:pt x="28824" y="0"/>
                </a:lnTo>
                <a:lnTo>
                  <a:pt x="28824" y="21600"/>
                </a:lnTo>
                <a:lnTo>
                  <a:pt x="0" y="21600"/>
                </a:lnTo>
                <a:close/>
              </a:path>
              <a:path fill="lightenLess" w="28824" h="21600">
                <a:moveTo>
                  <a:pt x="0" y="0"/>
                </a:moveTo>
                <a:lnTo>
                  <a:pt x="28824" y="0"/>
                </a:lnTo>
                <a:lnTo>
                  <a:pt x="27474" y="1350"/>
                </a:lnTo>
                <a:lnTo>
                  <a:pt x="1350" y="1350"/>
                </a:lnTo>
                <a:close/>
              </a:path>
              <a:path fill="darken" w="28824" h="21600">
                <a:moveTo>
                  <a:pt x="28824" y="0"/>
                </a:moveTo>
                <a:lnTo>
                  <a:pt x="28824" y="21600"/>
                </a:lnTo>
                <a:lnTo>
                  <a:pt x="27474" y="20250"/>
                </a:lnTo>
                <a:lnTo>
                  <a:pt x="27474" y="1350"/>
                </a:lnTo>
                <a:close/>
              </a:path>
              <a:path fill="darkenLess" w="28824" h="21600">
                <a:moveTo>
                  <a:pt x="28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74" y="20250"/>
                </a:lnTo>
                <a:close/>
              </a:path>
              <a:path fill="lighten" w="28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24" h="21600">
                <a:moveTo>
                  <a:pt x="7368" y="3756"/>
                </a:moveTo>
                <a:lnTo>
                  <a:pt x="21456" y="10800"/>
                </a:lnTo>
                <a:lnTo>
                  <a:pt x="736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5950080"/>
            <a:ext cx="432000" cy="323640"/>
          </a:xfrm>
          <a:custGeom>
            <a:avLst/>
            <a:gdLst>
              <a:gd name="textAreaLeft" fmla="*/ 20160 w 432000"/>
              <a:gd name="textAreaRight" fmla="*/ 411840 w 43200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28824" h="21600">
                <a:moveTo>
                  <a:pt x="0" y="0"/>
                </a:moveTo>
                <a:lnTo>
                  <a:pt x="28824" y="0"/>
                </a:lnTo>
                <a:lnTo>
                  <a:pt x="28824" y="21600"/>
                </a:lnTo>
                <a:lnTo>
                  <a:pt x="0" y="21600"/>
                </a:lnTo>
                <a:close/>
              </a:path>
              <a:path fill="lightenLess" w="28824" h="21600">
                <a:moveTo>
                  <a:pt x="0" y="0"/>
                </a:moveTo>
                <a:lnTo>
                  <a:pt x="28824" y="0"/>
                </a:lnTo>
                <a:lnTo>
                  <a:pt x="27474" y="1350"/>
                </a:lnTo>
                <a:lnTo>
                  <a:pt x="1350" y="1350"/>
                </a:lnTo>
                <a:close/>
              </a:path>
              <a:path fill="darken" w="28824" h="21600">
                <a:moveTo>
                  <a:pt x="28824" y="0"/>
                </a:moveTo>
                <a:lnTo>
                  <a:pt x="28824" y="21600"/>
                </a:lnTo>
                <a:lnTo>
                  <a:pt x="27474" y="20250"/>
                </a:lnTo>
                <a:lnTo>
                  <a:pt x="27474" y="1350"/>
                </a:lnTo>
                <a:close/>
              </a:path>
              <a:path fill="darkenLess" w="28824" h="21600">
                <a:moveTo>
                  <a:pt x="28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74" y="20250"/>
                </a:lnTo>
                <a:close/>
              </a:path>
              <a:path fill="lighten" w="28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24" h="21600">
                <a:moveTo>
                  <a:pt x="7368" y="3756"/>
                </a:moveTo>
                <a:lnTo>
                  <a:pt x="21456" y="10800"/>
                </a:lnTo>
                <a:lnTo>
                  <a:pt x="736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5950080"/>
            <a:ext cx="431640" cy="323640"/>
          </a:xfrm>
          <a:custGeom>
            <a:avLst/>
            <a:gdLst>
              <a:gd name="textAreaLeft" fmla="*/ 20160 w 431640"/>
              <a:gd name="textAreaRight" fmla="*/ 411480 w 43164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3756"/>
                </a:moveTo>
                <a:lnTo>
                  <a:pt x="21444" y="10800"/>
                </a:lnTo>
                <a:lnTo>
                  <a:pt x="73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5950080"/>
            <a:ext cx="504720" cy="3952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5280"/>
              <a:gd name="textAreaBottom" fmla="*/ 370800 h 395280"/>
            </a:gdLst>
            <a:ahLst/>
            <a:rect l="textAreaLeft" t="textAreaTop" r="textAreaRight" b="textAreaBottom"/>
            <a:pathLst>
              <a:path w="27575" h="21600">
                <a:moveTo>
                  <a:pt x="0" y="0"/>
                </a:moveTo>
                <a:lnTo>
                  <a:pt x="27575" y="0"/>
                </a:lnTo>
                <a:lnTo>
                  <a:pt x="27575" y="21600"/>
                </a:lnTo>
                <a:lnTo>
                  <a:pt x="0" y="21600"/>
                </a:lnTo>
                <a:close/>
              </a:path>
              <a:path fill="lightenLess" w="27575" h="21600">
                <a:moveTo>
                  <a:pt x="0" y="0"/>
                </a:moveTo>
                <a:lnTo>
                  <a:pt x="27575" y="0"/>
                </a:lnTo>
                <a:lnTo>
                  <a:pt x="26225" y="1350"/>
                </a:lnTo>
                <a:lnTo>
                  <a:pt x="1350" y="1350"/>
                </a:lnTo>
                <a:close/>
              </a:path>
              <a:path fill="darken" w="27575" h="21600">
                <a:moveTo>
                  <a:pt x="27575" y="0"/>
                </a:moveTo>
                <a:lnTo>
                  <a:pt x="27575" y="21600"/>
                </a:lnTo>
                <a:lnTo>
                  <a:pt x="26225" y="20250"/>
                </a:lnTo>
                <a:lnTo>
                  <a:pt x="26225" y="1350"/>
                </a:lnTo>
                <a:close/>
              </a:path>
              <a:path fill="darkenLess" w="27575" h="21600">
                <a:moveTo>
                  <a:pt x="275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25" y="20250"/>
                </a:lnTo>
                <a:close/>
              </a:path>
              <a:path fill="lighten" w="275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5878440"/>
            <a:ext cx="504720" cy="3952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5280"/>
              <a:gd name="textAreaBottom" fmla="*/ 370800 h 395280"/>
            </a:gdLst>
            <a:ahLst/>
            <a:rect l="textAreaLeft" t="textAreaTop" r="textAreaRight" b="textAreaBottom"/>
            <a:pathLst>
              <a:path w="27575" h="21600">
                <a:moveTo>
                  <a:pt x="0" y="0"/>
                </a:moveTo>
                <a:lnTo>
                  <a:pt x="27575" y="0"/>
                </a:lnTo>
                <a:lnTo>
                  <a:pt x="27575" y="21600"/>
                </a:lnTo>
                <a:lnTo>
                  <a:pt x="0" y="21600"/>
                </a:lnTo>
                <a:close/>
              </a:path>
              <a:path fill="lightenLess" w="27575" h="21600">
                <a:moveTo>
                  <a:pt x="0" y="0"/>
                </a:moveTo>
                <a:lnTo>
                  <a:pt x="27575" y="0"/>
                </a:lnTo>
                <a:lnTo>
                  <a:pt x="26225" y="1350"/>
                </a:lnTo>
                <a:lnTo>
                  <a:pt x="1350" y="1350"/>
                </a:lnTo>
                <a:close/>
              </a:path>
              <a:path fill="darken" w="27575" h="21600">
                <a:moveTo>
                  <a:pt x="27575" y="0"/>
                </a:moveTo>
                <a:lnTo>
                  <a:pt x="27575" y="21600"/>
                </a:lnTo>
                <a:lnTo>
                  <a:pt x="26225" y="20250"/>
                </a:lnTo>
                <a:lnTo>
                  <a:pt x="26225" y="1350"/>
                </a:lnTo>
                <a:close/>
              </a:path>
              <a:path fill="darkenLess" w="27575" h="21600">
                <a:moveTo>
                  <a:pt x="275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25" y="20250"/>
                </a:lnTo>
                <a:close/>
              </a:path>
              <a:path fill="lighten" w="275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5280" y="1125360"/>
            <a:ext cx="352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学习提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快速读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找出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思考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交流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悟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85080" y="6237360"/>
            <a:ext cx="466920" cy="3222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22200"/>
              <a:gd name="textAreaBottom" fmla="*/ 302400 h 322200"/>
            </a:gdLst>
            <a:ahLst/>
            <a:rect l="textAreaLeft" t="textAreaTop" r="textAreaRight" b="textAreaBottom"/>
            <a:pathLst>
              <a:path w="31291" h="21600">
                <a:moveTo>
                  <a:pt x="0" y="0"/>
                </a:moveTo>
                <a:lnTo>
                  <a:pt x="31291" y="0"/>
                </a:lnTo>
                <a:lnTo>
                  <a:pt x="31291" y="21600"/>
                </a:lnTo>
                <a:lnTo>
                  <a:pt x="0" y="21600"/>
                </a:lnTo>
                <a:close/>
              </a:path>
              <a:path fill="lightenLess" w="31291" h="21600">
                <a:moveTo>
                  <a:pt x="0" y="0"/>
                </a:moveTo>
                <a:lnTo>
                  <a:pt x="31291" y="0"/>
                </a:lnTo>
                <a:lnTo>
                  <a:pt x="29941" y="1350"/>
                </a:lnTo>
                <a:lnTo>
                  <a:pt x="1350" y="1350"/>
                </a:lnTo>
                <a:close/>
              </a:path>
              <a:path fill="darken" w="31291" h="21600">
                <a:moveTo>
                  <a:pt x="31291" y="0"/>
                </a:moveTo>
                <a:lnTo>
                  <a:pt x="31291" y="21600"/>
                </a:lnTo>
                <a:lnTo>
                  <a:pt x="29941" y="20250"/>
                </a:lnTo>
                <a:lnTo>
                  <a:pt x="29941" y="1350"/>
                </a:lnTo>
                <a:close/>
              </a:path>
              <a:path fill="darkenLess" w="31291" h="21600">
                <a:moveTo>
                  <a:pt x="312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941" y="20250"/>
                </a:lnTo>
                <a:close/>
              </a:path>
              <a:path fill="lighten" w="312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2421000"/>
            <a:ext cx="777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储备    干脆    失踪    空落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甘落后   千方百计   哭笑不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602136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10223" y="10800"/>
                </a:moveTo>
                <a:lnTo>
                  <a:pt x="24311" y="3756"/>
                </a:lnTo>
                <a:lnTo>
                  <a:pt x="2431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2360" y="1125360"/>
            <a:ext cx="30956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读读记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17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它整天满屋乱跑，在橱柜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架子上跳来跳去，动作灵活得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，从来没有碰掉过一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17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它整天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满屋乱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在橱柜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架子上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跳来跳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灵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从来没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碰掉过一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6093000"/>
            <a:ext cx="466920" cy="323640"/>
          </a:xfrm>
          <a:custGeom>
            <a:avLst/>
            <a:gdLst>
              <a:gd name="textAreaLeft" fmla="*/ 20160 w 466920"/>
              <a:gd name="textAreaRight" fmla="*/ 446760 w 46692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31152" h="21600">
                <a:moveTo>
                  <a:pt x="0" y="0"/>
                </a:moveTo>
                <a:lnTo>
                  <a:pt x="31152" y="0"/>
                </a:lnTo>
                <a:lnTo>
                  <a:pt x="31152" y="21600"/>
                </a:lnTo>
                <a:lnTo>
                  <a:pt x="0" y="21600"/>
                </a:lnTo>
                <a:close/>
              </a:path>
              <a:path fill="lightenLess" w="31152" h="21600">
                <a:moveTo>
                  <a:pt x="0" y="0"/>
                </a:moveTo>
                <a:lnTo>
                  <a:pt x="31152" y="0"/>
                </a:lnTo>
                <a:lnTo>
                  <a:pt x="29802" y="1350"/>
                </a:lnTo>
                <a:lnTo>
                  <a:pt x="1350" y="1350"/>
                </a:lnTo>
                <a:close/>
              </a:path>
              <a:path fill="darken" w="31152" h="21600">
                <a:moveTo>
                  <a:pt x="31152" y="0"/>
                </a:moveTo>
                <a:lnTo>
                  <a:pt x="31152" y="21600"/>
                </a:lnTo>
                <a:lnTo>
                  <a:pt x="29802" y="20250"/>
                </a:lnTo>
                <a:lnTo>
                  <a:pt x="29802" y="1350"/>
                </a:lnTo>
                <a:close/>
              </a:path>
              <a:path fill="darkenLess" w="31152" h="21600">
                <a:moveTo>
                  <a:pt x="311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02" y="20250"/>
                </a:lnTo>
                <a:close/>
              </a:path>
              <a:path fill="lighten" w="311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52" h="21600">
                <a:moveTo>
                  <a:pt x="8532" y="10800"/>
                </a:moveTo>
                <a:lnTo>
                  <a:pt x="22620" y="3756"/>
                </a:lnTo>
                <a:lnTo>
                  <a:pt x="2262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1700280"/>
            <a:ext cx="741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时，松鼠跳到我的肩上，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嘴蹭我的脸，还轻轻咬我的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朵，我想它是又想吃糖了。可我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哪儿给它找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1700280"/>
            <a:ext cx="741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时，松鼠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到我的肩上，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嘴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蹭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的脸，还轻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咬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的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朵，我想它是又想吃糖了。可我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哪儿给它找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6237360"/>
            <a:ext cx="466920" cy="322200"/>
          </a:xfrm>
          <a:custGeom>
            <a:avLst/>
            <a:gdLst>
              <a:gd name="textAreaLeft" fmla="*/ 20160 w 466920"/>
              <a:gd name="textAreaRight" fmla="*/ 447120 w 46692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31291" h="21600">
                <a:moveTo>
                  <a:pt x="0" y="0"/>
                </a:moveTo>
                <a:lnTo>
                  <a:pt x="31291" y="0"/>
                </a:lnTo>
                <a:lnTo>
                  <a:pt x="31291" y="21600"/>
                </a:lnTo>
                <a:lnTo>
                  <a:pt x="0" y="21600"/>
                </a:lnTo>
                <a:close/>
              </a:path>
              <a:path fill="lightenLess" w="31291" h="21600">
                <a:moveTo>
                  <a:pt x="0" y="0"/>
                </a:moveTo>
                <a:lnTo>
                  <a:pt x="31291" y="0"/>
                </a:lnTo>
                <a:lnTo>
                  <a:pt x="29941" y="1350"/>
                </a:lnTo>
                <a:lnTo>
                  <a:pt x="1350" y="1350"/>
                </a:lnTo>
                <a:close/>
              </a:path>
              <a:path fill="darken" w="31291" h="21600">
                <a:moveTo>
                  <a:pt x="31291" y="0"/>
                </a:moveTo>
                <a:lnTo>
                  <a:pt x="31291" y="21600"/>
                </a:lnTo>
                <a:lnTo>
                  <a:pt x="29941" y="20250"/>
                </a:lnTo>
                <a:lnTo>
                  <a:pt x="29941" y="1350"/>
                </a:lnTo>
                <a:close/>
              </a:path>
              <a:path fill="darkenLess" w="31291" h="21600">
                <a:moveTo>
                  <a:pt x="312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941" y="20250"/>
                </a:lnTo>
                <a:close/>
              </a:path>
              <a:path fill="lighten" w="312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91" h="21600">
                <a:moveTo>
                  <a:pt x="8602" y="10800"/>
                </a:moveTo>
                <a:lnTo>
                  <a:pt x="22689" y="3756"/>
                </a:lnTo>
                <a:lnTo>
                  <a:pt x="2268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83664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哈哈大笑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咱们家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咱们的松鼠自然也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17:38Z</dcterms:created>
  <dc:creator/>
  <dc:description/>
  <cp:keywords>幻灯片之家 http:/www.eeppt.com</cp:keywords>
  <dc:language>en-US</dc:language>
  <cp:lastModifiedBy/>
  <dcterms:modified xsi:type="dcterms:W3CDTF">2015-07-12T09:29:14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