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4FC-3556-445A-893F-7A3D006B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105728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1120" y="4020840"/>
            <a:ext cx="105728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701-E781-4F87-BA67-B69B6197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1120" y="40208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59120" y="40208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D101-A537-48E9-9169-6254F607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5920" y="14954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190720" y="14954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1120" y="40208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5920" y="40208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190720" y="40208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50D1-49BF-4AAB-AB14-F77E9F73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F3F5-3B97-4126-9424-147A2328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1120" y="1495440"/>
            <a:ext cx="105728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6C58-0AA1-424F-A94D-FA9541EE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105728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030D-5588-47DD-9393-1956EF38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3DDC-5680-49AE-A00F-1C66FA07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5BCA-C0FF-4951-BDB3-9E659965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40160" y="644040"/>
            <a:ext cx="907416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FB23-DBB9-4108-9F08-6C86286A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1120" y="40208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0A96-C09E-4D4E-BEDF-CAFA26A0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1120" y="1495440"/>
            <a:ext cx="105728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2615-E3C8-4891-AE3C-3146EAC3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59120" y="40208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CE50-C13D-48B1-A678-44DF82E6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1120" y="4020840"/>
            <a:ext cx="105728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D190-37E6-4452-81F0-BF92CC52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105728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1120" y="4020840"/>
            <a:ext cx="105728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8613-47B7-4A5E-BD1C-8B6DD374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1120" y="40208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459120" y="40208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294C-C095-4536-88DE-C82BFD77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15920" y="14954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190720" y="14954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1120" y="40208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15920" y="40208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190720" y="40208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2E55-E502-476B-8CDD-9712CB9D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2A968-DAB8-409F-BC84-1FA7FBE0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1120" y="1495440"/>
            <a:ext cx="105728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DC8D0-F4E2-4845-B315-54ADAF23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105728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7CEF6-12F4-4AE7-A8DF-78D0CEB1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1D0F0-77EA-4A20-98BC-5A9EDEAC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0AD66-3FC0-4297-9189-7A620B03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105728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9AD-3287-45A0-B876-D7151510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40160" y="644040"/>
            <a:ext cx="907416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FF5A-555A-460E-B4D7-04C3005D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1120" y="40208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6D48E-09E1-4368-8C1A-C352307F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59120" y="40208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72879-4DBB-4CD1-A46B-23FDEB33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1120" y="4020840"/>
            <a:ext cx="105728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6E655-BCF6-4AA5-9E17-DDEE6436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105728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41120" y="4020840"/>
            <a:ext cx="105728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6A7E4-07BB-47B2-B3A1-4D71CF74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41120" y="40208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459120" y="40208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1E761-6A4A-46F0-ABC8-2851673D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15920" y="14954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190720" y="14954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41120" y="40208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615920" y="40208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8190720" y="40208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262AA-DB3F-44CF-ADFF-963F970E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5B4AB-BA6A-4B64-96BF-B6B6763A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041120" y="1495440"/>
            <a:ext cx="10572840" cy="48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D0127-C961-40B3-A216-AEA25A05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105728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6CDBB-A1C5-4C76-BB9C-9C639F03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0CB-A9D2-41FE-B7C0-C4FA9369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C41AB-7AE6-4E9F-9C7E-60B43C9C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D59E8-8B99-4680-8796-5B6B1553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540160" y="644040"/>
            <a:ext cx="907416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FCF1E-7648-462C-8839-0980B8C2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41120" y="40208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E55D2-C1B3-4211-A12A-FC85ADC0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59120" y="40208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19246-1C14-4739-A069-374468DB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41120" y="4020840"/>
            <a:ext cx="105728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3DB47-7833-47D1-A909-FC5DDB32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105728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041120" y="4020840"/>
            <a:ext cx="105728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89CDD-F632-434C-AF29-624CCF85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41120" y="40208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459120" y="40208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7A91E-1EC4-45FD-BE69-5C3D7E3E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15920" y="14954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190720" y="14954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041120" y="40208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615920" y="40208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8190720" y="4020840"/>
            <a:ext cx="340416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41A28-D75C-43C4-96DA-6E8194E5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E6D-6C97-40F1-8AEF-52F82F08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40160" y="644040"/>
            <a:ext cx="907416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F97-730D-44E8-9BDD-EB65A01B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1120" y="40208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C9A-3D22-45F9-829F-460BC4BB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59120" y="40208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794-FC15-42C6-A511-74DE213B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1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59120" y="1495440"/>
            <a:ext cx="515952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1120" y="4020840"/>
            <a:ext cx="10572840" cy="23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7882-FA26-4AF2-8F09-D4B3292F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71F5-F9C3-440B-9D84-85069A972B4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67AA-C79C-4A16-B1A1-632D322BE7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t">
            <a:normAutofit fontScale="85000"/>
          </a:bodyPr>
          <a:p>
            <a:pPr marL="373320" indent="-373320">
              <a:spcBef>
                <a:spcPts val="1026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499320" indent="-499320">
              <a:spcBef>
                <a:spcPts val="1026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997200" indent="-997200">
              <a:spcBef>
                <a:spcPts val="1026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1495080" indent="-1495080">
              <a:spcBef>
                <a:spcPts val="1026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1992960" indent="-1992960">
              <a:spcBef>
                <a:spcPts val="1026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1992960" indent="-1992960">
              <a:spcBef>
                <a:spcPts val="1026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1992960" indent="-1992960">
              <a:spcBef>
                <a:spcPts val="1026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C975-DAB9-44FD-9CD9-95F5F19F3FA0}" type="datetime">
              <a:rPr b="0" lang="zh-CN" sz="15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117360" rIns="117360" tIns="58680" bIns="58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6054-8836-43A2-A352-FEE62FB398AC}" type="slidenum">
              <a:rPr b="0" lang="zh-CN" sz="15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4" descr=""/>
          <p:cNvPicPr/>
          <p:nvPr/>
        </p:nvPicPr>
        <p:blipFill>
          <a:blip r:embed="rId2"/>
          <a:srcRect l="328" t="9738" r="428" b="10202"/>
          <a:stretch/>
        </p:blipFill>
        <p:spPr>
          <a:xfrm>
            <a:off x="-49320" y="-27000"/>
            <a:ext cx="12238200" cy="6977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FE6A-5BC8-4B4A-940F-9C318821737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2540160" y="644040"/>
            <a:ext cx="907416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1041120" y="1495440"/>
            <a:ext cx="1057284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a0e3e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a1bbee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7" descr=""/>
          <p:cNvPicPr/>
          <p:nvPr/>
        </p:nvPicPr>
        <p:blipFill>
          <a:blip r:embed="rId2"/>
          <a:srcRect l="-92" t="11307" r="96" b="13334"/>
          <a:stretch/>
        </p:blipFill>
        <p:spPr>
          <a:xfrm>
            <a:off x="0" y="0"/>
            <a:ext cx="12335040" cy="6865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2277-A420-4079-A25E-47CE3F04CAF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title"/>
          </p:nvPr>
        </p:nvSpPr>
        <p:spPr>
          <a:xfrm>
            <a:off x="1536840" y="4454280"/>
            <a:ext cx="94485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组合 2"/>
          <p:cNvGrpSpPr/>
          <p:nvPr/>
        </p:nvGrpSpPr>
        <p:grpSpPr>
          <a:xfrm>
            <a:off x="4900680" y="1279440"/>
            <a:ext cx="874800" cy="806400"/>
            <a:chOff x="4900680" y="1279440"/>
            <a:chExt cx="874800" cy="806400"/>
          </a:xfrm>
        </p:grpSpPr>
        <p:sp>
          <p:nvSpPr>
            <p:cNvPr id="166" name="Freeform 40"/>
            <p:cNvSpPr/>
            <p:nvPr/>
          </p:nvSpPr>
          <p:spPr>
            <a:xfrm>
              <a:off x="5621760" y="1400040"/>
              <a:ext cx="153720" cy="68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1"/>
            <p:cNvSpPr/>
            <p:nvPr/>
          </p:nvSpPr>
          <p:spPr>
            <a:xfrm>
              <a:off x="4900680" y="1400040"/>
              <a:ext cx="145800" cy="68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2"/>
            <p:cNvSpPr/>
            <p:nvPr/>
          </p:nvSpPr>
          <p:spPr>
            <a:xfrm>
              <a:off x="5114880" y="1279440"/>
              <a:ext cx="447840" cy="806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6"/>
          <p:cNvGrpSpPr/>
          <p:nvPr/>
        </p:nvGrpSpPr>
        <p:grpSpPr>
          <a:xfrm>
            <a:off x="8827920" y="1311120"/>
            <a:ext cx="671760" cy="768600"/>
            <a:chOff x="8827920" y="1311120"/>
            <a:chExt cx="671760" cy="768600"/>
          </a:xfrm>
        </p:grpSpPr>
        <p:sp>
          <p:nvSpPr>
            <p:cNvPr id="170" name="Freeform 43"/>
            <p:cNvSpPr/>
            <p:nvPr/>
          </p:nvSpPr>
          <p:spPr>
            <a:xfrm>
              <a:off x="8853120" y="1311120"/>
              <a:ext cx="263520" cy="614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4"/>
            <p:cNvSpPr/>
            <p:nvPr/>
          </p:nvSpPr>
          <p:spPr>
            <a:xfrm>
              <a:off x="9142200" y="1395000"/>
              <a:ext cx="324000" cy="53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5"/>
            <p:cNvSpPr/>
            <p:nvPr/>
          </p:nvSpPr>
          <p:spPr>
            <a:xfrm>
              <a:off x="8827920" y="1984680"/>
              <a:ext cx="671760" cy="95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Freeform 46"/>
          <p:cNvSpPr/>
          <p:nvPr/>
        </p:nvSpPr>
        <p:spPr>
          <a:xfrm>
            <a:off x="5060880" y="2879640"/>
            <a:ext cx="274680" cy="2764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7"/>
          <p:cNvSpPr/>
          <p:nvPr/>
        </p:nvSpPr>
        <p:spPr>
          <a:xfrm>
            <a:off x="4900680" y="2568600"/>
            <a:ext cx="874800" cy="7462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8"/>
          <p:cNvSpPr/>
          <p:nvPr/>
        </p:nvSpPr>
        <p:spPr>
          <a:xfrm>
            <a:off x="9861480" y="3683160"/>
            <a:ext cx="501840" cy="6919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49"/>
          <p:cNvSpPr/>
          <p:nvPr/>
        </p:nvSpPr>
        <p:spPr>
          <a:xfrm>
            <a:off x="7569360" y="4299120"/>
            <a:ext cx="790560" cy="1047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0"/>
          <p:cNvSpPr/>
          <p:nvPr/>
        </p:nvSpPr>
        <p:spPr>
          <a:xfrm>
            <a:off x="7669080" y="3860640"/>
            <a:ext cx="592200" cy="3873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86"/>
          <p:cNvSpPr/>
          <p:nvPr/>
        </p:nvSpPr>
        <p:spPr>
          <a:xfrm>
            <a:off x="6172200" y="4838760"/>
            <a:ext cx="979560" cy="7459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7"/>
          <p:cNvSpPr/>
          <p:nvPr/>
        </p:nvSpPr>
        <p:spPr>
          <a:xfrm>
            <a:off x="6364440" y="1413000"/>
            <a:ext cx="782640" cy="6728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88"/>
          <p:cNvSpPr/>
          <p:nvPr/>
        </p:nvSpPr>
        <p:spPr>
          <a:xfrm>
            <a:off x="5983200" y="1409760"/>
            <a:ext cx="576360" cy="6760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89"/>
          <p:cNvSpPr/>
          <p:nvPr/>
        </p:nvSpPr>
        <p:spPr>
          <a:xfrm>
            <a:off x="6122880" y="3933720"/>
            <a:ext cx="470160" cy="460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90"/>
          <p:cNvSpPr/>
          <p:nvPr/>
        </p:nvSpPr>
        <p:spPr>
          <a:xfrm>
            <a:off x="6553080" y="3711600"/>
            <a:ext cx="565200" cy="6825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任意多边形 20"/>
          <p:cNvSpPr/>
          <p:nvPr/>
        </p:nvSpPr>
        <p:spPr>
          <a:xfrm>
            <a:off x="9923400" y="2387520"/>
            <a:ext cx="397080" cy="911160"/>
          </a:xfrm>
          <a:prstGeom prst="pi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21"/>
          <p:cNvSpPr/>
          <p:nvPr/>
        </p:nvSpPr>
        <p:spPr>
          <a:xfrm>
            <a:off x="4919760" y="3792600"/>
            <a:ext cx="903240" cy="806400"/>
          </a:xfrm>
          <a:prstGeom prst="pi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22"/>
          <p:cNvSpPr/>
          <p:nvPr/>
        </p:nvSpPr>
        <p:spPr>
          <a:xfrm>
            <a:off x="7445520" y="4924440"/>
            <a:ext cx="1019160" cy="6732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23"/>
          <p:cNvGrpSpPr/>
          <p:nvPr/>
        </p:nvGrpSpPr>
        <p:grpSpPr>
          <a:xfrm>
            <a:off x="7569360" y="1292400"/>
            <a:ext cx="795240" cy="796680"/>
            <a:chOff x="7569360" y="1292400"/>
            <a:chExt cx="795240" cy="796680"/>
          </a:xfrm>
        </p:grpSpPr>
        <p:sp>
          <p:nvSpPr>
            <p:cNvPr id="187" name="Freeform 85"/>
            <p:cNvSpPr/>
            <p:nvPr/>
          </p:nvSpPr>
          <p:spPr>
            <a:xfrm>
              <a:off x="7845480" y="1513080"/>
              <a:ext cx="241200" cy="360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13"/>
            <p:cNvSpPr/>
            <p:nvPr/>
          </p:nvSpPr>
          <p:spPr>
            <a:xfrm>
              <a:off x="7569360" y="1292400"/>
              <a:ext cx="795240" cy="796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14"/>
            <p:cNvSpPr/>
            <p:nvPr/>
          </p:nvSpPr>
          <p:spPr>
            <a:xfrm>
              <a:off x="8209080" y="1649520"/>
              <a:ext cx="11268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5"/>
            <p:cNvSpPr/>
            <p:nvPr/>
          </p:nvSpPr>
          <p:spPr>
            <a:xfrm>
              <a:off x="7610400" y="1649520"/>
              <a:ext cx="11088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6"/>
            <p:cNvSpPr/>
            <p:nvPr/>
          </p:nvSpPr>
          <p:spPr>
            <a:xfrm>
              <a:off x="7953480" y="1332000"/>
              <a:ext cx="50760" cy="112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7"/>
            <p:cNvSpPr/>
            <p:nvPr/>
          </p:nvSpPr>
          <p:spPr>
            <a:xfrm>
              <a:off x="7953480" y="1941480"/>
              <a:ext cx="50760" cy="109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118"/>
          <p:cNvSpPr/>
          <p:nvPr/>
        </p:nvSpPr>
        <p:spPr>
          <a:xfrm>
            <a:off x="10121760" y="1641600"/>
            <a:ext cx="27000" cy="3697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19"/>
          <p:cNvSpPr/>
          <p:nvPr/>
        </p:nvSpPr>
        <p:spPr>
          <a:xfrm>
            <a:off x="9988560" y="2003400"/>
            <a:ext cx="289080" cy="84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20"/>
          <p:cNvSpPr/>
          <p:nvPr/>
        </p:nvSpPr>
        <p:spPr>
          <a:xfrm>
            <a:off x="10175760" y="1212840"/>
            <a:ext cx="228600" cy="2271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21"/>
          <p:cNvSpPr/>
          <p:nvPr/>
        </p:nvSpPr>
        <p:spPr>
          <a:xfrm>
            <a:off x="9983880" y="1374840"/>
            <a:ext cx="303120" cy="4222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23"/>
          <p:cNvSpPr/>
          <p:nvPr/>
        </p:nvSpPr>
        <p:spPr>
          <a:xfrm>
            <a:off x="9915480" y="1197000"/>
            <a:ext cx="179280" cy="1443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29"/>
          <p:cNvSpPr/>
          <p:nvPr/>
        </p:nvSpPr>
        <p:spPr>
          <a:xfrm>
            <a:off x="6564240" y="4991040"/>
            <a:ext cx="34920" cy="38160"/>
          </a:xfrm>
          <a:prstGeom prst="pie">
            <a:avLst/>
          </a:prstGeom>
          <a:solidFill>
            <a:srgbClr val="30b565"/>
          </a:solidFill>
          <a:ln w="0">
            <a:solidFill>
              <a:srgbClr val="30b56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30"/>
          <p:cNvSpPr/>
          <p:nvPr/>
        </p:nvSpPr>
        <p:spPr>
          <a:xfrm>
            <a:off x="6924600" y="4991040"/>
            <a:ext cx="33480" cy="38160"/>
          </a:xfrm>
          <a:prstGeom prst="pie">
            <a:avLst/>
          </a:prstGeom>
          <a:solidFill>
            <a:srgbClr val="30b565"/>
          </a:solidFill>
          <a:ln w="0">
            <a:solidFill>
              <a:srgbClr val="30b56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31"/>
          <p:cNvSpPr/>
          <p:nvPr/>
        </p:nvSpPr>
        <p:spPr>
          <a:xfrm>
            <a:off x="6924600" y="5070600"/>
            <a:ext cx="33480" cy="34920"/>
          </a:xfrm>
          <a:prstGeom prst="pie">
            <a:avLst/>
          </a:prstGeom>
          <a:solidFill>
            <a:srgbClr val="30b565"/>
          </a:solidFill>
          <a:ln w="0">
            <a:solidFill>
              <a:srgbClr val="30b56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32"/>
          <p:cNvSpPr/>
          <p:nvPr/>
        </p:nvSpPr>
        <p:spPr>
          <a:xfrm>
            <a:off x="6719760" y="5070600"/>
            <a:ext cx="33480" cy="34920"/>
          </a:xfrm>
          <a:prstGeom prst="pie">
            <a:avLst/>
          </a:prstGeom>
          <a:solidFill>
            <a:srgbClr val="30b565"/>
          </a:solidFill>
          <a:ln w="0">
            <a:solidFill>
              <a:srgbClr val="30b56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33"/>
          <p:cNvSpPr/>
          <p:nvPr/>
        </p:nvSpPr>
        <p:spPr>
          <a:xfrm>
            <a:off x="6546960" y="5318280"/>
            <a:ext cx="34920" cy="34920"/>
          </a:xfrm>
          <a:prstGeom prst="pie">
            <a:avLst/>
          </a:prstGeom>
          <a:solidFill>
            <a:srgbClr val="30b565"/>
          </a:solidFill>
          <a:ln w="0">
            <a:solidFill>
              <a:srgbClr val="30b56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34"/>
          <p:cNvSpPr/>
          <p:nvPr/>
        </p:nvSpPr>
        <p:spPr>
          <a:xfrm>
            <a:off x="6340320" y="5318280"/>
            <a:ext cx="36720" cy="34920"/>
          </a:xfrm>
          <a:prstGeom prst="pie">
            <a:avLst/>
          </a:prstGeom>
          <a:solidFill>
            <a:srgbClr val="30b565"/>
          </a:solidFill>
          <a:ln w="0">
            <a:solidFill>
              <a:srgbClr val="30b56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35"/>
          <p:cNvSpPr/>
          <p:nvPr/>
        </p:nvSpPr>
        <p:spPr>
          <a:xfrm>
            <a:off x="6340320" y="5394240"/>
            <a:ext cx="36720" cy="38160"/>
          </a:xfrm>
          <a:prstGeom prst="pie">
            <a:avLst/>
          </a:prstGeom>
          <a:solidFill>
            <a:srgbClr val="30b565"/>
          </a:solidFill>
          <a:ln w="0">
            <a:solidFill>
              <a:srgbClr val="30b56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36"/>
          <p:cNvSpPr/>
          <p:nvPr/>
        </p:nvSpPr>
        <p:spPr>
          <a:xfrm>
            <a:off x="6667560" y="5394240"/>
            <a:ext cx="33120" cy="38160"/>
          </a:xfrm>
          <a:prstGeom prst="pie">
            <a:avLst/>
          </a:prstGeom>
          <a:solidFill>
            <a:srgbClr val="30b565"/>
          </a:solidFill>
          <a:ln w="0">
            <a:solidFill>
              <a:srgbClr val="30b56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37"/>
          <p:cNvSpPr/>
          <p:nvPr/>
        </p:nvSpPr>
        <p:spPr>
          <a:xfrm>
            <a:off x="6307200" y="2832120"/>
            <a:ext cx="127080" cy="11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38"/>
          <p:cNvSpPr/>
          <p:nvPr/>
        </p:nvSpPr>
        <p:spPr>
          <a:xfrm>
            <a:off x="6478560" y="2660760"/>
            <a:ext cx="452520" cy="450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39"/>
          <p:cNvSpPr/>
          <p:nvPr/>
        </p:nvSpPr>
        <p:spPr>
          <a:xfrm>
            <a:off x="6649920" y="2489040"/>
            <a:ext cx="111240" cy="1270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40"/>
          <p:cNvSpPr/>
          <p:nvPr/>
        </p:nvSpPr>
        <p:spPr>
          <a:xfrm>
            <a:off x="6392880" y="3041640"/>
            <a:ext cx="154080" cy="155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41"/>
          <p:cNvSpPr/>
          <p:nvPr/>
        </p:nvSpPr>
        <p:spPr>
          <a:xfrm>
            <a:off x="6856560" y="2575080"/>
            <a:ext cx="158760" cy="155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42"/>
          <p:cNvSpPr/>
          <p:nvPr/>
        </p:nvSpPr>
        <p:spPr>
          <a:xfrm>
            <a:off x="6649920" y="3156120"/>
            <a:ext cx="111240" cy="1317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43"/>
          <p:cNvSpPr/>
          <p:nvPr/>
        </p:nvSpPr>
        <p:spPr>
          <a:xfrm>
            <a:off x="6975360" y="2832120"/>
            <a:ext cx="128880" cy="11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4"/>
          <p:cNvSpPr/>
          <p:nvPr/>
        </p:nvSpPr>
        <p:spPr>
          <a:xfrm>
            <a:off x="6861240" y="3041640"/>
            <a:ext cx="150840" cy="1522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45"/>
          <p:cNvSpPr/>
          <p:nvPr/>
        </p:nvSpPr>
        <p:spPr>
          <a:xfrm>
            <a:off x="6392880" y="2575080"/>
            <a:ext cx="158760" cy="156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6"/>
          <p:cNvSpPr/>
          <p:nvPr/>
        </p:nvSpPr>
        <p:spPr>
          <a:xfrm>
            <a:off x="7488360" y="2428920"/>
            <a:ext cx="936360" cy="9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53"/>
          <p:cNvSpPr/>
          <p:nvPr/>
        </p:nvSpPr>
        <p:spPr>
          <a:xfrm>
            <a:off x="8758080" y="2422440"/>
            <a:ext cx="806760" cy="7714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54"/>
          <p:cNvGrpSpPr/>
          <p:nvPr/>
        </p:nvGrpSpPr>
        <p:grpSpPr>
          <a:xfrm>
            <a:off x="8980560" y="3651120"/>
            <a:ext cx="361800" cy="800280"/>
            <a:chOff x="8980560" y="3651120"/>
            <a:chExt cx="361800" cy="800280"/>
          </a:xfrm>
        </p:grpSpPr>
        <p:sp>
          <p:nvSpPr>
            <p:cNvPr id="218" name="Freeform 173"/>
            <p:cNvSpPr/>
            <p:nvPr/>
          </p:nvSpPr>
          <p:spPr>
            <a:xfrm>
              <a:off x="8980560" y="3651120"/>
              <a:ext cx="361800" cy="800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74"/>
            <p:cNvSpPr/>
            <p:nvPr/>
          </p:nvSpPr>
          <p:spPr>
            <a:xfrm>
              <a:off x="9015480" y="3711240"/>
              <a:ext cx="289080" cy="38412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reeform 184"/>
          <p:cNvSpPr/>
          <p:nvPr/>
        </p:nvSpPr>
        <p:spPr>
          <a:xfrm>
            <a:off x="9826560" y="5086440"/>
            <a:ext cx="490680" cy="487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85"/>
          <p:cNvSpPr/>
          <p:nvPr/>
        </p:nvSpPr>
        <p:spPr>
          <a:xfrm>
            <a:off x="9977400" y="4975200"/>
            <a:ext cx="281160" cy="1317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86"/>
          <p:cNvSpPr/>
          <p:nvPr/>
        </p:nvSpPr>
        <p:spPr>
          <a:xfrm>
            <a:off x="10031400" y="4876920"/>
            <a:ext cx="195120" cy="950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87"/>
          <p:cNvSpPr/>
          <p:nvPr/>
        </p:nvSpPr>
        <p:spPr>
          <a:xfrm>
            <a:off x="10071000" y="4794120"/>
            <a:ext cx="117720" cy="698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8"/>
          <p:cNvSpPr/>
          <p:nvPr/>
        </p:nvSpPr>
        <p:spPr>
          <a:xfrm rot="15919200">
            <a:off x="4826880" y="4772520"/>
            <a:ext cx="971640" cy="973080"/>
          </a:xfrm>
          <a:prstGeom prst="pi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257"/>
          <p:cNvSpPr/>
          <p:nvPr/>
        </p:nvSpPr>
        <p:spPr>
          <a:xfrm>
            <a:off x="8877240" y="4737240"/>
            <a:ext cx="598680" cy="1044360"/>
          </a:xfrm>
          <a:prstGeom prst="pi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" y="63151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1720" y="1390680"/>
            <a:ext cx="3992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素材大全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幼圆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幼圆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幼圆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A7A5F-76B2-4BC8-A542-78DF4BE865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4T02:17:00Z</dcterms:created>
  <dc:creator/>
  <dc:description/>
  <cp:keywords>幻灯片之家 http:/www.eeppt.com</cp:keywords>
  <dc:language>en-US</dc:language>
  <cp:lastModifiedBy/>
  <dcterms:modified xsi:type="dcterms:W3CDTF">2015-07-12T08:12:4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