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248C-A03A-4A73-8692-B324AFC9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D1C-6787-4C4D-B75A-358CF9FF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1F5-AACA-4CBF-A8CA-3C485085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FE8-78CC-406A-895E-21C681A7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FCF-4722-47F5-B854-C88DEDCE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707-FDB3-44E3-B6FD-8912CD4E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1AD-0911-4C9A-AFC6-43319D29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98C-B18B-41FA-9088-676235A5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E8B-14E7-438B-AE5D-8BB67354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FC6-EE58-4840-8668-0EBCA263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18E-CF7F-4F49-B699-A336C0EE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65D-89E2-4D21-A2FA-61395B1F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14440" indent="399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371600" indent="-457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28800" indent="-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28800" indent="-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28800" indent="-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5bb9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3708-974C-4009-94FD-9B2A39E52A8F}" type="datetime">
              <a:rPr b="0" lang="en-US" sz="1100" spc="-1" strike="noStrike">
                <a:solidFill>
                  <a:srgbClr val="c5bb9b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5bb9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D18C-DCFD-4C8E-84D6-6AFFD96421CB}" type="slidenum">
              <a:rPr b="1" lang="en-US" sz="1200" spc="-1" strike="noStrike">
                <a:solidFill>
                  <a:srgbClr val="c5bb9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flourish2.png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36360" y="278136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汉仪大宋简"/>
                <a:ea typeface="汉仪大宋简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0" y="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5302080"/>
            <a:ext cx="80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50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86960" y="2349360"/>
            <a:ext cx="26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 花边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9E2-FC59-4BFB-A9ED-BB8A75FCB0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3:58:00Z</dcterms:created>
  <dc:creator/>
  <dc:description/>
  <cp:keywords>幻灯片之家 http:/www.eeppt.com</cp:keywords>
  <dc:language>en-US</dc:language>
  <cp:lastModifiedBy/>
  <dcterms:modified xsi:type="dcterms:W3CDTF">2015-07-10T01:04:04Z</dcterms:modified>
  <cp:revision>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