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6360" y="6191280"/>
            <a:ext cx="9144000" cy="333360"/>
            <a:chOff x="36360" y="6191280"/>
            <a:chExt cx="9144000" cy="333360"/>
          </a:xfrm>
        </p:grpSpPr>
        <p:sp>
          <p:nvSpPr>
            <p:cNvPr id="3" name=""/>
            <p:cNvSpPr/>
            <p:nvPr/>
          </p:nvSpPr>
          <p:spPr>
            <a:xfrm>
              <a:off x="36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3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25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199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890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76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65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52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41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8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3052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940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814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70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857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246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022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102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99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8676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75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964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91788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6340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36360" y="123840"/>
            <a:ext cx="9144000" cy="333360"/>
            <a:chOff x="36360" y="123840"/>
            <a:chExt cx="9144000" cy="333360"/>
          </a:xfrm>
        </p:grpSpPr>
        <p:sp>
          <p:nvSpPr>
            <p:cNvPr id="28" name=""/>
            <p:cNvSpPr/>
            <p:nvPr/>
          </p:nvSpPr>
          <p:spPr>
            <a:xfrm>
              <a:off x="36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3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25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99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5890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976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365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752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141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528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3052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6940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0814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470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857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46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22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4102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99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8676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75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64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1788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340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800" y="6553080"/>
            <a:ext cx="93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0  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1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2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3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4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360" y="6191280"/>
            <a:ext cx="9144000" cy="333360"/>
            <a:chOff x="36360" y="6191280"/>
            <a:chExt cx="9144000" cy="333360"/>
          </a:xfrm>
        </p:grpSpPr>
        <p:sp>
          <p:nvSpPr>
            <p:cNvPr id="91" name=""/>
            <p:cNvSpPr/>
            <p:nvPr/>
          </p:nvSpPr>
          <p:spPr>
            <a:xfrm>
              <a:off x="36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25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99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76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65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52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8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0524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940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814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020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57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672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228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1024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9940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8676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755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6436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7880" y="619128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34080" y="619128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360" y="123840"/>
            <a:ext cx="9144000" cy="333360"/>
            <a:chOff x="36360" y="123840"/>
            <a:chExt cx="9144000" cy="333360"/>
          </a:xfrm>
        </p:grpSpPr>
        <p:sp>
          <p:nvSpPr>
            <p:cNvPr id="116" name=""/>
            <p:cNvSpPr/>
            <p:nvPr/>
          </p:nvSpPr>
          <p:spPr>
            <a:xfrm>
              <a:off x="36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3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25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99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890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6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5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2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41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28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524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940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814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020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7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672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228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1024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9940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8676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755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96436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17880" y="123840"/>
              <a:ext cx="215640" cy="333360"/>
            </a:xfrm>
            <a:custGeom>
              <a:avLst/>
              <a:gdLst>
                <a:gd name="textAreaLeft" fmla="*/ 24480 w 215640"/>
                <a:gd name="textAreaRight" fmla="*/ 191160 w 21564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72">
                  <a:moveTo>
                    <a:pt x="8418" y="0"/>
                  </a:moveTo>
                  <a:arcTo wR="8418" hR="8418" stAng="16200000" swAng="-5400000"/>
                  <a:lnTo>
                    <a:pt x="0" y="24954"/>
                  </a:lnTo>
                  <a:arcTo wR="8418" hR="8418" stAng="10800000" swAng="-5400000"/>
                  <a:lnTo>
                    <a:pt x="13182" y="33372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34080" y="123840"/>
              <a:ext cx="216000" cy="333360"/>
            </a:xfrm>
            <a:custGeom>
              <a:avLst/>
              <a:gdLst>
                <a:gd name="textAreaLeft" fmla="*/ 24480 w 216000"/>
                <a:gd name="textAreaRight" fmla="*/ 191520 w 216000"/>
                <a:gd name="textAreaTop" fmla="*/ 24480 h 333360"/>
                <a:gd name="textAreaBottom" fmla="*/ 308880 h 333360"/>
              </a:gdLst>
              <a:ahLst/>
              <a:rect l="textAreaLeft" t="textAreaTop" r="textAreaRight" b="textAreaBottom"/>
              <a:pathLst>
                <a:path w="21600" h="33316">
                  <a:moveTo>
                    <a:pt x="8418" y="0"/>
                  </a:moveTo>
                  <a:arcTo wR="8418" hR="8418" stAng="16200000" swAng="-5400000"/>
                  <a:lnTo>
                    <a:pt x="0" y="24898"/>
                  </a:lnTo>
                  <a:arcTo wR="8418" hR="8418" stAng="10800000" swAng="-5400000"/>
                  <a:lnTo>
                    <a:pt x="13182" y="33316"/>
                  </a:lnTo>
                  <a:arcTo wR="8418" hR="8418" stAng="5400000" swAng="-5400000"/>
                  <a:lnTo>
                    <a:pt x="21600" y="8418"/>
                  </a:lnTo>
                  <a:arcTo wR="8418" hR="8418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800" y="6553080"/>
            <a:ext cx="93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0  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1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2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3     &gt;&gt; 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4   &gt;&gt;</a:t>
            </a:r>
            <a:r>
              <a:rPr b="0" lang="en-GB" sz="18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Filmstri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72240" y="787320"/>
            <a:ext cx="24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素材 黑白胶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5480" y="53118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92200" y="2198520"/>
            <a:ext cx="713268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6969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0323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62760" y="1628640"/>
            <a:ext cx="2093760" cy="35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6969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0c0c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994280" y="2111400"/>
          <a:ext cx="3630600" cy="18730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403280" y="4437000"/>
            <a:ext cx="2232000" cy="1368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44880" y="4437000"/>
            <a:ext cx="2232000" cy="1368360"/>
          </a:xfrm>
          <a:prstGeom prst="rec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33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2421000"/>
            <a:ext cx="57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4:19:59Z</dcterms:created>
  <dc:creator/>
  <dc:description/>
  <cp:keywords>幻灯片之家 http:/www.eeppt.com</cp:keywords>
  <dc:language>en-US</dc:language>
  <cp:lastModifiedBy/>
  <dcterms:modified xsi:type="dcterms:W3CDTF">2015-07-10T01:01:1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