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F4C8-1B9E-40FA-8559-07EEBF3A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CF5-42D2-4C61-971D-EAA300E3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D0A0-2213-4474-9516-BD9A5021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C246-F984-42F6-9433-AC7559DFB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772-0DC1-40B3-BC5A-CDB5BFCB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4AF4-8152-492D-BEAA-77052876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A15B-BBB7-416E-89DC-08C6FE76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4B59-8968-432A-B4A4-A25E6BBB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C413-6DAD-4109-B055-ED11D01D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04DD-E3B8-4539-B686-CAACD831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32FE-81C8-4CB2-9F0E-20339EA4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518D-9BA8-42A2-82E4-64350F00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9EC8-A114-4EB3-B133-6B96951724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357720" y="521496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364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89920" y="263700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合集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8848-C201-4A72-B529-606453CD93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/>
  <dc:description/>
  <cp:keywords>幻灯片之家 http:/www.eeppt.com</cp:keywords>
  <dc:language>en-US</dc:language>
  <cp:lastModifiedBy/>
  <dcterms:modified xsi:type="dcterms:W3CDTF">2015-07-10T01:46:40Z</dcterms:modified>
  <cp:revision>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